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Ernesto%20Cortazar-%20Remembranc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2CD-B77E-4305-BE57-927CE6B0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E04-E74C-4D54-89A0-19C4F567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DF2-2AA0-4EC5-B433-64022D28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C39-5356-48F4-BEB9-2171171F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4F4-723D-4A43-89B0-4AAE1AEA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2B38-7A0C-4360-AC1D-082C4A91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B698-633F-4CBA-888C-5A671804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262-1AA2-4C31-BA07-25E1C1DC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C92-E625-4E6B-82B1-45953181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FE37-1507-42A2-98AC-B7D96354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A92-B4F0-44B5-82A8-9EE7E214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BB1-6F01-44D1-8F96-BADFB0A0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735F-BD94-44E4-81F3-C4136436E4B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Ernesto%20Cortazar-%20Remembranc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396360" y="400536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Af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285840" y="1539720"/>
            <a:ext cx="8429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ffffff"/>
                </a:solidFill>
                <a:latin typeface="Georgia"/>
              </a:rPr>
              <a:t>POR QUÉ NO SOY FELI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143000" y="59292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600" spc="-1" strike="noStrike">
                <a:solidFill>
                  <a:srgbClr val="ffffff"/>
                </a:solidFill>
                <a:latin typeface="Georgia"/>
              </a:rPr>
              <a:t>Haz  siempre </a:t>
            </a:r>
            <a:r>
              <a:rPr b="1" i="1" lang="es-DO" sz="1600" spc="-1" strike="noStrike">
                <a:solidFill>
                  <a:srgbClr val="ffffff"/>
                </a:solidFill>
                <a:latin typeface="Georgia"/>
              </a:rPr>
              <a:t>CLICK</a:t>
            </a:r>
            <a:r>
              <a:rPr b="1" lang="es-DO" sz="1600" spc="-1" strike="noStrike">
                <a:solidFill>
                  <a:srgbClr val="ffffff"/>
                </a:solidFill>
                <a:latin typeface="Georgia"/>
              </a:rPr>
              <a:t>  o  presione la barra de  </a:t>
            </a:r>
            <a:r>
              <a:rPr b="1" i="1" lang="es-DO" sz="1600" spc="-1" strike="noStrike">
                <a:solidFill>
                  <a:srgbClr val="ffffff"/>
                </a:solidFill>
                <a:latin typeface="Georgia"/>
              </a:rPr>
              <a:t>ESPACIO </a:t>
            </a:r>
            <a:r>
              <a:rPr b="1" lang="es-DO" sz="1600" spc="-1" strike="noStrike">
                <a:solidFill>
                  <a:srgbClr val="ffffff"/>
                </a:solidFill>
                <a:latin typeface="Georgia"/>
              </a:rPr>
              <a:t> para continuar </a:t>
            </a:r>
            <a:r>
              <a:rPr b="1" lang="es-DO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CuadroTexto"/>
          <p:cNvSpPr/>
          <p:nvPr/>
        </p:nvSpPr>
        <p:spPr>
          <a:xfrm>
            <a:off x="2615760" y="507204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eorgia"/>
              </a:rPr>
              <a:t>Música: Ernesto Cortazar </a:t>
            </a:r>
            <a:r>
              <a:rPr b="1" i="1" lang="es-ES" sz="1800" spc="-1" strike="noStrike">
                <a:solidFill>
                  <a:srgbClr val="ffffff"/>
                </a:solidFill>
                <a:latin typeface="Georgia"/>
              </a:rPr>
              <a:t>“Remembran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3" name="Ernesto%20Cortazar-%20Remembran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755640" y="476280"/>
            <a:ext cx="76201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Es feliz quien se acerca a las personas sin sospecha pero con prudencia y se aleja de quienes le hacen daño, sin maltratar pero con intelige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La felicidad la encuentra quien aprende a usar las cosas y no a las personas, quien no abusa ni permite el abu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763640" y="2060640"/>
            <a:ext cx="73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No es feliz quien nunca recibe heridas sino quien sabe cómo evitarlas y, cuándo es imposible, sabe cómo curarlas</a:t>
            </a:r>
            <a:r>
              <a:rPr b="1" lang="es-ES" sz="32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642960" y="1000080"/>
            <a:ext cx="8143920" cy="44830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eorgia"/>
              </a:rPr>
              <a:t>No es feliz quien nunca tiene problemas o todo lo tiene resuelt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1" lang="es-ES" sz="3600" spc="-1" strike="noStrike">
                <a:solidFill>
                  <a:srgbClr val="ffffff"/>
                </a:solidFill>
                <a:latin typeface="Georgia"/>
              </a:rPr>
              <a:t>sino quien cuando estos llegan los enfrenta sabiamente y cuando no puede, busca ayuda inmediatam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4554360" y="4059360"/>
            <a:ext cx="26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Georgia"/>
              </a:rPr>
              <a:t>Autor desconocido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7 CuadroTexto"/>
          <p:cNvSpPr/>
          <p:nvPr/>
        </p:nvSpPr>
        <p:spPr>
          <a:xfrm>
            <a:off x="357120" y="1112760"/>
            <a:ext cx="8215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Por nuestro propio bien,  dejemos de buscar la felicidad en las cosas, personas  o circunstancias que nos  rodean y comencemos a cambiar desde nuestro interior,  las actitudes que nos están afectand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900000" y="404640"/>
            <a:ext cx="762012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Mi primera respuesta a tu pregunta es otra pregunt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eorgia"/>
              </a:rPr>
              <a:t>¿Qué crees tú que necesitas para ser feliz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eorgia"/>
              </a:rPr>
              <a:t>¿Qué cosas quisieras tener para experimentar felicidad?,  </a:t>
            </a: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eorgia"/>
              </a:rPr>
              <a:t>¿Que personas necesitas tener a tu lado para sentirte feliz?, </a:t>
            </a: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eorgia"/>
              </a:rPr>
              <a:t>¿Qué circunstancias necesitas que cambien para que seas feli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57120" y="214200"/>
            <a:ext cx="84297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Hay personas que nunca se sienten realizad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Muchas cosas le fastidian y le molest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Ellos van por este hermoso mundo corriendo desesperados como un niño que afanado persigue el arco i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684360" y="500040"/>
            <a:ext cx="7920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A pesar del serio esfuerzo del niño y su intento de acercarse, el arco iris parece burlonamente alejar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Para esas personas, la felicidad siempre se haya más allá de donde ellos se encuentr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785880" y="1539720"/>
            <a:ext cx="76197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Un joven me decía: </a:t>
            </a:r>
            <a:r>
              <a:rPr b="1" i="1" lang="es-ES" sz="3200" spc="-1" strike="noStrike">
                <a:solidFill>
                  <a:srgbClr val="ffffff"/>
                </a:solidFill>
                <a:latin typeface="Georgia"/>
              </a:rPr>
              <a:t>“Me casaré cuando encuentre la persona que traiga satisfacción a mi vida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Con esa filosofía de vida algunos piensa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eorgia"/>
              </a:rPr>
              <a:t>cuando encuentre a mi cónyuge, entonces seré fel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57120" y="1674720"/>
            <a:ext cx="83916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Otros que ya lo han encontrado y ya se han decepcionado, piensa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Georgia"/>
              </a:rPr>
              <a:t>"cuando me separe, entonces  seré  feliz"</a:t>
            </a: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Algunos piensan: “</a:t>
            </a:r>
            <a:r>
              <a:rPr b="1" i="1" lang="es-ES" sz="3200" spc="-1" strike="noStrike">
                <a:solidFill>
                  <a:srgbClr val="ffffff"/>
                </a:solidFill>
                <a:latin typeface="Georgia"/>
              </a:rPr>
              <a:t>cuando tenga hijos seré feliz y otros, cuando se marchen, entonces comenzará mi felicidad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14200" y="1268280"/>
            <a:ext cx="86439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La vida no funciona as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Podrás tener riquezas y ser infeliz, estar rodeado de las personas más amorosas y vivir las circunstancias ideal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pero eso no quitará de ti todos tus mal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433440" y="33336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Es que la felicidad no se descubre al encontrar a la persona apropia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sino en ser la persona adecu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La felicidad no está en encontrar a quien te haga feliz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sino en aprender a traer felicidad a los que te rodean</a:t>
            </a:r>
            <a:r>
              <a:rPr b="1" lang="es-ES" sz="32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8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8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900000" y="357120"/>
            <a:ext cx="7620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La felicidad la encuentra la persona que aprende a vivir sab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Establece relaciones saludables, pone límites, acepta lo bueno y rechaza lo cuestion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00:13:08Z</dcterms:created>
  <dc:creator>Peter Schmidt</dc:creator>
  <dc:description/>
  <dc:language>en-US</dc:language>
  <cp:lastModifiedBy>Peter Schmidt</cp:lastModifiedBy>
  <dcterms:modified xsi:type="dcterms:W3CDTF">2008-06-21T00:55:16Z</dcterms:modified>
  <cp:revision>5</cp:revision>
  <dc:subject/>
  <dc:title>Diapositiva 1</dc:title>
</cp:coreProperties>
</file>