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.jpeg" ContentType="image/jpeg"/>
  <Override PartName="/ppt/media/Ernesto%20Cortazar-%20Remembrance.wav" ContentType="audio/x-wav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ACF5-2341-44D8-B247-4BF312361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4254-9B35-4A4A-97F1-B96A8F87C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7150-0CBD-4E09-832F-C18723483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1011-6EB0-4FA8-AE37-7660BEF66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2B64-D28A-467D-9B16-5C5E20B4C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BE7F-4B5B-49B6-B866-9668FCAF0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D2BB-BEA7-4903-A1E6-4DEBD582A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C5A8-D045-426C-BEE7-648B6C4F1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C5C1-7E7B-4CEC-ABE7-0970536C5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E55E-8D31-48FE-84F8-C5B0F1F19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8C54-176A-47C3-8073-7B864ABE5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552C-6F58-4391-B97C-C2761A233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8E434-010E-419C-867A-B2F2E3AF84CA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audio" Target="../media/Ernesto%20Cortazar-%20Remembrance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9"/>
          <p:cNvSpPr/>
          <p:nvPr/>
        </p:nvSpPr>
        <p:spPr>
          <a:xfrm>
            <a:off x="396360" y="4005360"/>
            <a:ext cx="79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Times New Roman"/>
              </a:rPr>
              <a:t>Af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0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Text Box 11"/>
          <p:cNvSpPr/>
          <p:nvPr/>
        </p:nvSpPr>
        <p:spPr>
          <a:xfrm>
            <a:off x="285840" y="1539720"/>
            <a:ext cx="842940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4800" spc="-1" strike="noStrike">
                <a:solidFill>
                  <a:srgbClr val="ffffff"/>
                </a:solidFill>
                <a:latin typeface="Georgia"/>
              </a:rPr>
              <a:t>POR QUÉ NO SOY FELIZ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9"/>
          <p:cNvSpPr/>
          <p:nvPr/>
        </p:nvSpPr>
        <p:spPr>
          <a:xfrm>
            <a:off x="1143000" y="5929200"/>
            <a:ext cx="800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DO" sz="1600" spc="-1" strike="noStrike">
                <a:solidFill>
                  <a:srgbClr val="ffffff"/>
                </a:solidFill>
                <a:latin typeface="Georgia"/>
              </a:rPr>
              <a:t>Haz  siempre </a:t>
            </a:r>
            <a:r>
              <a:rPr b="1" i="1" lang="es-DO" sz="1600" spc="-1" strike="noStrike">
                <a:solidFill>
                  <a:srgbClr val="ffffff"/>
                </a:solidFill>
                <a:latin typeface="Georgia"/>
              </a:rPr>
              <a:t>CLICK</a:t>
            </a:r>
            <a:r>
              <a:rPr b="1" lang="es-DO" sz="1600" spc="-1" strike="noStrike">
                <a:solidFill>
                  <a:srgbClr val="ffffff"/>
                </a:solidFill>
                <a:latin typeface="Georgia"/>
              </a:rPr>
              <a:t>  o  presione la barra de  </a:t>
            </a:r>
            <a:r>
              <a:rPr b="1" i="1" lang="es-DO" sz="1600" spc="-1" strike="noStrike">
                <a:solidFill>
                  <a:srgbClr val="ffffff"/>
                </a:solidFill>
                <a:latin typeface="Georgia"/>
              </a:rPr>
              <a:t>ESPACIO </a:t>
            </a:r>
            <a:r>
              <a:rPr b="1" lang="es-DO" sz="1600" spc="-1" strike="noStrike">
                <a:solidFill>
                  <a:srgbClr val="ffffff"/>
                </a:solidFill>
                <a:latin typeface="Georgia"/>
              </a:rPr>
              <a:t> para continuar </a:t>
            </a:r>
            <a:r>
              <a:rPr b="1" lang="es-DO" sz="1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8 CuadroTexto"/>
          <p:cNvSpPr/>
          <p:nvPr/>
        </p:nvSpPr>
        <p:spPr>
          <a:xfrm>
            <a:off x="2615760" y="5072040"/>
            <a:ext cx="50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Georgia"/>
              </a:rPr>
              <a:t>Música: Ernesto Cortazar </a:t>
            </a:r>
            <a:r>
              <a:rPr b="1" i="1" lang="es-ES" sz="1800" spc="-1" strike="noStrike">
                <a:solidFill>
                  <a:srgbClr val="ffffff"/>
                </a:solidFill>
                <a:latin typeface="Georgia"/>
              </a:rPr>
              <a:t>“Remembranc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  <p:sndAc>
      <p:stSnd>
        <p:snd r:embed="rId3" name="Ernesto%20Cortazar-%20Remembranc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3"/>
          <p:cNvSpPr/>
          <p:nvPr/>
        </p:nvSpPr>
        <p:spPr>
          <a:xfrm>
            <a:off x="755640" y="476280"/>
            <a:ext cx="7620120" cy="47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Georgia"/>
              </a:rPr>
              <a:t>Es feliz quien se acerca a las personas sin sospecha pero con prudencia y se aleja de quienes le hacen daño, sin maltratar pero con inteligenci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Georgia"/>
              </a:rPr>
              <a:t>La felicidad la encuentra quien aprende a usar las cosas y no a las personas, quien no abusa ni permite el abus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000"/>
                            </p:stCondLst>
                            <p:childTnLst>
                              <p:par>
                                <p:cTn id="202" nodeType="afterEffect" fill="hold" presetClass="entr" presetID="55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3"/>
          <p:cNvSpPr/>
          <p:nvPr/>
        </p:nvSpPr>
        <p:spPr>
          <a:xfrm>
            <a:off x="1763640" y="2060640"/>
            <a:ext cx="7380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Georgia"/>
              </a:rPr>
              <a:t>No es feliz quien nunca recibe heridas sino quien sabe cómo evitarlas y, cuándo es imposible, sabe cómo curarlas</a:t>
            </a:r>
            <a:r>
              <a:rPr b="1" lang="es-ES" sz="3200" spc="-1" strike="noStrike">
                <a:solidFill>
                  <a:srgbClr val="ffffff"/>
                </a:solidFill>
                <a:latin typeface="Arial Black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3"/>
          <p:cNvSpPr/>
          <p:nvPr/>
        </p:nvSpPr>
        <p:spPr>
          <a:xfrm>
            <a:off x="642960" y="1000080"/>
            <a:ext cx="8143920" cy="4483080"/>
          </a:xfrm>
          <a:prstGeom prst="rect">
            <a:avLst/>
          </a:prstGeom>
          <a:solidFill>
            <a:srgbClr val="96969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eorgia"/>
              </a:rPr>
              <a:t>No es feliz quien nunca tiene problemas o todo lo tiene resuelto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eorgia"/>
              </a:rPr>
              <a:t>…</a:t>
            </a:r>
            <a:r>
              <a:rPr b="1" lang="es-ES" sz="3600" spc="-1" strike="noStrike">
                <a:solidFill>
                  <a:srgbClr val="ffffff"/>
                </a:solidFill>
                <a:latin typeface="Georgia"/>
              </a:rPr>
              <a:t>sino quien cuando estos llegan los enfrenta sabiamente y cuando no puede, busca ayuda inmediatament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2500"/>
                            </p:stCondLst>
                            <p:childTnLst>
                              <p:par>
                                <p:cTn id="231" nodeType="afterEffect" fill="hold" presetClass="entr" presetID="55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3"/>
          <p:cNvSpPr/>
          <p:nvPr/>
        </p:nvSpPr>
        <p:spPr>
          <a:xfrm>
            <a:off x="4554360" y="4059360"/>
            <a:ext cx="266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ff"/>
                </a:solidFill>
                <a:latin typeface="Georgia"/>
              </a:rPr>
              <a:t>Autor desconocido</a:t>
            </a:r>
            <a:r>
              <a:rPr b="1" lang="en-GB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7 CuadroTexto"/>
          <p:cNvSpPr/>
          <p:nvPr/>
        </p:nvSpPr>
        <p:spPr>
          <a:xfrm>
            <a:off x="357120" y="1112760"/>
            <a:ext cx="82155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Georgia"/>
              </a:rPr>
              <a:t>Por nuestro propio bien,  dejemos de buscar la felicidad en las cosas, personas  o circunstancias que nos  rodean y comencemos a cambiar desde nuestro interior,  las actitudes que nos están afectando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5000">
    <p:fade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2000"/>
                            </p:stCondLst>
                            <p:childTnLst>
                              <p:par>
                                <p:cTn id="246" nodeType="afterEffect" fill="hold" presetClass="entr" presetID="10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Text Box 5"/>
          <p:cNvSpPr/>
          <p:nvPr/>
        </p:nvSpPr>
        <p:spPr>
          <a:xfrm>
            <a:off x="900000" y="404640"/>
            <a:ext cx="7620120" cy="59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Georgia"/>
              </a:rPr>
              <a:t>Mi primera respuesta a tu pregunta es otra pregunta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Georgia"/>
              </a:rPr>
              <a:t>¿Qué crees tú que necesitas para ser feliz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Georgia"/>
              </a:rPr>
              <a:t>¿Qué cosas quisieras tener para experimentar felicidad?,  </a:t>
            </a:r>
            <a:r>
              <a:rPr b="1" lang="es-ES" sz="3200" spc="-1" strike="noStrike">
                <a:solidFill>
                  <a:srgbClr val="ffffff"/>
                </a:solidFill>
                <a:latin typeface="Georgia"/>
              </a:rPr>
              <a:t>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Georgia"/>
              </a:rPr>
              <a:t>¿Que personas necesitas tener a tu lado para sentirte feliz?, </a:t>
            </a:r>
            <a:r>
              <a:rPr b="1" lang="es-ES" sz="3200" spc="-1" strike="noStrike">
                <a:solidFill>
                  <a:srgbClr val="ffffff"/>
                </a:solidFill>
                <a:latin typeface="Georgia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Georgia"/>
              </a:rPr>
              <a:t>¿Qué circunstancias necesitas que cambien para que seas feliz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4500"/>
                            </p:stCondLst>
                            <p:childTnLst>
                              <p:par>
                                <p:cTn id="34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7500"/>
                            </p:stCondLst>
                            <p:childTnLst>
                              <p:par>
                                <p:cTn id="40" nodeType="afterEffect" fill="hold" presetClass="entr" presetID="5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1000"/>
                            </p:stCondLst>
                            <p:childTnLst>
                              <p:par>
                                <p:cTn id="46" nodeType="afterEffect" fill="hold" presetClass="entr" presetID="5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"/>
          <p:cNvSpPr/>
          <p:nvPr/>
        </p:nvSpPr>
        <p:spPr>
          <a:xfrm>
            <a:off x="357120" y="214200"/>
            <a:ext cx="842976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Georgia"/>
              </a:rPr>
              <a:t>Hay personas que nunca se sienten realizada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Georgia"/>
              </a:rPr>
              <a:t>Muchas cosas le fastidian y le molesta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Georgia"/>
              </a:rPr>
              <a:t>Ellos van por este hermoso mundo corriendo desesperados como un niño que afanado persigue el arco ir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4500"/>
                            </p:stCondLst>
                            <p:childTnLst>
                              <p:par>
                                <p:cTn id="67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5"/>
          <p:cNvSpPr/>
          <p:nvPr/>
        </p:nvSpPr>
        <p:spPr>
          <a:xfrm>
            <a:off x="684360" y="500040"/>
            <a:ext cx="792000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Georgia"/>
              </a:rPr>
              <a:t>A pesar del serio esfuerzo del niño y su intento de acercarse, el arco iris parece burlonamente alejars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Georgia"/>
              </a:rPr>
              <a:t>Para esas personas, la felicidad siempre se haya más allá de donde ellos se encuentra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000"/>
                            </p:stCondLst>
                            <p:childTnLst>
                              <p:par>
                                <p:cTn id="82" nodeType="afterEffect" fill="hold" presetClass="entr" presetID="55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3"/>
          <p:cNvSpPr/>
          <p:nvPr/>
        </p:nvSpPr>
        <p:spPr>
          <a:xfrm>
            <a:off x="785880" y="1539720"/>
            <a:ext cx="7619760" cy="40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Georgia"/>
              </a:rPr>
              <a:t>Un joven me decía: </a:t>
            </a:r>
            <a:r>
              <a:rPr b="1" i="1" lang="es-ES" sz="3200" spc="-1" strike="noStrike">
                <a:solidFill>
                  <a:srgbClr val="ffffff"/>
                </a:solidFill>
                <a:latin typeface="Georgia"/>
              </a:rPr>
              <a:t>“Me casaré cuando encuentre la persona que traiga satisfacción a mi vida”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Georgia"/>
              </a:rPr>
              <a:t>Con esa filosofía de vida algunos piensa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Georgia"/>
              </a:rPr>
              <a:t>cuando encuentre a mi cónyuge, entonces seré feliz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000"/>
                            </p:stCondLst>
                            <p:childTnLst>
                              <p:par>
                                <p:cTn id="97" nodeType="afterEffect" fill="hold" presetClass="entr" presetID="5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6000"/>
                            </p:stCondLst>
                            <p:childTnLst>
                              <p:par>
                                <p:cTn id="103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"/>
          <p:cNvSpPr/>
          <p:nvPr/>
        </p:nvSpPr>
        <p:spPr>
          <a:xfrm>
            <a:off x="357120" y="1674720"/>
            <a:ext cx="8391600" cy="40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Georgia"/>
              </a:rPr>
              <a:t>Otros que ya lo han encontrado y ya se han decepcionado, piensa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Georgia"/>
              </a:rPr>
              <a:t>"cuando me separe, entonces  seré  feliz"</a:t>
            </a:r>
            <a:r>
              <a:rPr b="1" lang="es-ES" sz="3200" spc="-1" strike="noStrike">
                <a:solidFill>
                  <a:srgbClr val="ffffff"/>
                </a:solidFill>
                <a:latin typeface="Georgia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Georgia"/>
              </a:rPr>
              <a:t>Algunos piensan: “</a:t>
            </a:r>
            <a:r>
              <a:rPr b="1" i="1" lang="es-ES" sz="3200" spc="-1" strike="noStrike">
                <a:solidFill>
                  <a:srgbClr val="ffffff"/>
                </a:solidFill>
                <a:latin typeface="Georgia"/>
              </a:rPr>
              <a:t>cuando tenga hijos seré feliz y otros, cuando se marchen, entonces comenzará mi felicidad”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5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500"/>
                            </p:stCondLst>
                            <p:childTnLst>
                              <p:par>
                                <p:cTn id="124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3"/>
          <p:cNvSpPr/>
          <p:nvPr/>
        </p:nvSpPr>
        <p:spPr>
          <a:xfrm>
            <a:off x="214200" y="1268280"/>
            <a:ext cx="8643960" cy="40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Georgia"/>
              </a:rPr>
              <a:t>La vida no funciona así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Georgia"/>
              </a:rPr>
              <a:t>Podrás tener riquezas y ser infeliz, estar rodeado de las personas más amorosas y vivir las circunstancias ideal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Georgia"/>
              </a:rPr>
              <a:t>…</a:t>
            </a:r>
            <a:r>
              <a:rPr b="1" lang="es-ES" sz="3200" spc="-1" strike="noStrike">
                <a:solidFill>
                  <a:srgbClr val="ffffff"/>
                </a:solidFill>
                <a:latin typeface="Georgia"/>
              </a:rPr>
              <a:t>pero eso no quitará de ti todos tus males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4500"/>
                            </p:stCondLst>
                            <p:childTnLst>
                              <p:par>
                                <p:cTn id="145" nodeType="afterEffect" fill="hold" presetClass="entr" presetID="55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3"/>
          <p:cNvSpPr/>
          <p:nvPr/>
        </p:nvSpPr>
        <p:spPr>
          <a:xfrm>
            <a:off x="433440" y="333360"/>
            <a:ext cx="842472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Georgia"/>
              </a:rPr>
              <a:t>Es que la felicidad no se descubre al encontrar a la persona apropiada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Georgia"/>
              </a:rPr>
              <a:t>…</a:t>
            </a:r>
            <a:r>
              <a:rPr b="1" lang="es-ES" sz="3200" spc="-1" strike="noStrike">
                <a:solidFill>
                  <a:srgbClr val="ffffff"/>
                </a:solidFill>
                <a:latin typeface="Georgia"/>
              </a:rPr>
              <a:t>sino en ser la persona adecuad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Georgia"/>
              </a:rPr>
              <a:t>La felicidad no está en encontrar a quien te haga feliz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Georgia"/>
              </a:rPr>
              <a:t>…</a:t>
            </a:r>
            <a:r>
              <a:rPr b="1" lang="es-ES" sz="3200" spc="-1" strike="noStrike">
                <a:solidFill>
                  <a:srgbClr val="ffffff"/>
                </a:solidFill>
                <a:latin typeface="Georgia"/>
              </a:rPr>
              <a:t>sino en aprender a traer felicidad a los que te rodean</a:t>
            </a:r>
            <a:r>
              <a:rPr b="1" lang="es-ES" sz="3200" spc="-1" strike="noStrike">
                <a:solidFill>
                  <a:srgbClr val="ffffff"/>
                </a:solidFill>
                <a:latin typeface="Arial Black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" nodeType="afterEffect" fill="hold" presetClass="entr" presetID="55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800"/>
                            </p:stCondLst>
                            <p:childTnLst>
                              <p:par>
                                <p:cTn id="166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8800"/>
                            </p:stCondLst>
                            <p:childTnLst>
                              <p:par>
                                <p:cTn id="172" nodeType="afterEffect" fill="hold" presetClass="entr" presetID="55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3"/>
          <p:cNvSpPr/>
          <p:nvPr/>
        </p:nvSpPr>
        <p:spPr>
          <a:xfrm>
            <a:off x="900000" y="357120"/>
            <a:ext cx="762012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Georgia"/>
              </a:rPr>
              <a:t>La felicidad la encuentra la persona que aprende a vivir sabiament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Georgia"/>
              </a:rPr>
              <a:t>Establece relaciones saludables, pone límites, acepta lo bueno y rechaza lo cuestionabl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2000"/>
                            </p:stCondLst>
                            <p:childTnLst>
                              <p:par>
                                <p:cTn id="187" nodeType="afterEffect" fill="hold" presetClass="entr" presetID="55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1T00:13:08Z</dcterms:created>
  <dc:creator>Peter Schmidt</dc:creator>
  <dc:description/>
  <dc:language>en-US</dc:language>
  <cp:lastModifiedBy>Peter Schmidt</cp:lastModifiedBy>
  <dcterms:modified xsi:type="dcterms:W3CDTF">2008-06-21T00:55:16Z</dcterms:modified>
  <cp:revision>5</cp:revision>
  <dc:subject/>
  <dc:title>Diapositiva 1</dc:title>
</cp:coreProperties>
</file>