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__RC_nossa_senhora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35E-8378-448F-802D-380DF19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D44-1143-411C-A59B-FCC90BEE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9C9-CAF3-41F3-8340-406FF03D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5BB-DECF-432B-A62E-3CC752AD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B54-6BA2-44E0-B809-BEC4928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70D-11FA-40C2-94CE-2ACFD134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087-E2CA-4C27-BD86-37084ABE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E02-DC99-436B-8AEA-BDA3E21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60C-B92B-4FA9-BD22-D45E8553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C3E-369C-4EB9-AADC-9ED62FC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2F7-90A2-40D8-9476-F8DCF78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515-95E3-4ABC-BA88-8EE6B94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AD7-EF18-4B50-8630-A6B98D81F67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__RC_nossa_senho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__RC_nossa_senho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776800">
            <a:off x="5540400" y="3277800"/>
            <a:ext cx="366696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Baskerville Old Face"/>
              </a:rPr>
              <a:t>CUIDA DE MI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Baskerville Old Face"/>
              <a:ea typeface="Baskerville Old Face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950080"/>
            <a:ext cx="8713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eorgia"/>
              </a:rPr>
              <a:t>Al iniciar, los slides se sucederan automaticamente  en forma sincronizada con la mú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68360" y="5229360"/>
            <a:ext cx="4897440" cy="9169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cc"/>
                </a:solidFill>
                <a:latin typeface="Georgia"/>
              </a:rPr>
              <a:t>Cuida de mi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4076640"/>
            <a:ext cx="6048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cc3300"/>
                </a:solidFill>
                <a:latin typeface="Georgia"/>
              </a:rPr>
              <a:t>Madre mia, </a:t>
            </a:r>
            <a:r>
              <a:rPr b="1" i="1" lang="pt-BR" sz="4000" spc="-1" strike="noStrike">
                <a:solidFill>
                  <a:srgbClr val="cc3300"/>
                </a:solidFill>
                <a:latin typeface="Georgia"/>
              </a:rPr>
              <a:t>	</a:t>
            </a:r>
            <a:r>
              <a:rPr b="1" i="1" lang="pt-BR" sz="4000" spc="-1" strike="noStrike">
                <a:solidFill>
                  <a:srgbClr val="cc3300"/>
                </a:solidFill>
                <a:latin typeface="Georgia"/>
              </a:rPr>
              <a:t>      cuida de los mios,     de mis seres queridos, te lo pido a ti.</a:t>
            </a:r>
            <a:r>
              <a:rPr b="1" i="1" lang="pt-BR" sz="2800" spc="-1" strike="noStrike">
                <a:solidFill>
                  <a:srgbClr val="cc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wedge/>
    <p:sndAc>
      <p:stSnd>
        <p:snd r:embed="rId2" name="__RC_nossa_senho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54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Música: Nossa Senhora – Roberto Car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Imagens: Corbis e Baix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63640" y="6021360"/>
            <a:ext cx="420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cias por ora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5013360"/>
            <a:ext cx="576072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Georgia"/>
              </a:rPr>
              <a:t>Cubreme con tu manto de am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  <p:sndAc>
      <p:stSnd>
        <p:snd r:embed="rId2" name="__RC_nossa_senho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5013360"/>
            <a:ext cx="5256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Georgia"/>
              </a:rPr>
              <a:t>Guárdame, en la paz de ese mi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4508640"/>
            <a:ext cx="62643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Georgia"/>
              </a:rPr>
              <a:t>Curame las heridas y el dolor... haz que lo sop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3860640"/>
            <a:ext cx="8280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Georgia"/>
              </a:rPr>
              <a:t>Que las piedras de mi camino mis pies soporten pisar, aunque heridos, las espinas me ayudes a apart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3933720"/>
            <a:ext cx="860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acacc8"/>
                </a:solidFill>
                <a:latin typeface="Georgia"/>
              </a:rPr>
              <a:t>Si quedaran magulladuras en mi, madre sacalas de mi corazón,...y a aquellos a los que yo hice sufrir, pido perd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2421000"/>
            <a:ext cx="6156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52527a"/>
                </a:solidFill>
                <a:latin typeface="Georgia"/>
              </a:rPr>
              <a:t>Si encorvo mi corpo en el dolor, me alivia el peso de la cruz, intercede por mi madre mia, junto a Jes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3860640"/>
            <a:ext cx="73454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Georgia"/>
              </a:rPr>
              <a:t>Nuestra  Señora me da la mano, cuida de mi corazón, de mi vida, de mi desti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3933720"/>
            <a:ext cx="770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6600"/>
                </a:solidFill>
                <a:latin typeface="Georgia"/>
              </a:rPr>
              <a:t>Nuestra Señora, me da la mano, cuida de mi corazón, de mi vida, de mi destino, de mi cami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5:51:41Z</dcterms:created>
  <dc:creator>Angelina Scalon</dc:creator>
  <dc:description/>
  <dc:language>en-US</dc:language>
  <cp:lastModifiedBy>JAVIER</cp:lastModifiedBy>
  <dcterms:modified xsi:type="dcterms:W3CDTF">2006-09-19T21:09:49Z</dcterms:modified>
  <cp:revision>14</cp:revision>
  <dc:subject/>
  <dc:title>Nossa Senhora</dc:title>
</cp:coreProperties>
</file>