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eltic1long%20version%20indi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BB9-50FC-4B18-AD67-D2A9CFC1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8D7-8C1C-46C6-B1CA-30E95566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FA6-496C-4BAD-B259-D3847ECB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4B3-C69A-4BC1-9966-04684F73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FF2-15DF-478F-9E2D-D42F6D0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841-0AF4-4224-A801-7249E44F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D39-C286-4707-9F13-ECAC7065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C63-0EC5-4685-9735-8169346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B74-D86E-4EBB-B75A-F39009F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81D-D307-49E5-93B4-78EB784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102-BED3-4CAB-BAA2-BF13FB0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B01-F527-4476-84CC-5A5C98C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4C9-180F-477F-93D1-0A058EEE8C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tic1long%20version%20ind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44792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a hija de un hombre le pidió al sacerdote que fuera a su casa a hacer una oración para su padre que estaba muy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95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Cuando  el sacerdote llegó a la habitación, encontró a este pobre hombre en su cama con la cabeza alzada por un par de almoh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72428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Había una silla al lado de su cama, por lo que el sacerdote pensó que el hombre sabía que vendría a v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celtic1long%20version%20indi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37160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como podemos enviar cuentos y “bromas” a través del correo electrónico... Los cuales se esparcen como un fuego voraz, pero cuando enviamos mensajes de Dios, lo pensamos dos veces antes de compartirlos con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21020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como la lujuria cruda, vulgar y obscena pasa libremente a través del ciberespacio, pero lo que hable de Jesús es suprimido en las escuelas y en los lugares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1371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 Black"/>
              </a:rPr>
              <a:t>¿ES CURIOSO, VERDAD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84320"/>
            <a:ext cx="556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Si cuando termines de leer este mensaje no se lo envías a muchos de los que están en tu lista de direcciones es porque no estas seguro de lo que ellos piensan al respecto, y peor, de lo que ellos vayan a pensar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724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que nos preocupemos más por lo que la gente piense de nosotros que por lo que Dios pueda pensar de nosotros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098960"/>
            <a:ext cx="624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Señ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Quedate con nosotr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67000"/>
            <a:ext cx="556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e tengas un día colmado de bendiciones junto con los tuy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demás te invito a repetir esta oración en todo lugar y en todo momento, cuando precises de algo espe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44792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Supongo que me estaba esperando?-, le di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o, quién es usted?-, dijo el hombre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6376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oy el sacerdote que su hija llamó para que orase con usted; cuando entré y note la silla vacía al lado de su cama supuse que usted sabía que yo vendría a visitarlo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3341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Ah si, la Sill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e importa cerrar la puerta?-. dijo el hombre enfer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447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sorprendido cerró la pu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81080"/>
            <a:ext cx="5715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hombre enfermo l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unca le he dicho esto a nadie, pero toda mi vida le he pasado sin saber como 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Cuando he estado en la Iglesia he escuchado siempre al respecto de la oración, cómo se debe orar y los beneficios que tra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4864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...pero siempre esto de las oraciones; noo se.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Me entra por un oido y me sale por 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447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e todos modos no tengo idea de cómo hacerlo.  Entonces... Hace mucho tiempo abandoné por completo la 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to ha sido así en mí hasta hace unos cuatro años, cuando conversando con mi mejor amigo m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José, esto de la oración es simplemente tener una conversación con Jesús, así es como te sugiero que lo hagas-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Te sientas en una silla y colocas otra silla vacía enfrente tuyo, luego con fe miras a Jesús sentado delante de ti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37000"/>
            <a:ext cx="605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o es algo alocado el hacerlo pues el nos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-“He aquí Yo estoy con vosotros  todos los dias hasta el fin del mundo”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43700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or lo tanto, le hablas y lo escuchas, de la misma manera como lo estas haciendo conmigo ahor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”Es así que lo hice una vez y me gustó que lo he seguido haciendo unas dos horas diarias desde entonces”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empre tengo mucho cuidado que no me vaya a ver mi hija... Pues me internaría de inmediato en el manicomi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495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sintió una gran emoción al escuchar esto y le dijo a José que era algo muy bueno lo que venía haciendo, y que no dejara de hacerlo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uego hizo una oración con él.  Le extendió una bendición y se fue a su parroq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743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os días después, la hija de José llamó al sacerdote para decirle que su padre había fallec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3848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le pregun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Falleció en Paz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213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, cuando salí de la casa a eso de las dos de la tarde me llamó y fui a verlo a su cam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447920"/>
            <a:ext cx="5943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Me dijo que me quería mucho y me dio un bes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Cuando regresé de hacer unas compras una hora más tarde ya lo encontré muert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6432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ero hay algo extraño al respecto de su muerte, pues aparentemente justo antes de morir se acercó a la silla que estaba al lado de su cama y recostó su cabeza en ella, pues así lo encontr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Qué cree usted que pueda significar esto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1752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profundamente estremecido, se secó las lagrimas de emoción y le respondi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416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0000"/>
                </a:solidFill>
                <a:latin typeface="Arial"/>
              </a:rPr>
              <a:t>-”Ojalá que todos nos pudiésemos ir de esa manera”-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3:56:07Z</dcterms:created>
  <dc:creator>Guillermo Hernandez</dc:creator>
  <dc:description/>
  <dc:language>en-US</dc:language>
  <cp:lastModifiedBy>Ing. Jorge Pincay</cp:lastModifiedBy>
  <dcterms:modified xsi:type="dcterms:W3CDTF">2007-07-03T18:19:12Z</dcterms:modified>
  <cp:revision>7</cp:revision>
  <dc:subject/>
  <dc:title>Presentación de PowerPoint</dc:title>
</cp:coreProperties>
</file>