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eltic1long%20version%20indi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FD3B-3113-48F9-922C-0B49ED142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D54D-53E2-4E39-8062-4230F8EC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BA72-D93C-45E0-B1B6-A2F40712E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15AB-2794-4598-B3B0-0A0C57727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0EBE-E83E-46C1-836D-51E864A1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06EC-9EE5-4D09-B15F-F74BE74E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C3F5-848D-442B-8DB8-73ABC6F7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C4C4-A75D-42E2-8925-1F4F55F8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2A52-18AB-49AF-A35D-C3139BAB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37D0-652D-4FC0-8C76-98479EA5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2C6C-D843-4745-A957-35EB5797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7E44-274B-48CB-866E-0371DDA1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95D1-3BD6-46BE-B50A-1E81406D0F2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eltic1long%20version%20indi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61920" y="0"/>
            <a:ext cx="92678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920" y="1447920"/>
            <a:ext cx="601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La hija de un hombre le pidió al sacerdote que fuera a su casa a hacer una oración para su padre que estaba muy enfer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309564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Cuando  el sacerdote llegó a la habitación, encontró a este pobre hombre en su cama con la cabeza alzada por un par de almoh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4724280"/>
            <a:ext cx="533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Había una silla al lado de su cama, por lo que el sacerdote pensó que el hombre sabía que vendría a ver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  <p:sndAc>
      <p:stSnd>
        <p:snd r:embed="rId2" name="celtic1long%20version%20indi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61920" y="0"/>
            <a:ext cx="926784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04920" y="1371600"/>
            <a:ext cx="624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Es curioso como podemos enviar cuentos y “bromas” a través del correo electrónico... Los cuales se esparcen como un fuego voraz, pero cuando enviamos mensajes de Dios, lo pensamos dos veces antes de compartirlos con ot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4210200"/>
            <a:ext cx="5410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Es curioso como la lujuria cruda, vulgar y obscena pasa libremente a través del ciberespacio, pero lo que hable de Jesús es suprimido en las escuelas y en los lugares de traba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61920" y="0"/>
            <a:ext cx="926784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04920" y="137160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0000"/>
                </a:solidFill>
                <a:latin typeface="Arial Black"/>
              </a:rPr>
              <a:t>¿ES CURIOSO, VERDAD?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1984320"/>
            <a:ext cx="556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Si cuando termines de leer este mensaje no se lo envías a muchos de los que están en tu lista de direcciones es porque no estas seguro de lo que ellos piensan al respecto, y peor, de lo que ellos vayan a pensar de 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4724280"/>
            <a:ext cx="61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Es curioso que nos preocupemos más por lo que la gente piense de nosotros que por lo que Dios pueda pensar de nosotros.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6784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04920" y="4098960"/>
            <a:ext cx="6248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0000"/>
                </a:solidFill>
                <a:latin typeface="Arial Black"/>
              </a:rPr>
              <a:t>“</a:t>
            </a:r>
            <a:r>
              <a:rPr b="1" i="1" lang="es-MX" sz="3200" spc="-1" strike="noStrike">
                <a:solidFill>
                  <a:srgbClr val="ff0000"/>
                </a:solidFill>
                <a:latin typeface="Arial Black"/>
              </a:rPr>
              <a:t>Seño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0000"/>
                </a:solidFill>
                <a:latin typeface="Arial Black"/>
              </a:rPr>
              <a:t>Quedate con nosotro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467000"/>
            <a:ext cx="55627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Que tengas un día colmado de bendiciones junto con los tuy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Además te invito a repetir esta oración en todo lugar y en todo momento, cuando precises de algo espe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61920" y="0"/>
            <a:ext cx="92678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7200" y="1447920"/>
            <a:ext cx="5943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¿Supongo que me estaba esperando?-, le di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No, quién es usted?-, dijo el hombre enfer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3263760"/>
            <a:ext cx="548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Soy el sacerdote que su hija llamó para que orase con usted; cuando entré y note la silla vacía al lado de su cama supuse que usted sabía que yo vendría a visitarlo.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5334120"/>
            <a:ext cx="8686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Ah si, la Silla-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Le importa cerrar la puerta?-. dijo el hombre enferm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61920" y="0"/>
            <a:ext cx="92678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14479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El sacerdote sorprendido cerró la puer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981080"/>
            <a:ext cx="57150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El hombre enfermo le dij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Nunca le he dicho esto a nadie, pero toda mi vida le he pasado sin saber como or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Cuando he estado en la Iglesia he escuchado siempre al respecto de la oración, cómo se debe orar y los beneficios que tra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5486400"/>
            <a:ext cx="8686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...pero siempre esto de las oraciones; noo se..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Me entra por un oido y me sale por el o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61920" y="0"/>
            <a:ext cx="926784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7200" y="144792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De todos modos no tengo idea de cómo hacerlo.  Entonces... Hace mucho tiempo abandoné por completo la o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2743200"/>
            <a:ext cx="518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Esto ha sido así en mí hasta hace unos cuatro años, cuando conversando con mi mejor amigo me dij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419720"/>
            <a:ext cx="541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José, esto de la oración es simplemente tener una conversación con Jesús, así es como te sugiero que lo hagas-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61920" y="0"/>
            <a:ext cx="92678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" y="14479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Te sientas en una silla y colocas otra silla vacía enfrente tuyo, luego con fe miras a Jesús sentado delante de ti-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2637000"/>
            <a:ext cx="60595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No es algo alocado el hacerlo pues el nos dij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0000"/>
                </a:solidFill>
                <a:latin typeface="Arial"/>
              </a:rPr>
              <a:t>-“He aquí Yo estoy con vosotros  todos los dias hasta el fin del mundo”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4437000"/>
            <a:ext cx="5410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Por lo tanto, le hablas y lo escuchas, de la misma manera como lo estas haciendo conmigo ahora-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61920" y="0"/>
            <a:ext cx="92678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14479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”Es así que lo hice una vez y me gustó que lo he seguido haciendo unas dos horas diarias desde entonces”-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743200"/>
            <a:ext cx="518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Siempre tengo mucho cuidado que no me vaya a ver mi hija... Pues me internaría de inmediato en el manicomio-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495680"/>
            <a:ext cx="5410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El sacerdote sintió una gran emoción al escuchar esto y le dijo a José que era algo muy bueno lo que venía haciendo, y que no dejara de hacerlo nun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61920" y="0"/>
            <a:ext cx="92678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" y="14479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Luego hizo una oración con él.  Le extendió una bendición y se fue a su parroq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74320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Dos días después, la hija de José llamó al sacerdote para decirle que su padre había fallec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4038480"/>
            <a:ext cx="5410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El sacerdote le preguntó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¿Falleció en Paz?-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52135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Si, cuando salí de la casa a eso de las dos de la tarde me llamó y fui a verlo a su cama-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61920" y="0"/>
            <a:ext cx="926784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" y="1447920"/>
            <a:ext cx="59436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Me dijo que me quería mucho y me dio un beso-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Cuando regresé de hacer unas compras una hora más tarde ya lo encontré muerto-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3643200"/>
            <a:ext cx="5410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Pero hay algo extraño al respecto de su muerte, pues aparentemente justo antes de morir se acercó a la silla que estaba al lado de su cama y recostó su cabeza en ella, pues así lo encontr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6019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¿Qué cree usted que pueda significar esto?-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61920" y="0"/>
            <a:ext cx="926784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" y="17524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El sacerdote profundamente estremecido, se secó las lagrimas de emoción y le respondió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3441600"/>
            <a:ext cx="50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0000"/>
                </a:solidFill>
                <a:latin typeface="Arial"/>
              </a:rPr>
              <a:t>-”Ojalá que todos nos pudiésemos ir de esa manera”-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3:56:07Z</dcterms:created>
  <dc:creator>Guillermo Hernandez</dc:creator>
  <dc:description/>
  <dc:language>en-US</dc:language>
  <cp:lastModifiedBy>Ing. Jorge Pincay</cp:lastModifiedBy>
  <dcterms:modified xsi:type="dcterms:W3CDTF">2007-07-03T18:19:12Z</dcterms:modified>
  <cp:revision>7</cp:revision>
  <dc:subject/>
  <dc:title>Presentación de PowerPoint</dc:title>
</cp:coreProperties>
</file>