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O%20Bellagio%208.wav" ContentType="audio/x-wav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DC7B7-126D-4BAD-BE8C-B7A9176DB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901E1-098B-4E35-B15D-C9F7974C0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AF286-221F-48C5-9790-F19147ED1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3A33D-CD26-46BA-9F5B-36323FCBD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136BB-0E6A-46C5-BA58-8E04AFB38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DB785-042B-4464-8BA6-6E6252649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853F6-C761-4DD6-A518-FC7FC2BF3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A32EE-B4F0-49EC-9218-3E6E674C6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0310F-1BFC-4840-8D9F-E18AC7A30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2F0E0-73CF-4C18-BE2D-606A32B9C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8C88D-6655-41AE-A9A4-FAB5D36CA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66B31-05DA-4CAC-92B7-F8768899F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D33A9-5616-4F15-9D5C-836C335982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O%20Bellagio%208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0000"/>
            </a:gs>
            <a:gs pos="100000">
              <a:srgbClr val="8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9320" y="4952880"/>
            <a:ext cx="685800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  <a:ea typeface="Times New Roman"/>
              </a:rPr>
              <a:t>"El secreto del éxito en la vida del hombre consiste en estar dispuesto para aprovechar la ocasión que se le depare."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9900"/>
                </a:solidFill>
                <a:latin typeface="Verdana"/>
                <a:ea typeface="Times New Roman"/>
              </a:rPr>
              <a:t>Benjamin Disraeli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219320" y="0"/>
            <a:ext cx="7162560" cy="375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9900"/>
                </a:solidFill>
                <a:latin typeface="Times New Roman"/>
              </a:rPr>
              <a:t>Que tengas un lindo dí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352680" y="632448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ffffff"/>
                </a:solidFill>
                <a:latin typeface="Comic Sans MS"/>
              </a:rPr>
              <a:t>Con Soni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imes New Roman"/>
              </a:rPr>
              <a:t>Luego miró a su alrededor, para todos lados, pero no se veía a</a:t>
            </a: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" sz="2800" spc="-1" strike="noStrike">
                <a:solidFill>
                  <a:srgbClr val="ffffff"/>
                </a:solidFill>
                <a:latin typeface="Times New Roman"/>
              </a:rPr>
              <a:t>nadie.  La guardó en el bolsillo y se puso el otro zapato; su sorpresa fue</a:t>
            </a:r>
            <a:br>
              <a:rPr sz="2800"/>
            </a:br>
            <a:r>
              <a:rPr b="1" lang="es-ES" sz="2800" spc="-1" strike="noStrike">
                <a:solidFill>
                  <a:srgbClr val="ffffff"/>
                </a:solidFill>
                <a:latin typeface="Times New Roman"/>
              </a:rPr>
              <a:t>doble al encontrar la otra moned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86400" y="0"/>
            <a:ext cx="3657600" cy="533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943600" y="5791320"/>
            <a:ext cx="3200400" cy="38088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imes New Roman"/>
              </a:rPr>
              <a:t>Sus sentimientos lo sobrecogieron; cayó</a:t>
            </a: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" sz="2800" spc="-1" strike="noStrike">
                <a:solidFill>
                  <a:srgbClr val="ffffff"/>
                </a:solidFill>
                <a:latin typeface="Times New Roman"/>
              </a:rPr>
              <a:t>de rodillas y levantó la vista al cielo pronunciando un ferviente</a:t>
            </a: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" sz="2800" spc="-1" strike="noStrike">
                <a:solidFill>
                  <a:srgbClr val="ffffff"/>
                </a:solidFill>
                <a:latin typeface="Times New Roman"/>
              </a:rPr>
              <a:t>agradecimiento en voz alta, hablando de su esposa enferma y sin ayuda y de</a:t>
            </a: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" sz="2800" spc="-1" strike="noStrike">
                <a:solidFill>
                  <a:srgbClr val="ffffff"/>
                </a:solidFill>
                <a:latin typeface="Times New Roman"/>
              </a:rPr>
              <a:t>sus hijos que no tenían pan y que debido a una mano desconocida no morirían</a:t>
            </a: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" sz="2800" spc="-1" strike="noStrike">
                <a:solidFill>
                  <a:srgbClr val="ffffff"/>
                </a:solidFill>
                <a:latin typeface="Times New Roman"/>
              </a:rPr>
              <a:t>de hambr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486400" y="0"/>
            <a:ext cx="3657600" cy="533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5791320"/>
            <a:ext cx="3200400" cy="38088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l estudiante quedó profundamente afectado y se le llenaron los ojos 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lágrim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486400" y="0"/>
            <a:ext cx="3657600" cy="533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943600" y="5791320"/>
            <a:ext cx="3200400" cy="38088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hora- dijo el profesor- ¿no estás más complacido que si le hubieras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hecho una brom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486400" y="0"/>
            <a:ext cx="3657600" cy="533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943600" y="5791320"/>
            <a:ext cx="3200400" cy="38088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imes New Roman"/>
              </a:rPr>
              <a:t>El joven respondió:</a:t>
            </a:r>
            <a:br>
              <a:rPr sz="2800"/>
            </a:br>
            <a:r>
              <a:rPr b="1" lang="es-ES" sz="2800" spc="-1" strike="noStrike">
                <a:solidFill>
                  <a:srgbClr val="ffffff"/>
                </a:solidFill>
                <a:latin typeface="Times New Roman"/>
              </a:rPr>
              <a:t>Usted me ha enseñado una lección que jamás olvidaré.  Ahora entiendo</a:t>
            </a: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" sz="2800" spc="-1" strike="noStrike">
                <a:solidFill>
                  <a:srgbClr val="ffffff"/>
                </a:solidFill>
                <a:latin typeface="Times New Roman"/>
              </a:rPr>
              <a:t>algo que antes no entendía: es mejor dar que recib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486400" y="0"/>
            <a:ext cx="3657600" cy="533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943600" y="5791320"/>
            <a:ext cx="3200400" cy="38088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0000"/>
            </a:gs>
            <a:gs pos="100000">
              <a:srgbClr val="8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914400" y="1905120"/>
            <a:ext cx="7162920" cy="11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-189360" y="428760"/>
            <a:ext cx="9326160" cy="60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00"/>
                </a:solidFill>
                <a:latin typeface="Bangle"/>
              </a:rPr>
              <a:t>Si te gustó, regrésalo a la persona que te lo envió.  No recibirás ningú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00"/>
                </a:solidFill>
                <a:latin typeface="Bangle"/>
              </a:rPr>
              <a:t>milagro, ni te sacarás la lotería, Tampoco te subirán el sueldo, ni much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00"/>
                </a:solidFill>
                <a:latin typeface="Bangle"/>
              </a:rPr>
              <a:t>menos te ascenderán de puesto en tu emple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00"/>
                </a:solidFill>
                <a:latin typeface="Bangle"/>
              </a:rPr>
              <a:t>Ahora que si quieres envíarselo a 20 personas e iniciar una cadena 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00"/>
                </a:solidFill>
                <a:latin typeface="Bangle"/>
              </a:rPr>
              <a:t>de la vuelta a todo el mundo, tampoco recibirás nada</a:t>
            </a:r>
            <a:r>
              <a:rPr b="0" lang="es-MX" sz="2400" spc="-1" strike="noStrike">
                <a:solidFill>
                  <a:srgbClr val="ffff00"/>
                </a:solidFill>
                <a:latin typeface="Bangle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00"/>
                </a:solidFill>
                <a:latin typeface="Bangle"/>
              </a:rPr>
              <a:t>Si recibiste este mensaje, da gracias a Di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00"/>
                </a:solidFill>
                <a:latin typeface="Bangle"/>
              </a:rPr>
              <a:t>de tener a alguien que piensa en ti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00"/>
                </a:solidFill>
                <a:latin typeface="Bangle"/>
              </a:rPr>
              <a:t>No todos tenemos ese privilegio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00"/>
                </a:solidFill>
                <a:latin typeface="Bangle"/>
              </a:rPr>
              <a:t>Si no te gustó , solo olvídalo pero de todos mo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00"/>
                </a:solidFill>
                <a:latin typeface="Bangle"/>
              </a:rPr>
              <a:t>Régresalo a la persona que te lo envío, así esa perso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00"/>
                </a:solidFill>
                <a:latin typeface="Bangle"/>
              </a:rPr>
              <a:t>podrá pensar en alguien má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2027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500"/>
                            </p:stCondLst>
                            <p:childTnLst>
                              <p:par>
                                <p:cTn id="14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UNA BUENA LEC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486400" y="0"/>
            <a:ext cx="3657600" cy="533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943600" y="5791320"/>
            <a:ext cx="3200400" cy="38088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imes New Roman"/>
              </a:rPr>
              <a:t>Un estudiante universitario salió un día a dar un paseo con un profesor, a</a:t>
            </a: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" sz="2800" spc="-1" strike="noStrike">
                <a:solidFill>
                  <a:srgbClr val="ffffff"/>
                </a:solidFill>
                <a:latin typeface="Times New Roman"/>
              </a:rPr>
              <a:t>quien los alumnos consideraban su amigo debido a su bondad para quienes</a:t>
            </a: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" sz="2800" spc="-1" strike="noStrike">
                <a:solidFill>
                  <a:srgbClr val="ffffff"/>
                </a:solidFill>
                <a:latin typeface="Times New Roman"/>
              </a:rPr>
              <a:t>seguían sus instrucciones.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486400" y="0"/>
            <a:ext cx="3657600" cy="533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943600" y="5791320"/>
            <a:ext cx="3200400" cy="38088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imes New Roman"/>
              </a:rPr>
              <a:t>Mientras caminaban, vieron en el camino un par</a:t>
            </a:r>
            <a:br>
              <a:rPr sz="2800"/>
            </a:br>
            <a:r>
              <a:rPr b="1" lang="es-ES" sz="2800" spc="-1" strike="noStrike">
                <a:solidFill>
                  <a:srgbClr val="ffffff"/>
                </a:solidFill>
                <a:latin typeface="Times New Roman"/>
              </a:rPr>
              <a:t>de zapatos viejos y supusieron que pertenecían a un anciano que trabajaba en</a:t>
            </a: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" sz="2800" spc="-1" strike="noStrike">
                <a:solidFill>
                  <a:srgbClr val="ffffff"/>
                </a:solidFill>
                <a:latin typeface="Times New Roman"/>
              </a:rPr>
              <a:t>el campo de al lado y que estaba por terminar sus labores diari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486400" y="0"/>
            <a:ext cx="3657600" cy="533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943600" y="5791320"/>
            <a:ext cx="3200400" cy="38088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l alumno dijo al profesor: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Hagámosle una broma; escondamos los zapatos y ocultémonos detrás 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sos arbustos para ver su cara cuando no los encuent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86400" y="0"/>
            <a:ext cx="3657600" cy="533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943600" y="5791320"/>
            <a:ext cx="3200400" cy="38088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i querido amigo -le dijo el profesor-, nunca tenemos que divertirnos a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xpensas de los pobr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486400" y="0"/>
            <a:ext cx="3657600" cy="533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43600" y="5791320"/>
            <a:ext cx="3200400" cy="38088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imes New Roman"/>
              </a:rPr>
              <a:t>Tú eres rico y puedes darle una alegría a este</a:t>
            </a: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" sz="2800" spc="-1" strike="noStrike">
                <a:solidFill>
                  <a:srgbClr val="ffffff"/>
                </a:solidFill>
                <a:latin typeface="Times New Roman"/>
              </a:rPr>
              <a:t>hombre.  Coloca una moneda en cada zapato y luego nos ocultaremos para ver</a:t>
            </a: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" sz="2800" spc="-1" strike="noStrike">
                <a:solidFill>
                  <a:srgbClr val="ffffff"/>
                </a:solidFill>
                <a:latin typeface="Times New Roman"/>
              </a:rPr>
              <a:t>cómo reacciona cuando las encuentr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486400" y="0"/>
            <a:ext cx="3657600" cy="533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943600" y="5791320"/>
            <a:ext cx="3200400" cy="38088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imes New Roman"/>
              </a:rPr>
              <a:t>Eso hizo y ambos se ocultaron entre los arbustos cercanos.  El hombre pobre,</a:t>
            </a: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" sz="2800" spc="-1" strike="noStrike">
                <a:solidFill>
                  <a:srgbClr val="ffffff"/>
                </a:solidFill>
                <a:latin typeface="Times New Roman"/>
              </a:rPr>
              <a:t>terminó sus tareas, y cruzó el terreno en busca de sus zapatos y su abrigo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486400" y="0"/>
            <a:ext cx="3657600" cy="533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943600" y="5791320"/>
            <a:ext cx="3200400" cy="38088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imes New Roman"/>
              </a:rPr>
              <a:t>Al ponerse el abrigo deslizó el pie en el zapato, pero al sentir algo</a:t>
            </a: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" sz="2800" spc="-1" strike="noStrike">
                <a:solidFill>
                  <a:srgbClr val="ffffff"/>
                </a:solidFill>
                <a:latin typeface="Times New Roman"/>
              </a:rPr>
              <a:t>adentro, se agachó para ver qué era y  encontró la moneda.  Pasmado, se</a:t>
            </a:r>
            <a:br>
              <a:rPr sz="2800"/>
            </a:br>
            <a:r>
              <a:rPr b="1" lang="es-ES" sz="2800" spc="-1" strike="noStrike">
                <a:solidFill>
                  <a:srgbClr val="ffffff"/>
                </a:solidFill>
                <a:latin typeface="Times New Roman"/>
              </a:rPr>
              <a:t>preguntó qué podía haber pasado.  Miró la moneda, le dio vuelta y la volvió</a:t>
            </a:r>
            <a:br>
              <a:rPr sz="2800"/>
            </a:br>
            <a:r>
              <a:rPr b="1" lang="es-ES" sz="2800" spc="-1" strike="noStrike">
                <a:solidFill>
                  <a:srgbClr val="ffffff"/>
                </a:solidFill>
                <a:latin typeface="Times New Roman"/>
              </a:rPr>
              <a:t>a mir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486400" y="0"/>
            <a:ext cx="3657600" cy="533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943600" y="5791320"/>
            <a:ext cx="3200400" cy="38088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0:53Z</dcterms:created>
  <dc:creator>usuario</dc:creator>
  <dc:description/>
  <dc:language>en-US</dc:language>
  <cp:lastModifiedBy>angelica</cp:lastModifiedBy>
  <dcterms:modified xsi:type="dcterms:W3CDTF">2006-06-16T22:07:18Z</dcterms:modified>
  <cp:revision>23</cp:revision>
  <dc:subject/>
  <dc:title>UNA BUENA LECCIÓN</dc:title>
</cp:coreProperties>
</file>