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O%20Bellagio%20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930-FCC3-4800-A3BA-950F3416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344-4032-408D-92A6-AF2B42A1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145-6025-4598-846A-5850352C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E26-4C98-4F01-8730-7D7393E1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268-1A11-4120-A577-34FD0861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CF8-405D-4659-A885-F7948C0D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9FB-20A1-41E4-BCF8-114929A2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99F-5F13-4E59-88BD-2C41CE44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B90-EEA6-42CE-B948-1F26138D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871-7314-4A0F-85E6-E990DEF5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084-06C5-4AC4-8AC2-169DD7C4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5B3-7D8F-4929-9A87-B34E3E70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152A-8B69-419B-BE1D-8C3D6B8E9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O%20Bellagio%20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4952880"/>
            <a:ext cx="6858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"El secreto del éxito en la vida del hombre consiste en estar dispuesto para aprovechar la ocasión que se le depare.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Verdana"/>
                <a:ea typeface="Times New Roman"/>
              </a:rPr>
              <a:t>Benjamin Disrae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0"/>
            <a:ext cx="716256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Times New Roman"/>
              </a:rPr>
              <a:t>Que tengas un lindo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632448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Comic Sans MS"/>
              </a:rPr>
              <a:t>Con So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uego miró a su alrededor, para todos lados, pero no se veía 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nadie.  La guardó en el bolsillo y se puso el otro zapato; su sorpresa fue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oble al encontrar la otra mone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us sentimientos lo sobrecogieron; cayó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 rodillas y levantó la vista al cielo pronunciando un ferviente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gradecimiento en voz alta, hablando de su esposa enferma y sin ayuda y de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us hijos que no tenían pan y que debido a una mano desconocida no morirían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 hamb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estudiante quedó profundamente afectado y se le llenaron los ojos 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ágr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hora- dijo el profesor- ¿no estás más complacido que si le hubiera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cho una bro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joven respondió: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Usted me ha enseñado una lección que jamás olvidaré.  Ahora entiendo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lgo que antes no entendía: es mejor dar que recib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1905120"/>
            <a:ext cx="71629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189360" y="428760"/>
            <a:ext cx="93261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Si te gustó, regrésalo a la persona que te lo envió.  No recibirás ningú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milagro, ni te sacarás la lotería, Tampoco te subirán el sueldo, ni mu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menos te ascenderán de puesto en tu empl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Ahora que si quieres envíarselo a 20 personas e iniciar una cadena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de la vuelta a todo el mundo, tampoco recibirás nada</a:t>
            </a:r>
            <a:r>
              <a:rPr b="0" lang="es-MX" sz="2400" spc="-1" strike="noStrike">
                <a:solidFill>
                  <a:srgbClr val="ffff00"/>
                </a:solidFill>
                <a:latin typeface="Bang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Bangle"/>
              </a:rPr>
              <a:t>Si recibiste este mensaje, da gracias a D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Bangle"/>
              </a:rPr>
              <a:t>de tener a alguien que piensa en ti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Bangle"/>
              </a:rPr>
              <a:t>No todos tenemos ese privileg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Si no te gustó , solo olvídalo pero de todos m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Régresalo a la persona que te lo envío, así esa pers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Bangle"/>
              </a:rPr>
              <a:t>podrá pensar en alguien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NA BUENA 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Un estudiante universitario salió un día a dar un paseo con un profesor, 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ien los alumnos consideraban su amigo debido a su bondad para quienes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eguían sus instruccione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ientras caminaban, vieron en el camino un par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 zapatos viejos y supusieron que pertenecían a un anciano que trabajaba en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campo de al lado y que estaba por terminar sus labores di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alumno dijo al profesor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gámosle una broma; escondamos los zapatos y ocultémonos detrás 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os arbustos para ver su cara cuando no los encuen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 querido amigo -le dijo el profesor-, nunca tenemos que divertirnos 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nsas de los pob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Tú eres rico y puedes darle una alegría a este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hombre.  Coloca una moneda en cada zapato y luego nos ocultaremos para ver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cómo reacciona cuando las encuent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so hizo y ambos se ocultaron entre los arbustos cercanos.  El hombre pobre,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terminó sus tareas, y cruzó el terreno en busca de sus zapatos y su abri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l ponerse el abrigo deslizó el pie en el zapato, pero al sentir algo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dentro, se agachó para ver qué era y  encontró la moneda.  Pasmado, se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reguntó qué podía haber pasado.  Miró la moneda, le dio vuelta y la volvió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 mir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5791320"/>
            <a:ext cx="32004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0:53Z</dcterms:created>
  <dc:creator>usuario</dc:creator>
  <dc:description/>
  <dc:language>en-US</dc:language>
  <cp:lastModifiedBy>angelica</cp:lastModifiedBy>
  <dcterms:modified xsi:type="dcterms:W3CDTF">2006-06-16T22:07:18Z</dcterms:modified>
  <cp:revision>23</cp:revision>
  <dc:subject/>
  <dc:title>UNA BUENA LECCIÓN</dc:title>
</cp:coreProperties>
</file>