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pet4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FC1E-C683-414D-9547-895B2C550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E42E-D90B-432F-B00E-8F8748DBC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5AD5-4F92-4E71-823A-AAA0AD36E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6FD7-889F-49CC-B69F-877F71B2C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819B-4567-4E76-8E78-EC126226B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BCD4-241D-4AF2-AEA9-21E40C767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8DC5-05A0-4161-ADCE-C8306970D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DA1D-4B8F-4EB3-AB82-6A1C95962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5E9D-F4CC-4E16-88E0-0B7D62465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55AD-C271-487B-B20D-8489F94BC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F02E-3068-43B4-907F-28877DD9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364C-AA3F-4FD6-818A-1A3CCADC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F95AD-601B-4343-92B2-781E78F407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glossyballs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pet4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89000"/>
            <a:ext cx="9144000" cy="64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0000"/>
                </a:solidFill>
                <a:latin typeface="Tahoma"/>
              </a:rPr>
              <a:t>La Corporación Japonesa HONDA Y El Gobierno Revolucionario Venezolano, luego de un largo proceso de investigaciones, lanzará para el mercado Venezolano una Moto accionada c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1" lang="es-ES" sz="6600" spc="-1" strike="noStrike">
                <a:solidFill>
                  <a:srgbClr val="ff0000"/>
                </a:solidFill>
                <a:latin typeface="Tahoma"/>
              </a:rPr>
              <a:t>GAS DEL BUENO”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0000"/>
                </a:solidFill>
                <a:latin typeface="Tahoma"/>
              </a:rPr>
              <a:t>Podemos adelantarle algunos detalles de este revolucionario produc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372960"/>
            <a:ext cx="9144000" cy="6112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1T06:23:18Z</dcterms:created>
  <dc:creator>JEF</dc:creator>
  <dc:description/>
  <dc:language>en-US</dc:language>
  <cp:lastModifiedBy>servidor</cp:lastModifiedBy>
  <dcterms:modified xsi:type="dcterms:W3CDTF">2009-03-17T19:42:08Z</dcterms:modified>
  <cp:revision>11</cp:revision>
  <dc:subject/>
  <dc:title>supermamie </dc:title>
</cp:coreProperties>
</file>