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pet4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28BC-7EBF-4BEF-A7E3-35C1578F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88A-11C2-4715-B9A7-B8F3BC37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607-AFB5-4489-A0BA-40E98B11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873-A3E4-408A-9B60-63FD395A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BA6-ECC9-4666-96F3-67C5AFBC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561-F630-4CFC-BDE4-73BABBF2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3C2-1576-4915-8F1D-AB0BC6D3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3C2-3B8F-49CB-B4DA-2CB74E89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906-5F07-4C4E-9702-67AD1A4C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0E7-4AE1-4EF6-BD62-0529F06D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63A-FB72-4D05-9B8C-C69B6F9C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768-F208-4387-8396-D8D9102D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88EF-77F7-48FE-9182-148EC9A23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glossyballs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et4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89000"/>
            <a:ext cx="9144000" cy="64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ahoma"/>
              </a:rPr>
              <a:t>La Corporación Japonesa HONDA Y El Gobierno Revolucionario Venezolano, luego de un largo proceso de investigaciones, lanzará para el mercado Venezolano una Moto accionada c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s-ES" sz="6600" spc="-1" strike="noStrike">
                <a:solidFill>
                  <a:srgbClr val="ff0000"/>
                </a:solidFill>
                <a:latin typeface="Tahoma"/>
              </a:rPr>
              <a:t>GAS DEL BUENO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ahoma"/>
              </a:rPr>
              <a:t>Podemos adelantarle algunos detalles de este revolucionario 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06:23:18Z</dcterms:created>
  <dc:creator>JEF</dc:creator>
  <dc:description/>
  <dc:language>en-US</dc:language>
  <cp:lastModifiedBy>servidor</cp:lastModifiedBy>
  <dcterms:modified xsi:type="dcterms:W3CDTF">2009-03-17T19:42:08Z</dcterms:modified>
  <cp:revision>11</cp:revision>
  <dc:subject/>
  <dc:title>supermamie </dc:title>
</cp:coreProperties>
</file>