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Adeste%20fideles%20138kb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EF2E-E8F5-44BA-B2AA-C0ED2AEB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4D7-1978-43D1-9692-8B45F251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434E-F1E6-4E73-BE10-281E3CB0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4B6-D782-48CC-9416-F6923136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E73C-32CC-4387-9061-43932878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F40-83B8-4BD2-93AB-3E927C09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EC0-D66A-4C84-BDAB-3356146F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BA1A-96BB-45D1-B05E-43A0A525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CEC-7518-4F8D-ACBC-4F781791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7C27-973B-4996-8DFA-17B04AE2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43E-D559-4B2E-B4E0-0509CF8F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72F0-BE5A-4B36-ACC2-DA48B587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0D0B-5BD4-433E-9400-ABDA5661F0E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Adeste%20fideles%20138kb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ERRA%20plano%20gi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5280" y="2286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El nacimiento de Jesús es Buena Noticia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ara toda la humanidad.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in fronte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943600"/>
            <a:ext cx="675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Mateo 2, 1-12. Epifanía del Señor. 6 enero 20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Autora: M.Asun Gutiérr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ESTRELLA" descr=""/>
          <p:cNvPicPr/>
          <p:nvPr/>
        </p:nvPicPr>
        <p:blipFill>
          <a:blip r:embed="rId2"/>
          <a:stretch/>
        </p:blipFill>
        <p:spPr>
          <a:xfrm>
            <a:off x="4038480" y="1600200"/>
            <a:ext cx="993960" cy="960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Adeste%20fideles%20138k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228600"/>
            <a:ext cx="6248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ccecff"/>
                </a:solidFill>
                <a:latin typeface="Georgia"/>
              </a:rPr>
              <a:t>1</a:t>
            </a:r>
            <a:r>
              <a:rPr b="0" lang="en-US" sz="1800" spc="-1" strike="noStrike">
                <a:solidFill>
                  <a:srgbClr val="ccecff"/>
                </a:solidFill>
                <a:latin typeface="Georgia"/>
              </a:rPr>
              <a:t> Jesús nació en Belén, un pueblo de Judea, en tiempo del rey Herodes.</a:t>
            </a:r>
            <a:br>
              <a:rPr sz="1800"/>
            </a:br>
            <a:r>
              <a:rPr b="0" lang="en-US" sz="1800" spc="-1" strike="noStrike">
                <a:solidFill>
                  <a:srgbClr val="ccecff"/>
                </a:solidFill>
                <a:latin typeface="Georgia"/>
              </a:rPr>
              <a:t> Por entonces unos sabios de oriente se presentaron en Jerusalén, </a:t>
            </a:r>
            <a:r>
              <a:rPr b="0" lang="en-US" sz="1800" spc="-1" strike="noStrike" baseline="30000">
                <a:solidFill>
                  <a:srgbClr val="ccecff"/>
                </a:solidFill>
                <a:latin typeface="Georgia"/>
              </a:rPr>
              <a:t>2</a:t>
            </a:r>
            <a:r>
              <a:rPr b="0" lang="en-US" sz="1800" spc="-1" strike="noStrike">
                <a:solidFill>
                  <a:srgbClr val="ccecff"/>
                </a:solidFill>
                <a:latin typeface="Georgia"/>
              </a:rPr>
              <a:t> preguntando:</a:t>
            </a:r>
            <a:br>
              <a:rPr sz="1800"/>
            </a:br>
            <a:r>
              <a:rPr b="0" lang="en-US" sz="1800" spc="-1" strike="noStrike">
                <a:solidFill>
                  <a:srgbClr val="ccecff"/>
                </a:solidFill>
                <a:latin typeface="Georgia"/>
              </a:rPr>
              <a:t>–¿Dónde está el rey de los judíos que acaba de nacer?</a:t>
            </a:r>
            <a:br>
              <a:rPr sz="1800"/>
            </a:br>
            <a:r>
              <a:rPr b="0" lang="en-US" sz="1800" spc="-1" strike="noStrike">
                <a:solidFill>
                  <a:srgbClr val="ccecff"/>
                </a:solidFill>
                <a:latin typeface="Georgia"/>
              </a:rPr>
              <a:t> Hemos visto su estrella en el oriente y venimos a adorar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95288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s sabios  demuestran que quienes buscan consiguen encontrar. Saben leer los signos de los tiempos y entienden que la salvación de la humanidad no está en la prepotencia y el poder, sino en la sencillez, la ternura y la bondad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¿Dónde está Jesús para mí? ¿Dónde lo busco? ¿Dónde lo encuentro?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¿Descubro las estrellas que indican la presencia de Jesús en el mundo  y en mi ambien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elén%20call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0"/>
            <a:ext cx="8839080" cy="22885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baseline="30000">
                <a:solidFill>
                  <a:srgbClr val="cc6600"/>
                </a:solidFill>
                <a:latin typeface="Georgia"/>
              </a:rPr>
              <a:t>3</a:t>
            </a:r>
            <a:r>
              <a:rPr b="0" lang="es-ES" sz="1800" spc="-1" strike="noStrike">
                <a:solidFill>
                  <a:srgbClr val="cc6600"/>
                </a:solidFill>
                <a:latin typeface="Georgia"/>
              </a:rPr>
              <a:t> Al oír esto, el rey Herodes se sobresaltó y con él toda Jerusalén.</a:t>
            </a:r>
            <a:br>
              <a:rPr sz="1800"/>
            </a:br>
            <a:r>
              <a:rPr b="0" lang="es-ES" sz="1800" spc="-1" strike="noStrike" baseline="30000">
                <a:solidFill>
                  <a:srgbClr val="cc6600"/>
                </a:solidFill>
                <a:latin typeface="Georgia"/>
              </a:rPr>
              <a:t>4</a:t>
            </a:r>
            <a:r>
              <a:rPr b="0" lang="es-ES" sz="1800" spc="-1" strike="noStrike">
                <a:solidFill>
                  <a:srgbClr val="cc6600"/>
                </a:solidFill>
                <a:latin typeface="Georgia"/>
              </a:rPr>
              <a:t> Entonces convocó a todos los jefes de los sacerdotes y a los maestros de la le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Georgia"/>
              </a:rPr>
              <a:t>y les preguntó dónde tenía que nacer el Mesías. </a:t>
            </a:r>
            <a:r>
              <a:rPr b="0" lang="es-ES" sz="1800" spc="-1" strike="noStrike" baseline="30000">
                <a:solidFill>
                  <a:srgbClr val="cc6600"/>
                </a:solidFill>
                <a:latin typeface="Georgia"/>
              </a:rPr>
              <a:t>5</a:t>
            </a:r>
            <a:r>
              <a:rPr b="0" lang="es-ES" sz="1800" spc="-1" strike="noStrike">
                <a:solidFill>
                  <a:srgbClr val="cc6600"/>
                </a:solidFill>
                <a:latin typeface="Georgia"/>
              </a:rPr>
              <a:t> Ellos le respondieron:</a:t>
            </a:r>
            <a:br>
              <a:rPr sz="1800"/>
            </a:br>
            <a:r>
              <a:rPr b="0" lang="es-ES" sz="1800" spc="-1" strike="noStrike">
                <a:solidFill>
                  <a:srgbClr val="cc6600"/>
                </a:solidFill>
                <a:latin typeface="Georgia"/>
              </a:rPr>
              <a:t>–En Belén de Judea, pues así está escrito en el profeta:</a:t>
            </a:r>
            <a:br>
              <a:rPr sz="1800"/>
            </a:br>
            <a:r>
              <a:rPr b="0" lang="es-ES" sz="1800" spc="-1" strike="noStrike">
                <a:solidFill>
                  <a:srgbClr val="cc6600"/>
                </a:solidFill>
                <a:latin typeface="Georgia"/>
              </a:rPr>
              <a:t>                     </a:t>
            </a:r>
            <a:r>
              <a:rPr b="0" lang="es-ES" sz="1800" spc="-1" strike="noStrike" baseline="30000">
                <a:solidFill>
                  <a:srgbClr val="cc6600"/>
                </a:solidFill>
                <a:latin typeface="Georgia"/>
              </a:rPr>
              <a:t>6</a:t>
            </a:r>
            <a:r>
              <a:rPr b="0" lang="es-ES" sz="1800" spc="-1" strike="noStrike">
                <a:solidFill>
                  <a:srgbClr val="cc6600"/>
                </a:solidFill>
                <a:latin typeface="Georgia"/>
              </a:rPr>
              <a:t> </a:t>
            </a:r>
            <a:r>
              <a:rPr b="0" i="1" lang="es-ES" sz="1800" spc="-1" strike="noStrike">
                <a:solidFill>
                  <a:srgbClr val="cc6600"/>
                </a:solidFill>
                <a:latin typeface="Georgia"/>
              </a:rPr>
              <a:t>Y tú, Belén, tierra de Judá, no eres, ni mucho menos,</a:t>
            </a:r>
            <a:br>
              <a:rPr sz="1800"/>
            </a:br>
            <a:r>
              <a:rPr b="0" i="1" lang="es-ES" sz="1800" spc="-1" strike="noStrike">
                <a:solidFill>
                  <a:srgbClr val="cc6600"/>
                </a:solidFill>
                <a:latin typeface="Georgia"/>
              </a:rPr>
              <a:t>                        a menor entre las ciudades principales de Judá;</a:t>
            </a:r>
            <a:br>
              <a:rPr sz="1800"/>
            </a:br>
            <a:r>
              <a:rPr b="0" i="1" lang="es-ES" sz="1800" spc="-1" strike="noStrike">
                <a:solidFill>
                  <a:srgbClr val="cc6600"/>
                </a:solidFill>
                <a:latin typeface="Georgia"/>
              </a:rPr>
              <a:t>                         porque de ti saldrá un jefe,</a:t>
            </a:r>
            <a:br>
              <a:rPr sz="1800"/>
            </a:br>
            <a:r>
              <a:rPr b="0" i="1" lang="es-ES" sz="1800" spc="-1" strike="noStrike">
                <a:solidFill>
                  <a:srgbClr val="cc6600"/>
                </a:solidFill>
                <a:latin typeface="Georgia"/>
              </a:rPr>
              <a:t>                        que será pastor de mi pueblo, Isra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267080"/>
            <a:ext cx="9144000" cy="25628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Las personas poderosas se sienten perseguidas y amenazada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y actúan a la defensiva.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Les hacen temblar las personas buscadoras de la verdad y de la luz.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Creerse en posesión de la verdad es un motivo para no querer buscarla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os paganos, aunque no conocen las Escrituras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tán atentos  a las señales del cielo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Herodes y sus consejeros, que sí las conocen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o descubren a Jesús en ellas ni quieren encontrar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Vivo mi fe como costumbre o como búsque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666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elé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amino%20a%20brin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228600"/>
            <a:ext cx="883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00"/>
                </a:solidFill>
                <a:latin typeface="Georgia"/>
              </a:rPr>
              <a:t>7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 Entonces Herodes, llamando aparte a los sabios, hizo que le informaran con exactitud acerca del momento en que había aparecido la estrella, </a:t>
            </a:r>
            <a:r>
              <a:rPr b="0" lang="en-US" sz="2000" spc="-1" strike="noStrike" baseline="30000">
                <a:solidFill>
                  <a:srgbClr val="ffff00"/>
                </a:solidFill>
                <a:latin typeface="Georgia"/>
              </a:rPr>
              <a:t>8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 y los envió a Belén con este encargo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–Id e informaos bien sobre ese niño; y, cuando lo encontréis, avisadme para ir yo también a adorar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5029200"/>
            <a:ext cx="8763120" cy="1739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 texto de los magos, exclusivo de Mateo,  nos ayuda a comprender que a Jesús se llega también por caminos diferentes al religioso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scan más y mejor la verdad quienes están lejos que los que creen tenerla al alcance de la mano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 deseo de la verdad y de la luz ponen en movimiento para buscar, descubri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 manifestar a 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pifanía.SB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38280" y="152280"/>
            <a:ext cx="6705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00"/>
                </a:solidFill>
                <a:latin typeface="Georgia"/>
              </a:rPr>
              <a:t>9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 Ellos, después de oír al rey, se pusieron en camino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y la estrella que habían visto en oriente los guió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hasta que llegó y se paró encima de donde estaba el niño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en-US" sz="2000" spc="-1" strike="noStrike" baseline="30000">
                <a:solidFill>
                  <a:srgbClr val="ffff00"/>
                </a:solidFill>
                <a:latin typeface="Georgia"/>
              </a:rPr>
              <a:t>10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 Al ver la estrella, se llenaron de una inmensa alegrí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8006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En su largo y laborioso camino buscan, ven, se cuestionan, creen, adoran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ofrecen, se transforman..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Ponerse en camino supone desprendimiento, riesgo, desinstalación, confianza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 salir de un@ mism@, dejar seguridades, superar miedos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aceptar la sorpresa y la novedad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Es necesario ponerse en camino para encontrarnos con Jesús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Encontrarlo es la mayor alegr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800600" y="22860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99cc"/>
                </a:solidFill>
                <a:latin typeface="Georgia"/>
              </a:rPr>
              <a:t>11</a:t>
            </a:r>
            <a:r>
              <a:rPr b="0" lang="en-US" sz="2000" spc="-1" strike="noStrike">
                <a:solidFill>
                  <a:srgbClr val="0099cc"/>
                </a:solidFill>
                <a:latin typeface="Georgia"/>
              </a:rPr>
              <a:t> Entraron en la casa, vieron al niño con su madre María y lo adoraron postrados en tier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María%20Niño.GoodSalt%202" descr=""/>
          <p:cNvPicPr/>
          <p:nvPr/>
        </p:nvPicPr>
        <p:blipFill>
          <a:blip r:embed="rId1"/>
          <a:stretch/>
        </p:blipFill>
        <p:spPr>
          <a:xfrm>
            <a:off x="0" y="1295280"/>
            <a:ext cx="3759120" cy="5334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657600" y="2133720"/>
            <a:ext cx="548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 buscadores encuentran al niñ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vuelto en el abrazo que le hace vivi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do comienza desde un niño indefens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mildad es la palabra revolucionari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 la Nav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 magos sienten necesidad de ador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verdadera adoración no es un signo externo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“en espíritu y en verdad”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one un  compromiso y una entrega radical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adoración conlleva la ofrenda de unos done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Por qué motivos adoro a D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Qué dones le ofrez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ESTRELLA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993600" cy="960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Epifanía.Ray" descr=""/>
          <p:cNvPicPr/>
          <p:nvPr/>
        </p:nvPicPr>
        <p:blipFill>
          <a:blip r:embed="rId1"/>
          <a:stretch/>
        </p:blipFill>
        <p:spPr>
          <a:xfrm>
            <a:off x="304920" y="0"/>
            <a:ext cx="8381880" cy="4757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5600" y="152280"/>
            <a:ext cx="8094600" cy="703800"/>
          </a:xfrm>
          <a:prstGeom prst="rect">
            <a:avLst/>
          </a:pr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Abrieron sus tesoros y le ofrecieron como regalo oro, incienso y mir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4197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Es día de dar y de recibir regalos.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 Regalemos ilusión, alegría, acogida, amistad, cariño, encuentro, ternura, bondad, solidaridad, paz, luz, belleza, amor... BUENA NOTICIA.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Recibamos el regalo de la palabra oportuna, la mano amiga, las dificultades superadas, el sufrimiento fecundo, liberación, amor...  BUENA NOTICIA.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Los magos ofrecieron lo mejor que tenían. Se ofrecieron a sí mismos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Tod@s estamos llamad@s a colaborar en la manifestación de Jesús al mundo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Jesús es el mayor regalo que podemos recibir, el mejor regalo que podemos ofrec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NCRUCIJA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7680" y="304920"/>
            <a:ext cx="8110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Georgia"/>
              </a:rPr>
              <a:t>12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Y advertidos en sueños de que no volvieran donde estaba Herodes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regresaron a su país por otro cami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724280"/>
            <a:ext cx="8694720" cy="25628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El encuentro con Jesús cambia la vida.La capacidad de tomar otro camino es símbolo de conversión.</a:t>
            </a: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Quien encuentra a Jesús descubre que su vida toma una nueva dirección, que la</a:t>
            </a:r>
            <a:br>
              <a:rPr sz="1800"/>
            </a:b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vuelta a casa, al interior de un@ mism@, al sentido de la vida, tiene lugar por un</a:t>
            </a:r>
            <a:br>
              <a:rPr sz="1800"/>
            </a:b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camino nuevo. </a:t>
            </a:r>
            <a:br>
              <a:rPr sz="1800"/>
            </a:b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Siempre hay estrellas brillando  en nuestro horizonte.</a:t>
            </a:r>
            <a:br>
              <a:rPr sz="1800"/>
            </a:b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Siempre podemos intentar ser estrellas en el horizonte de l@s de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ERSONAS%20RELOJES%20CAL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1219320"/>
            <a:ext cx="8458200" cy="54363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y me he encontrado en las manos con tus regalos, Seño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eva vida, nuevo tiempo, nueva lluvia, nuevo sol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eso, para este tiempo que estreno con ilusión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iero, Señor, y te pido también un nuevo reloj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 reloj que mida el tiempo como lo mide tu amor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 se pare cuando lleguen las personas a mi rincón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a escuchar, compartiendo, alegrías y dolo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a reloj que me sitúe la mente y el corazón en el momento presente, que es tu momento, Señor, en el quehacer cotidian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 es lugar de encarnació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 reloj que mida el tiempo con tu paciencia, Seño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 el ritmo y la medida universal del amor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pertador de rutinas, vigilante, ayudador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 nunca mida la entrega del tiempo y del coraz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 la vida, con el tiempo que hoy me regalas, Seño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a darme sin medida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pero un nuevo relo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3520" y="304920"/>
            <a:ext cx="24001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Un nuevo reloj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100000">
                    <a:srgbClr val="000000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0T17:28:24Z</dcterms:created>
  <dc:creator> M.Asun Gutiérrez</dc:creator>
  <dc:description/>
  <dc:language>en-US</dc:language>
  <cp:lastModifiedBy>Usuario</cp:lastModifiedBy>
  <dcterms:modified xsi:type="dcterms:W3CDTF">2010-01-01T21:26:12Z</dcterms:modified>
  <cp:revision>7</cp:revision>
  <dc:subject>jeasam@gmail.com</dc:subject>
  <dc:title>Epifanía de Jesús</dc:title>
</cp:coreProperties>
</file>