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Adeste%20fideles%20138kb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3D5-50C0-4959-B6B0-9F50B926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548-E494-492C-B18E-BACEE993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E91-1E2E-45E7-9528-94D88C8E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500-CDB3-45F1-87B3-809D5507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5F8-892B-4DC4-8413-9A81B470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F67-B1FD-4C08-92F2-D4AE7C1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E96-5DC5-4678-9577-E18E90E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8F6-4477-4E84-8C63-D951DCE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03D-9F9B-47E4-9FDD-D4A0EA7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F32-A039-4F4E-8E9A-A87DC4F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468-1342-44A0-BB7A-440227A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F8C-15B2-4013-B4CA-F75895B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87F1-507E-4637-BA15-521C7F47BC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Adeste%20fideles%20138k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ERRA%20plano%20gi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l nacimiento de Jesús es Buena Noticia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ara toda la humanidad.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n front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7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Mateo 2, 1-12. Epifanía del Señor. 6 enero 20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utora: M.Asun Gutiérr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STRELLA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99396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deste%20fideles%20138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228600"/>
            <a:ext cx="62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ccecff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Jesús nació en Belén, un pueblo de Judea, en tiempo del rey Herodes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Por entonces unos sabios de oriente se presentaron en Jerusalén, </a:t>
            </a:r>
            <a:r>
              <a:rPr b="0" lang="en-US" sz="1800" spc="-1" strike="noStrike" baseline="30000">
                <a:solidFill>
                  <a:srgbClr val="ccec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preguntando: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–¿Dónde está el rey de los judíos que acaba de nacer?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Georgia"/>
              </a:rPr>
              <a:t> Hemos visto su estrella en el oriente y venimos a ador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9528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s sabios  demuestran que quienes buscan consiguen encontrar. Saben leer los signos de los tiempos y entienden que la salvación de la humanidad no está en la prepotencia y el poder, sino en la sencillez, la ternura y la bondad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Dónde está Jesús para mí? ¿Dónde lo busco? ¿Dónde lo encuentro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¿Descubro las estrellas que indican la presencia de Jesús en el mundo  y en mi ambien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elén%20cal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0"/>
            <a:ext cx="8839080" cy="22885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3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Al oír esto, el rey Herodes se sobresaltó y con él toda Jerusalén.</a:t>
            </a:r>
            <a:br>
              <a:rPr sz="1800"/>
            </a:b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4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Entonces convocó a todos los jefes de los sacerdotes y a los maestros de la 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y les preguntó dónde tenía que nacer el Mesías. </a:t>
            </a: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5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Ellos le respondieron:</a:t>
            </a:r>
            <a:br>
              <a:rPr sz="1800"/>
            </a:b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–En Belén de Judea, pues así está escrito en el profeta:</a:t>
            </a:r>
            <a:br>
              <a:rPr sz="1800"/>
            </a:b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                    </a:t>
            </a:r>
            <a:r>
              <a:rPr b="0" lang="es-ES" sz="1800" spc="-1" strike="noStrike" baseline="30000">
                <a:solidFill>
                  <a:srgbClr val="cc6600"/>
                </a:solidFill>
                <a:latin typeface="Georgia"/>
              </a:rPr>
              <a:t>6</a:t>
            </a:r>
            <a:r>
              <a:rPr b="0" lang="es-ES" sz="1800" spc="-1" strike="noStrike">
                <a:solidFill>
                  <a:srgbClr val="cc6600"/>
                </a:solidFill>
                <a:latin typeface="Georgia"/>
              </a:rPr>
              <a:t> </a:t>
            </a: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Y tú, Belén, tierra de Judá, no eres, ni mucho menos,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a menor entre las ciudades principales de Judá;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 porque de ti saldrá un jefe,</a:t>
            </a:r>
            <a:br>
              <a:rPr sz="1800"/>
            </a:br>
            <a:r>
              <a:rPr b="0" i="1" lang="es-ES" sz="1800" spc="-1" strike="noStrike">
                <a:solidFill>
                  <a:srgbClr val="cc6600"/>
                </a:solidFill>
                <a:latin typeface="Georgia"/>
              </a:rPr>
              <a:t>                        que será pastor de mi pueblo, Isra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67080"/>
            <a:ext cx="914400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as personas poderosas se sienten perseguidas y amenazad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y actúan a la defensiva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Les hacen temblar las personas buscadoras de la verdad y de la luz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Creerse en posesión de la verdad es un motivo para no querer buscarla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paganos, aunque no conocen las Escritura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án atentos  a las señales del cielo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erodes y sus consejeros, que sí las conoce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descubren a Jesús en ellas ni quieren encontr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Vivo mi fe como costumbre o como búsque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66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el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mino%20a%20brin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22860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7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ntonces Herodes, llamando aparte a los sabios, hizo que le informaran con exactitud acerca del momento en que había aparecido la estrella, </a:t>
            </a: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y los envió a Belén con este encargo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–Id e informaos bien sobre ese niño; y, cuando lo encontréis, avisadme para ir yo también a ador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029200"/>
            <a:ext cx="8763120" cy="1739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texto de los magos, exclusivo de Mateo,  nos ayuda a comprender que a Jesús se llega también por caminos diferentes al religios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can más y mejor la verdad quienes están lejos que los que creen tenerla al alcance de la man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deseo de la verdad y de la luz ponen en movimiento para buscar, descubri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anifestar a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pifanía.SB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15228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Ellos, después de oír al rey, se pusieron en camino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la estrella que habían visto en oriente los guió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hasta que llegó y se paró encima de donde estaba el niño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Al ver la estrella, se llenaron de una inmensa aleg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80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 su largo y laborioso camino buscan, ven, se cuestionan, creen, adoran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ofrecen, se transforman..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onerse en camino supone desprendimiento, riesgo, desinstalación, confianz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 salir de un@ mism@, dejar seguridades, superar miedos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aceptar la sorpresa y la novedad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s necesario ponerse en camino para encontrarnos con Jesú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contrarlo es la mayor aleg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00600" y="22860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99cc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0099cc"/>
                </a:solidFill>
                <a:latin typeface="Georgia"/>
              </a:rPr>
              <a:t> Entraron en la casa, vieron al niño con su madre María y lo adoraron postrados en tie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María%20Niño.GoodSalt%202" descr=""/>
          <p:cNvPicPr/>
          <p:nvPr/>
        </p:nvPicPr>
        <p:blipFill>
          <a:blip r:embed="rId1"/>
          <a:stretch/>
        </p:blipFill>
        <p:spPr>
          <a:xfrm>
            <a:off x="0" y="1295280"/>
            <a:ext cx="3759120" cy="5334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57600" y="213372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buscadores encuentran al niñ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uelto en el abrazo que le hace viv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do comienza desde un niño indefen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mildad es la palabra revolucionar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la Nav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magos sienten necesidad de ado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verdadera adoración no es un signo externo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“en espíritu y en verdad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one un  compromiso y una entrega radical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adoración conlleva la ofrenda de unos don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Por qué motivos adoro a D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Qué dones le ofrez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STRELLA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993600" cy="960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pifanía.Ray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475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5600" y="152280"/>
            <a:ext cx="8094600" cy="70380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Georgia"/>
              </a:rPr>
              <a:t>Abrieron sus tesoros y le ofrecieron como regalo oro, incienso y mir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19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s día de dar y de recibir regalos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Regalemos ilusión, alegría, acogida, amistad, cariño, encuentro, ternura, bondad, solidaridad, paz, luz, belleza, amor... BUENA NOTICIA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Recibamos el regalo de la palabra oportuna, la mano amiga, las dificultades superadas, el sufrimiento fecundo, liberación, amor...  BUENA NOTICIA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os magos ofrecieron lo mejor que tenían. Se ofrecieron a sí mism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Tod@s estamos llamad@s a colaborar en la manifestación de Jesús al mund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Jesús es el mayor regalo que podemos recibir, el mejor regalo que podemos ofrec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NCRUCIJA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7680" y="304920"/>
            <a:ext cx="811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Georgia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Y advertidos en sueños de que no volvieran donde estaba Herodes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regresaron a su país por otro cam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724280"/>
            <a:ext cx="8694720" cy="25628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El encuentro con Jesús cambia la vida.La capacidad de tomar otro camino es símbolo de conversión.</a:t>
            </a: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Quien encuentra a Jesús descubre que su vida toma una nueva dirección, que la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vuelta a casa, al interior de un@ mism@, al sentido de la vida, tiene lugar por un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camino nuevo. 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Siempre hay estrellas brillando  en nuestro horizonte.</a:t>
            </a:r>
            <a:br>
              <a:rPr sz="1800"/>
            </a:br>
            <a:r>
              <a:rPr b="0" lang="es-ES" sz="1800" spc="-1" strike="noStrike">
                <a:solidFill>
                  <a:srgbClr val="003300"/>
                </a:solidFill>
                <a:latin typeface="Comic Sans MS"/>
              </a:rPr>
              <a:t>Siempre podemos intentar ser estrellas en el horizonte de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ERSONAS%20RELOJES%20CA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219320"/>
            <a:ext cx="8458200" cy="54363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y me he encontrado en las manos con tus regalos, Señ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eva vida, nuevo tiempo, nueva lluvia, nuevo sol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eso, para este tiempo que estreno con ilusió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ero, Señor, y te pido también un nuevo reloj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eloj que mida el tiempo como lo mide tu am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se pare cuando lleguen las personas a mi rincó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 escuchar, compartiendo, alegrías y dol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reloj que me sitúe la mente y el corazón en el momento presente, que es tu momento, Señor, en el quehacer cotidia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es lugar de encarnació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eloj que mida el tiempo con tu paciencia, Señ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el ritmo y la medida universal del amor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pertador de rutinas, vigilante, ayudador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nunca mida la entrega del tiempo y del co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la vida, con el tiempo que hoy me regalas, Seño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 darme sin medid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ero un nuevo relo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304920"/>
            <a:ext cx="2400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 nuevo reloj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7:28:24Z</dcterms:created>
  <dc:creator> M.Asun Gutiérrez</dc:creator>
  <dc:description/>
  <dc:language>en-US</dc:language>
  <cp:lastModifiedBy>Usuario</cp:lastModifiedBy>
  <dcterms:modified xsi:type="dcterms:W3CDTF">2010-01-01T21:26:12Z</dcterms:modified>
  <cp:revision>7</cp:revision>
  <dc:subject>jeasam@gmail.com</dc:subject>
  <dc:title>Epifanía de Jesús</dc:title>
</cp:coreProperties>
</file>