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nyaPilgrim.wav" ContentType="audio/x-wav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0E3-902C-47B0-A06C-178F7A0E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34C8-6F52-4BDE-9309-4FDC244A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F0A-492D-43F6-8C7B-B05A375E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36F-B574-413D-96B1-92CBE9D4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67A-A882-4660-A341-EB448521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AA1E-1549-4F1F-8F17-63ABA81F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F2B7-F251-47AA-8D0B-A3527EA5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CC00-7B6F-4C34-8375-459C1C41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28E-BF1B-4484-8FF1-764CF0A8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496-1B4A-4A1F-A8AF-18032C73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85E-0061-49F7-968E-10BB3F71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C61-CDFD-4E3E-8749-54CB903F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3866-BBBB-47A2-89C7-B4CB141B479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nyaPilgrim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08080"/>
                </a:solidFill>
                <a:latin typeface="Times New Roman"/>
              </a:rPr>
              <a:t>El puente mas bello del mu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1" name="EnyaPilgrim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4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4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4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4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50920" y="1157400"/>
            <a:ext cx="864216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Sin embargo, hay uno que fue construido hace muchos siglos y aún permanece dando testimonio de su belleza, ingenio, hermosura y funcionalida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Además, aún hoy, 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“</a:t>
            </a:r>
            <a:r>
              <a:rPr b="1" lang="es-MX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E</a:t>
            </a:r>
            <a:r>
              <a:rPr b="1" lang="es-ES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l mayor y mejor </a:t>
            </a:r>
            <a:r>
              <a:rPr b="1" lang="es-MX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p</a:t>
            </a:r>
            <a:r>
              <a:rPr b="1" lang="es-ES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uente construido en la historia de la humanidad</a:t>
            </a:r>
            <a:r>
              <a:rPr b="1" lang="es-MX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lide0020_image021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1692360" y="1628640"/>
            <a:ext cx="5943600" cy="4680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250920" y="0"/>
            <a:ext cx="8534160" cy="212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Charter BT"/>
                <a:ea typeface="Times New Roman"/>
              </a:rPr>
              <a:t>¡</a:t>
            </a:r>
            <a:r>
              <a:rPr b="0" lang="es-ES" sz="2400" spc="-1" strike="noStrike">
                <a:solidFill>
                  <a:srgbClr val="ffff99"/>
                </a:solidFill>
                <a:latin typeface="Charter BT"/>
                <a:ea typeface="Times New Roman"/>
              </a:rPr>
              <a:t>Y el Verbo se hizo carne y habitó entre nosotr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harter BT"/>
                <a:ea typeface="Times New Roman"/>
              </a:rPr>
              <a:t>Construido por el Espíritu Santo desde María Virg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Charter BT"/>
                <a:ea typeface="Times New Roman"/>
              </a:rPr>
              <a:t>une</a:t>
            </a:r>
            <a:r>
              <a:rPr b="0" lang="es-ES" sz="2400" spc="-1" strike="noStrike">
                <a:solidFill>
                  <a:srgbClr val="ffff99"/>
                </a:solidFill>
                <a:latin typeface="Charter BT"/>
                <a:ea typeface="Times New Roman"/>
              </a:rPr>
              <a:t> para siempre el Cielo y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050920" y="630864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Charter BT"/>
              </a:rPr>
              <a:t>Ella: el puente entre Dios y el hom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34920" y="428760"/>
            <a:ext cx="216072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1" lang="es-VE" sz="2800" spc="-1" strike="noStrike">
                <a:solidFill>
                  <a:srgbClr val="ffffff"/>
                </a:solidFill>
                <a:latin typeface="Monotype Corsiva"/>
              </a:rPr>
              <a:t>Dulce Madre, no te alej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Monotype Corsiva"/>
              </a:rPr>
              <a:t>Tu vista de mi no apar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Monotype Corsiva"/>
              </a:rPr>
              <a:t>Ven conmigo a todas partes y solo nunca me dejes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7093080" y="3429000"/>
            <a:ext cx="180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Monotype Corsiva"/>
              </a:rPr>
              <a:t>Que Ella te bendiga y te cubra con su manto maternal  y te acompañe siemp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Rectángulo" descr=""/>
          <p:cNvPicPr/>
          <p:nvPr/>
        </p:nvPicPr>
        <p:blipFill>
          <a:blip r:embed="rId1"/>
          <a:stretch/>
        </p:blipFill>
        <p:spPr>
          <a:xfrm>
            <a:off x="433440" y="2535120"/>
            <a:ext cx="8265960" cy="2365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Rectángulo" descr=""/>
          <p:cNvPicPr/>
          <p:nvPr/>
        </p:nvPicPr>
        <p:blipFill>
          <a:blip r:embed="rId1"/>
          <a:stretch/>
        </p:blipFill>
        <p:spPr>
          <a:xfrm>
            <a:off x="384120" y="2835360"/>
            <a:ext cx="8369280" cy="147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3520" y="380880"/>
            <a:ext cx="7315200" cy="20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Desde tiempo inmemorial el hombre intentó acortar distanc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33520" y="4648320"/>
            <a:ext cx="8153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Book Antiqua"/>
                <a:ea typeface="Times New Roman"/>
              </a:rPr>
              <a:t>Sin duda, los puentes fueron u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Book Antiqua"/>
                <a:ea typeface="Times New Roman"/>
              </a:rPr>
              <a:t>de los instrumentos más útiles 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Book Antiqua"/>
                <a:ea typeface="Times New Roman"/>
              </a:rPr>
              <a:t>los que se valió para ell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819520" y="0"/>
            <a:ext cx="63244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Algunos  parecen querer demostrar la  fuerza racional de los ingenieros que los diseñaron..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533520" y="4572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Book Antiqua"/>
                <a:ea typeface="Times New Roman"/>
              </a:rPr>
              <a:t>Otros son esbeltos e interminables..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685800" y="556272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Book Antiqua"/>
                <a:ea typeface="Times New Roman"/>
              </a:rPr>
              <a:t>Otros, en cambio, son una miniatura delicada y risueña...</a:t>
            </a:r>
            <a:r>
              <a:rPr b="0" lang="es-ES" sz="2800" spc="-1" strike="noStrike">
                <a:solidFill>
                  <a:srgbClr val="ffff66"/>
                </a:solidFill>
                <a:latin typeface="Charter BT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6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28600" y="5105520"/>
            <a:ext cx="63244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Book Antiqua"/>
                <a:ea typeface="Times New Roman"/>
              </a:rPr>
              <a:t>Otros parece que fueron diseñados por espíritus angélicos para ambientar un cuento de hadas...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04920" y="4602240"/>
            <a:ext cx="7543800" cy="22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Book Antiqua"/>
                <a:ea typeface="Times New Roman"/>
              </a:rPr>
              <a:t>Están los que quieren manifest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Book Antiqua"/>
                <a:ea typeface="Times New Roman"/>
              </a:rPr>
              <a:t>la fuerza de los adelantos científic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8600" y="304920"/>
            <a:ext cx="2286000" cy="39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Otros</a:t>
            </a:r>
            <a:r>
              <a:rPr b="1" lang="es-MX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guardan el recuer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de mil historias, leyend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Book Antiqua"/>
                <a:ea typeface="Times New Roman"/>
              </a:rPr>
              <a:t>traiciones y secretos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572000" y="5229360"/>
            <a:ext cx="4572000" cy="24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Book Antiqua"/>
                <a:ea typeface="Times New Roman"/>
              </a:rPr>
              <a:t>Mientras que en algunos el arquitecto quiso esconder toda la poesí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1:21:48Z</dcterms:created>
  <dc:creator>HP</dc:creator>
  <dc:description/>
  <dc:language>en-US</dc:language>
  <cp:lastModifiedBy>HP</cp:lastModifiedBy>
  <dcterms:modified xsi:type="dcterms:W3CDTF">2011-03-27T01:57:18Z</dcterms:modified>
  <cp:revision>4</cp:revision>
  <dc:subject/>
  <dc:title>El puente mas bello</dc:title>
</cp:coreProperties>
</file>