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EnyaPilgrim.wav" ContentType="audio/x-wav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125B-04A8-4464-81C7-A915F78D7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E629-6EFC-46B3-AE55-39FD948B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765C-D372-486D-871C-1BE76C2E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C8BB-9A6E-48BF-8C97-426CD7004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C675-61B0-4D5F-B90F-9989A55D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B35D-A4DD-4013-A9E8-C192692C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B2C3-714D-4594-BE76-12378978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13FB-E72B-4E90-9376-FD02FF7B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D0F0-5ADB-4564-B596-78F39CA6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73BD-EF2D-4D4A-9488-7ADD360C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35CF-A0F8-4145-96F7-1F7E8317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7E2B-B38A-4E93-8EF8-580F5B94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9F3B-3523-4F42-935E-1938D9BE6CA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nyaPilgrim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08080"/>
                </a:solidFill>
                <a:latin typeface="Times New Roman"/>
              </a:rPr>
              <a:t>El puente mas bello del mun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1" name="EnyaPilgrim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4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4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4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4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50920" y="1157400"/>
            <a:ext cx="864216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Book Antiqua"/>
                <a:ea typeface="Times New Roman"/>
              </a:rPr>
              <a:t>Sin embargo, hay uno que fue construido hace muchos siglos y aún permanece dando testimonio de su belleza, ingenio, hermosura y funcionalidad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Book Antiqua"/>
                <a:ea typeface="Times New Roman"/>
              </a:rPr>
              <a:t>Además, aún hoy, 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Book Antiqua"/>
                <a:ea typeface="Times New Roman"/>
              </a:rPr>
              <a:t>“</a:t>
            </a:r>
            <a:r>
              <a:rPr b="1" lang="es-MX" sz="2800" spc="-1" strike="noStrike">
                <a:solidFill>
                  <a:srgbClr val="ffff99"/>
                </a:solidFill>
                <a:latin typeface="Book Antiqua"/>
                <a:ea typeface="Times New Roman"/>
              </a:rPr>
              <a:t>E</a:t>
            </a:r>
            <a:r>
              <a:rPr b="1" lang="es-ES" sz="2800" spc="-1" strike="noStrike">
                <a:solidFill>
                  <a:srgbClr val="ffff99"/>
                </a:solidFill>
                <a:latin typeface="Book Antiqua"/>
                <a:ea typeface="Times New Roman"/>
              </a:rPr>
              <a:t>l mayor y mejor </a:t>
            </a:r>
            <a:r>
              <a:rPr b="1" lang="es-MX" sz="2800" spc="-1" strike="noStrike">
                <a:solidFill>
                  <a:srgbClr val="ffff99"/>
                </a:solidFill>
                <a:latin typeface="Book Antiqua"/>
                <a:ea typeface="Times New Roman"/>
              </a:rPr>
              <a:t>p</a:t>
            </a:r>
            <a:r>
              <a:rPr b="1" lang="es-ES" sz="2800" spc="-1" strike="noStrike">
                <a:solidFill>
                  <a:srgbClr val="ffff99"/>
                </a:solidFill>
                <a:latin typeface="Book Antiqua"/>
                <a:ea typeface="Times New Roman"/>
              </a:rPr>
              <a:t>uente construido en la historia de la humanidad</a:t>
            </a:r>
            <a:r>
              <a:rPr b="1" lang="es-MX" sz="2800" spc="-1" strike="noStrike">
                <a:solidFill>
                  <a:srgbClr val="ffff99"/>
                </a:solidFill>
                <a:latin typeface="Book Antiqua"/>
                <a:ea typeface="Times New Roman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slide0020_image021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1692360" y="1628640"/>
            <a:ext cx="5943600" cy="4680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250920" y="0"/>
            <a:ext cx="8534160" cy="212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Charter BT"/>
                <a:ea typeface="Times New Roman"/>
              </a:rPr>
              <a:t>¡</a:t>
            </a:r>
            <a:r>
              <a:rPr b="0" lang="es-ES" sz="2400" spc="-1" strike="noStrike">
                <a:solidFill>
                  <a:srgbClr val="ffff99"/>
                </a:solidFill>
                <a:latin typeface="Charter BT"/>
                <a:ea typeface="Times New Roman"/>
              </a:rPr>
              <a:t>Y el Verbo se hizo carne y habitó entre nosotr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Charter BT"/>
                <a:ea typeface="Times New Roman"/>
              </a:rPr>
              <a:t>Construido por el Espíritu Santo desde María Virg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Charter BT"/>
                <a:ea typeface="Times New Roman"/>
              </a:rPr>
              <a:t>une</a:t>
            </a:r>
            <a:r>
              <a:rPr b="0" lang="es-ES" sz="2400" spc="-1" strike="noStrike">
                <a:solidFill>
                  <a:srgbClr val="ffff99"/>
                </a:solidFill>
                <a:latin typeface="Charter BT"/>
                <a:ea typeface="Times New Roman"/>
              </a:rPr>
              <a:t> para siempre el Cielo y la 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050920" y="630864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Charter BT"/>
              </a:rPr>
              <a:t>Ella: el puente entre Dios y el homb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34920" y="428760"/>
            <a:ext cx="216072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Monotype Corsiva"/>
              </a:rPr>
              <a:t>“</a:t>
            </a:r>
            <a:r>
              <a:rPr b="1" lang="es-VE" sz="2800" spc="-1" strike="noStrike">
                <a:solidFill>
                  <a:srgbClr val="ffffff"/>
                </a:solidFill>
                <a:latin typeface="Monotype Corsiva"/>
              </a:rPr>
              <a:t>Dulce Madre, no te alej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Monotype Corsiva"/>
              </a:rPr>
              <a:t>Tu vista de mi no apar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Monotype Corsiva"/>
              </a:rPr>
              <a:t>Ven conmigo a todas partes y solo nunca me dejes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7093080" y="3429000"/>
            <a:ext cx="1800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Monotype Corsiva"/>
              </a:rPr>
              <a:t>Que Ella te bendiga y te cubra con su manto maternal  y te acompañe siemp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 Rectángulo" descr=""/>
          <p:cNvPicPr/>
          <p:nvPr/>
        </p:nvPicPr>
        <p:blipFill>
          <a:blip r:embed="rId1"/>
          <a:stretch/>
        </p:blipFill>
        <p:spPr>
          <a:xfrm>
            <a:off x="433440" y="2535120"/>
            <a:ext cx="8265960" cy="2365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 Rectángulo" descr=""/>
          <p:cNvPicPr/>
          <p:nvPr/>
        </p:nvPicPr>
        <p:blipFill>
          <a:blip r:embed="rId1"/>
          <a:stretch/>
        </p:blipFill>
        <p:spPr>
          <a:xfrm>
            <a:off x="384120" y="2835360"/>
            <a:ext cx="8369280" cy="1474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533520" y="380880"/>
            <a:ext cx="7315200" cy="20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Book Antiqua"/>
                <a:ea typeface="Times New Roman"/>
              </a:rPr>
              <a:t>Desde tiempo inmemorial el hombre intentó acortar distanc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33520" y="4648320"/>
            <a:ext cx="81532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Book Antiqua"/>
                <a:ea typeface="Times New Roman"/>
              </a:rPr>
              <a:t>Sin duda, los puentes fueron u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Book Antiqua"/>
                <a:ea typeface="Times New Roman"/>
              </a:rPr>
              <a:t>de los instrumentos más útiles 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Book Antiqua"/>
                <a:ea typeface="Times New Roman"/>
              </a:rPr>
              <a:t>los que se valió para ell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2819520" y="0"/>
            <a:ext cx="632448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Book Antiqua"/>
                <a:ea typeface="Times New Roman"/>
              </a:rPr>
              <a:t>Algunos  parecen querer demostrar la  fuerza racional de los ingenieros que los diseñaron..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533520" y="45720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Book Antiqua"/>
                <a:ea typeface="Times New Roman"/>
              </a:rPr>
              <a:t>Otros son esbeltos e interminables..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685800" y="556272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Book Antiqua"/>
                <a:ea typeface="Times New Roman"/>
              </a:rPr>
              <a:t>Otros, en cambio, son una miniatura delicada y risueña...</a:t>
            </a:r>
            <a:r>
              <a:rPr b="0" lang="es-ES" sz="2800" spc="-1" strike="noStrike">
                <a:solidFill>
                  <a:srgbClr val="ffff66"/>
                </a:solidFill>
                <a:latin typeface="Charter BT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6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6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28600" y="5105520"/>
            <a:ext cx="632448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Book Antiqua"/>
                <a:ea typeface="Times New Roman"/>
              </a:rPr>
              <a:t>Otros parece que fueron diseñados por espíritus angélicos para ambientar un cuento de hadas...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04920" y="4602240"/>
            <a:ext cx="7543800" cy="228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Book Antiqua"/>
                <a:ea typeface="Times New Roman"/>
              </a:rPr>
              <a:t>Están los que quieren manifest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Book Antiqua"/>
                <a:ea typeface="Times New Roman"/>
              </a:rPr>
              <a:t>la fuerza de los adelantos científico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8600" y="304920"/>
            <a:ext cx="2286000" cy="39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Book Antiqua"/>
                <a:ea typeface="Times New Roman"/>
              </a:rPr>
              <a:t>Otros</a:t>
            </a:r>
            <a:r>
              <a:rPr b="1" lang="es-MX" sz="2800" spc="-1" strike="noStrike">
                <a:solidFill>
                  <a:srgbClr val="ffff99"/>
                </a:solidFill>
                <a:latin typeface="Book Antiqua"/>
                <a:ea typeface="Times New Roman"/>
              </a:rPr>
              <a:t> </a:t>
            </a:r>
            <a:r>
              <a:rPr b="1" lang="es-ES" sz="2800" spc="-1" strike="noStrike">
                <a:solidFill>
                  <a:srgbClr val="ffff99"/>
                </a:solidFill>
                <a:latin typeface="Book Antiqua"/>
                <a:ea typeface="Times New Roman"/>
              </a:rPr>
              <a:t>guardan el recuer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Book Antiqua"/>
                <a:ea typeface="Times New Roman"/>
              </a:rPr>
              <a:t>de mil historias, leyenda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Book Antiqua"/>
                <a:ea typeface="Times New Roman"/>
              </a:rPr>
              <a:t>traiciones y secretos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u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4572000" y="5229360"/>
            <a:ext cx="4572000" cy="244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Book Antiqua"/>
                <a:ea typeface="Times New Roman"/>
              </a:rPr>
              <a:t>Mientras que en algunos el arquitecto quiso esconder toda la poesí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01:21:48Z</dcterms:created>
  <dc:creator>HP</dc:creator>
  <dc:description/>
  <dc:language>en-US</dc:language>
  <cp:lastModifiedBy>HP</cp:lastModifiedBy>
  <dcterms:modified xsi:type="dcterms:W3CDTF">2011-03-27T01:57:18Z</dcterms:modified>
  <cp:revision>4</cp:revision>
  <dc:subject/>
  <dc:title>El puente mas bello</dc:title>
</cp:coreProperties>
</file>