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Tears%20In%20Heaven%20122%202.04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5C02-8C6F-4FA5-AE20-8959E800F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6C8B-FA89-4B16-9ACE-2CA18B1C1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B542-8FF0-4A96-BDBB-2367518DA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8612-6E6D-4B7E-B248-1A10663A6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353F-0218-4036-8509-DA0585FFE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5F0D-6347-4205-B62F-E6E36C2C2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70B4-2C4A-465A-99C9-21A8672E2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1EE0-C48B-451D-9B07-867894BA1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903A-032F-4BD3-905B-6F9990D0E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C471-FFF9-40BA-8EAF-ED7D25E6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22CE-C495-46C0-A312-88D784EFC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6BB2-3D61-4C08-A225-21F3A1BE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0" y="6597360"/>
            <a:ext cx="9144000" cy="260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Times New Roman"/>
              </a:rPr>
              <a:t>Ria Slid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7EEA3-1702-4A16-8ADE-B61968D54EB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vanzapormas.com/" TargetMode="External"/><Relationship Id="rId3" Type="http://schemas.openxmlformats.org/officeDocument/2006/relationships/audio" Target="../media/Tears%20In%20Heaven%20122%202.04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avanzapormas.com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avanzapormas.com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avanzapormas.com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avanzapormas.com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avanzapormas.com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avanzapormas.com/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6666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097080" y="907920"/>
            <a:ext cx="6046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91"/>
                </a:solidFill>
                <a:latin typeface="Times New Roman"/>
              </a:rPr>
              <a:t>Un hombre, que regularmente asistía                                          a las reuniones de Amigos,                                                                         sin ningún aviso dejó de participar                                             en sus activida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211640" y="3560760"/>
            <a:ext cx="4643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91"/>
                </a:solidFill>
                <a:latin typeface="Times New Roman"/>
              </a:rPr>
              <a:t>Después de algunas semanas, un Amigo de aquel grupo decidió visitar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91"/>
                </a:solidFill>
                <a:latin typeface="Times New Roman"/>
              </a:rPr>
              <a:t>Era una noche muy frí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588000" y="64008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696000" y="6308640"/>
            <a:ext cx="244800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Colabora con la distribución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ccccff"/>
                </a:solidFill>
                <a:uFillTx/>
                <a:latin typeface="Arial Narrow"/>
                <a:hlinkClick r:id="rId2"/>
              </a:rPr>
              <a:t>www.AvanzaPorMas.com</a:t>
            </a:r>
            <a:r>
              <a:rPr b="0" lang="es-ES_tradnl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75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75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7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425"/>
                            </p:stCondLst>
                            <p:childTnLst>
                              <p:par>
                                <p:cTn id="1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rcRect l="0" t="7778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79280" y="533520"/>
            <a:ext cx="883944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91"/>
                </a:solidFill>
                <a:latin typeface="Times New Roman"/>
              </a:rPr>
              <a:t>Cuando alcanzó la puerta para partir,                                       su anfitrión le dijo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91"/>
                </a:solidFill>
                <a:latin typeface="Times New Roman"/>
              </a:rPr>
              <a:t>- Gracias por tu visita y por el bellísimo sermón.    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7640" y="5334120"/>
            <a:ext cx="78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91"/>
                </a:solidFill>
                <a:latin typeface="Times New Roman"/>
              </a:rPr>
              <a:t>Regresaré al grupo de Amigos que tan bien me hac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588000" y="64008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696000" y="6308640"/>
            <a:ext cx="244800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Colabora con la distribución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Narrow"/>
              </a:rPr>
              <a:t>www.AvanzaPorMas.c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2000">
    <p:fad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75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75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6825"/>
                            </p:stCondLst>
                            <p:childTnLst>
                              <p:par>
                                <p:cTn id="156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75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75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1900"/>
                            </p:stCondLst>
                            <p:childTnLst>
                              <p:par>
                                <p:cTn id="16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rcRect l="0" t="1000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95280" y="2508120"/>
            <a:ext cx="830592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91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ffff91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ff91"/>
                </a:solidFill>
                <a:latin typeface="Times New Roman"/>
              </a:rPr>
              <a:t>los miembros de un grupo                                   vale recordarles                                        que ellos forman parte de la llama                                                         y que lejos del grupo                                     pierden todo su brillo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341520" y="1214280"/>
            <a:ext cx="310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91"/>
                </a:solidFill>
                <a:latin typeface="Times New Roman"/>
              </a:rPr>
              <a:t>Reflexió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588000" y="64008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96000" y="6308640"/>
            <a:ext cx="244800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Colabora con la distribución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Narrow"/>
              </a:rPr>
              <a:t>www.AvanzaPorMas.c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2000">
    <p:fad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75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75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75"/>
                            </p:stCondLst>
                            <p:childTnLst>
                              <p:par>
                                <p:cTn id="18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5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0" t="1000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79280" y="571680"/>
            <a:ext cx="8785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91"/>
                </a:solidFill>
                <a:latin typeface="Times New Roman"/>
              </a:rPr>
              <a:t>A los Amigos vale recordarles                        que ellos son responsables                                    de mantener encendida                                   la llama de la AMISTAD en cada uno de los miembros y de promover la unión entre todos ellos, para que el fuego sea realmente fuerte, eficaz y durader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580000" y="5516640"/>
            <a:ext cx="3564000" cy="1068840"/>
          </a:xfrm>
          <a:prstGeom prst="rect">
            <a:avLst/>
          </a:prstGeom>
          <a:solidFill>
            <a:srgbClr val="000000">
              <a:alpha val="70000"/>
            </a:srgbClr>
          </a:solidFill>
          <a:ln w="9360">
            <a:solidFill>
              <a:srgbClr val="ffff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91"/>
                </a:solidFill>
                <a:latin typeface="Arial"/>
              </a:rPr>
              <a:t>QUE TENGAS UN LINDO DIA 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08000" y="6338880"/>
            <a:ext cx="244800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Colabora con la distribución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Narrow"/>
              </a:rPr>
              <a:t>www.AvanzaPorMas.c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75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75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4250"/>
                            </p:stCondLst>
                            <p:childTnLst>
                              <p:par>
                                <p:cTn id="194" nodeType="afterEffect" fill="hold" presetClass="entr" presetID="4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8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75564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www.AvanzaPorMas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Para que tu vida no se detenga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______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www.Luminares.com.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Rescatando el valor de lo esencial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771640" y="189000"/>
            <a:ext cx="6172200" cy="64371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332000" y="4862520"/>
            <a:ext cx="649116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91"/>
                </a:solidFill>
                <a:latin typeface="Times New Roman"/>
              </a:rPr>
              <a:t>El Amigo lo encontró en la casa, solo,  sentado delante de la chimenea,                                           donde ardía un fuego brillante y acogedo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588000" y="64008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96000" y="6308640"/>
            <a:ext cx="244800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Colabora con la distribución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ccccff"/>
                </a:solidFill>
                <a:uFillTx/>
                <a:latin typeface="Arial Narrow"/>
                <a:hlinkClick r:id="rId2"/>
              </a:rPr>
              <a:t>www.AvanzaPorMas.com</a:t>
            </a:r>
            <a:r>
              <a:rPr b="0" lang="es-ES_tradnl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75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75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7050"/>
                            </p:stCondLst>
                            <p:childTnLst>
                              <p:par>
                                <p:cTn id="2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7778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80880" y="533520"/>
            <a:ext cx="807876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91"/>
                </a:solidFill>
                <a:latin typeface="Times New Roman"/>
              </a:rPr>
              <a:t>Adivinando la razón de la visita,                                                de su Amigo le dio la bienvenida ,                                                       lo condujo a una silla grande cerca de la chimenea                         y se quedó quieto, esperand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588000" y="64008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696000" y="6308640"/>
            <a:ext cx="244800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Colabora con la distribución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ccccff"/>
                </a:solidFill>
                <a:uFillTx/>
                <a:latin typeface="Arial Narrow"/>
                <a:hlinkClick r:id="rId2"/>
              </a:rPr>
              <a:t>www.AvanzaPorMas.com</a:t>
            </a:r>
            <a:r>
              <a:rPr b="0" lang="es-ES_tradnl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2000"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75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75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9075"/>
                            </p:stCondLst>
                            <p:childTnLst>
                              <p:par>
                                <p:cTn id="4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6248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40464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91"/>
                </a:solidFill>
                <a:latin typeface="Times New Roman"/>
              </a:rPr>
              <a:t>Se hizo un grave silencio.                                                                                  Los dos hombres sólo contemplaban                                                    la danza de las llamas                                                                         en torno de los troncos de leña que ardí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588000" y="64008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696000" y="6308640"/>
            <a:ext cx="244800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Colabora con la distribución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ccccff"/>
                </a:solidFill>
                <a:uFillTx/>
                <a:latin typeface="Arial Narrow"/>
                <a:hlinkClick r:id="rId2"/>
              </a:rPr>
              <a:t>www.AvanzaPorMas.com</a:t>
            </a:r>
            <a:r>
              <a:rPr b="0" lang="es-ES_tradnl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9000">
    <p:fad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75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75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800"/>
                            </p:stCondLst>
                            <p:childTnLst>
                              <p:par>
                                <p:cTn id="5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0" b="2333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08000" y="549360"/>
            <a:ext cx="891540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91"/>
                </a:solidFill>
                <a:latin typeface="Times New Roman"/>
              </a:rPr>
              <a:t>Al cabo de algunos minutos,                                                            el Amigo examinó las brasas que se formaron                           y cuidadosamente seleccionó una de ellas,                                  la más incandescente de todas,                                          empujándola hacia un lad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588000" y="64008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96000" y="6308640"/>
            <a:ext cx="244800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Colabora con la distribución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ccccff"/>
                </a:solidFill>
                <a:uFillTx/>
                <a:latin typeface="Arial Narrow"/>
                <a:hlinkClick r:id="rId2"/>
              </a:rPr>
              <a:t>www.AvanzaPorMas.com</a:t>
            </a:r>
            <a:r>
              <a:rPr b="0" lang="es-ES_tradnl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2000">
    <p:fad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800"/>
                            </p:stCondLst>
                            <p:childTnLst>
                              <p:par>
                                <p:cTn id="7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5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0" t="0" r="0" b="444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42920" y="457200"/>
            <a:ext cx="586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91"/>
                </a:solidFill>
                <a:latin typeface="Times New Roman"/>
              </a:rPr>
              <a:t>Volvió entonces a sentarse,                                          permaneciendo silencioso e inmóvi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98480" y="2822400"/>
            <a:ext cx="510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91"/>
                </a:solidFill>
                <a:latin typeface="Times New Roman"/>
              </a:rPr>
              <a:t>El anfitrión prestaba atención         a todo, fascinado y quiet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35280" y="4581360"/>
            <a:ext cx="7315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91"/>
                </a:solidFill>
                <a:latin typeface="Times New Roman"/>
              </a:rPr>
              <a:t>Al poco rato,                                                                       la llama de la brasa solitaria disminuyó,                                                                     hasta que sólo hubo un brillo momentáneo                                                          y su fuego se apagó de una ve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588000" y="64008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696000" y="6308640"/>
            <a:ext cx="244800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Colabora con la distribución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ccccff"/>
                </a:solidFill>
                <a:uFillTx/>
                <a:latin typeface="Arial Narrow"/>
                <a:hlinkClick r:id="rId2"/>
              </a:rPr>
              <a:t>www.AvanzaPorMas.com</a:t>
            </a:r>
            <a:r>
              <a:rPr b="0" lang="es-ES_tradnl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2000">
    <p:fad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75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75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420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75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75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9950"/>
                            </p:stCondLst>
                            <p:childTnLst>
                              <p:par>
                                <p:cTn id="90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75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75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9750"/>
                            </p:stCondLst>
                            <p:childTnLst>
                              <p:par>
                                <p:cTn id="9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0" t="0" r="0" b="444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08040" y="549360"/>
            <a:ext cx="7924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91"/>
                </a:solidFill>
                <a:latin typeface="Times New Roman"/>
              </a:rPr>
              <a:t>En poco tiempo,                                                          lo que antes era una fiesta de calor y luz,               ahora no pasaba de ser un negro, frío y muerto                pedazo de carbón recubierto de una espesa capa                de ceniza grisác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92360" y="4267080"/>
            <a:ext cx="5486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91"/>
                </a:solidFill>
                <a:latin typeface="Times New Roman"/>
              </a:rPr>
              <a:t>Ninguna palabra había sido dicha                desde el protocolar saludo inicial                entre los dos amig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588000" y="64008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696000" y="6308640"/>
            <a:ext cx="244800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Colabora con la distribución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ccccff"/>
                </a:solidFill>
                <a:uFillTx/>
                <a:latin typeface="Arial Narrow"/>
                <a:hlinkClick r:id="rId2"/>
              </a:rPr>
              <a:t>www.AvanzaPorMas.com</a:t>
            </a:r>
            <a:r>
              <a:rPr b="0" lang="es-ES_tradnl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2000"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75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75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9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8200"/>
                            </p:stCondLst>
                            <p:childTnLst>
                              <p:par>
                                <p:cTn id="11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5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0" y="0"/>
            <a:ext cx="327672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4360" y="4437000"/>
            <a:ext cx="7705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91"/>
                </a:solidFill>
                <a:latin typeface="Times New Roman"/>
              </a:rPr>
              <a:t>                                                                                           </a:t>
            </a:r>
            <a:r>
              <a:rPr b="1" i="1" lang="pt-BR" sz="2800" spc="-1" strike="noStrike">
                <a:solidFill>
                  <a:srgbClr val="ffff91"/>
                </a:solidFill>
                <a:latin typeface="Times New Roman"/>
              </a:rPr>
              <a:t>Antes de prepararse para salir,                   manipuló nuevamente el carbón frío e inútil, colocándolo de nuevo en el medio del fuego.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588000" y="64008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696000" y="6308640"/>
            <a:ext cx="244800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Colabora con la distribución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Narrow"/>
              </a:rPr>
              <a:t>www.AvanzaPorMas.c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fad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7575"/>
                            </p:stCondLst>
                            <p:childTnLst>
                              <p:par>
                                <p:cTn id="12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0"/>
            <a:ext cx="327672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502920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91"/>
                </a:solidFill>
                <a:latin typeface="Times New Roman"/>
              </a:rPr>
              <a:t>Casi inmediatamente se volvió a encender,                                              alimentado por la luz y el calor                                                                               de los carbones ardientes en torno de é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588000" y="64008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696000" y="6308640"/>
            <a:ext cx="244800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Colabora con la distribución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Narrow"/>
              </a:rPr>
              <a:t>www.AvanzaPorMas.c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9000">
    <p:fad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7200"/>
                            </p:stCondLst>
                            <p:childTnLst>
                              <p:par>
                                <p:cTn id="14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5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23:00:25Z</dcterms:created>
  <dc:creator>RICARDO-1</dc:creator>
  <dc:description/>
  <dc:language>en-US</dc:language>
  <cp:lastModifiedBy>WinuE</cp:lastModifiedBy>
  <dcterms:modified xsi:type="dcterms:W3CDTF">2009-02-23T21:11:10Z</dcterms:modified>
  <cp:revision>2</cp:revision>
  <dc:subject>Categoria: Slides Traduzidos - Espanhol</dc:subject>
  <dc:title>Diapositiva 1</dc:title>
</cp:coreProperties>
</file>