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ears%20In%20Heaven%20122%202.04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8C4-66C4-447E-98B4-1C26AC78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DE5-81E1-4F50-9BCC-F23A9A9D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C1C-70E6-48AB-83E8-3F9C11AD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387-A875-473E-973C-5AFDB82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387-7D0C-4B3D-844D-C6B2DF1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E0F-FA61-48B0-ABD6-0806B9B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896-3B11-4BF4-9DB5-67DDF68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2A7-9EF6-41E6-80B7-0BC05896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04D-0351-4C01-8F68-5CBD8F01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3A2-F1A1-446D-A101-43FDCBB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CBF-B14F-4F04-A075-28F1CB2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4BB-B422-4CA0-A14D-0433391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217E-C0DA-498F-A50D-5F4949FB90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anzapormas.com/" TargetMode="External"/><Relationship Id="rId3" Type="http://schemas.openxmlformats.org/officeDocument/2006/relationships/audio" Target="../media/Tears%20In%20Heaven%20122%202.04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anzapormas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6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7080" y="907920"/>
            <a:ext cx="6046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Un hombre, que regularmente asistía                                          a las reuniones de Amigos,                                                                         sin ningún aviso dejó de participar                                             en su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3560760"/>
            <a:ext cx="464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Después de algunas semanas, un Amigo de aquel grupo decidió visit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Era una noche muy f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425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77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33520"/>
            <a:ext cx="8839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Cuando alcanzó la puerta para partir,                                       su anfitrión le dij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- Gracias por tu visita y por el bellísimo sermón.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640" y="533412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91"/>
                </a:solidFill>
                <a:latin typeface="Times New Roman"/>
              </a:rPr>
              <a:t>Regresaré al grupo de Amigos que tan bien me h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825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1000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2508120"/>
            <a:ext cx="8305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1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ff9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91"/>
                </a:solidFill>
                <a:latin typeface="Times New Roman"/>
              </a:rPr>
              <a:t>los miembros de un grupo                                   vale recordarles                                        que ellos forman parte de la llama                                                         y que lejos del grupo                                     pierden todo su brill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41520" y="121428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91"/>
                </a:solidFill>
                <a:latin typeface="Times New Roman"/>
              </a:rPr>
              <a:t>Reflex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75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1000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9280" y="57168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91"/>
                </a:solidFill>
                <a:latin typeface="Times New Roman"/>
              </a:rPr>
              <a:t>A los Amigos vale recordarles                        que ellos son responsables                                    de mantener encendida                                   la llama de la AMISTAD en cada uno de los miembros y de promover la unión entre todos ellos, para que el fuego sea realmente fuerte, eficaz y durad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5516640"/>
            <a:ext cx="3564000" cy="106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fff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1"/>
                </a:solidFill>
                <a:latin typeface="Arial"/>
              </a:rPr>
              <a:t>QUE TENGAS UN LINDO DIA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633888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2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www.AvanzaPorMa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ara que tu vida no se deteng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www.Luminares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Rescatando el valor de lo esenc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6172200" cy="6437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4862520"/>
            <a:ext cx="6491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El Amigo lo encontró en la casa, solo,  sentado delante de la chimenea,                                           donde ardía un fuego brillante y acoged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5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7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33520"/>
            <a:ext cx="8078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divinando la razón de la visita,                                                de su Amigo le dio la bienvenida ,                                                       lo condujo a una silla grande cerca de la chimenea                         y se quedó quieto, esperan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75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24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04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Se hizo un grave silencio.                                                                                  Los dos hombres sólo contemplaban                                                    la danza de las llamas                                                                         en torno de los troncos de leña que ardí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8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233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549360"/>
            <a:ext cx="8915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l cabo de algunos minutos,                                                            el Amigo examinó las brasas que se formaron                           y cuidadosamente seleccionó una de ellas,                                  la más incandescente de todas,                                          empujándola hacia un l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8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4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2920" y="457200"/>
            <a:ext cx="58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Volvió entonces a sentarse,                                          permaneciendo silencioso e inmóvi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8480" y="2822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El anfitrión prestaba atención         a todo, fascinado y quie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58136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Al poco rato,                                                                       la llama de la brasa solitaria disminuyó,                                                                     hasta que sólo hubo un brillo momentáneo                                                          y su fuego se apagó de un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2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95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75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44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8040" y="54936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En poco tiempo,                                                          lo que antes era una fiesta de calor y luz,               ahora no pasaba de ser un negro, frío y muerto                pedazo de carbón recubierto de una espesa capa                de ceniza grisác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426708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Ninguna palabra había sido dicha                desde el protocolar saludo inicial                entre los dos ami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www.AvanzaPorMas.com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2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3276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437000"/>
            <a:ext cx="77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pt-BR" sz="2800" spc="-1" strike="noStrike">
                <a:solidFill>
                  <a:srgbClr val="ffff91"/>
                </a:solidFill>
                <a:latin typeface="Times New Roman"/>
              </a:rPr>
              <a:t>Antes de prepararse para salir,                   manipuló nuevamente el carbón frío e inútil, colocándolo de nuevo en el medio del fuego.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575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3276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0292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1"/>
                </a:solidFill>
                <a:latin typeface="Times New Roman"/>
              </a:rPr>
              <a:t>Casi inmediatamente se volvió a encender,                                              alimentado por la luz y el calor                                                                               de los carbones ardientes en torno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6400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6308640"/>
            <a:ext cx="244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labora con la distribución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www.AvanzaPorMa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00:25Z</dcterms:created>
  <dc:creator>RICARDO-1</dc:creator>
  <dc:description/>
  <dc:language>en-US</dc:language>
  <cp:lastModifiedBy>WinuE</cp:lastModifiedBy>
  <dcterms:modified xsi:type="dcterms:W3CDTF">2009-02-23T21:11:10Z</dcterms:modified>
  <cp:revision>2</cp:revision>
  <dc:subject>Categoria: Slides Traduzidos - Espanhol</dc:subject>
  <dc:title>Diapositiva 1</dc:title>
</cp:coreProperties>
</file>