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rey2_CUT.wav" ContentType="audio/x-wav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85A2-48AA-44C5-8EB4-F2BFF266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76C-033B-4A4A-936D-61D78EFD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72BE-ECBD-44B2-9E7C-15BE4678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18DD-E15B-42B3-830D-9D531B44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5EF-88D2-4B25-B1BC-851A343E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1CA2-1D80-493B-8400-615E2957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55F0-B633-4639-A00D-87817C37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4E9-703E-4C08-8056-F2272ED1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E71-50D0-46BA-ACB4-735341CD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F2E-BF9E-4FDA-8357-DA5EF746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CC4-5CBA-4B2D-9EC1-8802E46B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3191-2E1F-474F-97EF-071B8E5F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F981-CF44-4A64-86FB-DF5DBC7705CE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ey2_CU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812360" cy="58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6985080" cy="61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264360" cy="48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201080" cy="618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16360" y="2181240"/>
            <a:ext cx="2993760" cy="26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16360" y="2181240"/>
            <a:ext cx="2993760" cy="26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532720" cy="69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885080" cy="689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316720" cy="55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16360" y="2181240"/>
            <a:ext cx="2993760" cy="26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5096160" cy="7101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2:40:39Z</dcterms:created>
  <dc:creator>Carlangas</dc:creator>
  <dc:description/>
  <dc:language>en-US</dc:language>
  <cp:lastModifiedBy>WinuE</cp:lastModifiedBy>
  <dcterms:modified xsi:type="dcterms:W3CDTF">2007-12-16T13:30:54Z</dcterms:modified>
  <cp:revision>3</cp:revision>
  <dc:subject/>
  <dc:title>Villancico_Real</dc:title>
</cp:coreProperties>
</file>