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rey2_CUT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53C-0BAD-4A1B-8C03-9DB408CB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F28-72A3-4ED4-9E88-51EA39A5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45E-665E-4D0B-A53D-7E474061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FC0-E7BE-4DB4-91D3-458B1AEF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7A4-6668-4ADC-9305-6DC7550B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8FD-AD3B-4D5E-BD8F-A336D837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CF4-9B1A-41F2-9804-628C7057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D2D-1793-452A-98F0-BE184D2C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102-F11F-4042-B50A-57DDC482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A8D-D534-409E-941A-8CA4ED2D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18A7-A59C-4A62-9945-9C0C11F4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DAD-8889-4171-A4C1-98576E64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0B88-5A35-47C3-A46E-E6AF1550B52E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y2_CU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812360" cy="58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698508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26436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201080" cy="618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16360" y="2181240"/>
            <a:ext cx="2993760" cy="26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16360" y="2181240"/>
            <a:ext cx="2993760" cy="26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32720" cy="69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885080" cy="689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16720" cy="55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16360" y="2181240"/>
            <a:ext cx="2993760" cy="26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096160" cy="7101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2:40:39Z</dcterms:created>
  <dc:creator>Carlangas</dc:creator>
  <dc:description/>
  <dc:language>en-US</dc:language>
  <cp:lastModifiedBy>WinuE</cp:lastModifiedBy>
  <dcterms:modified xsi:type="dcterms:W3CDTF">2007-12-16T13:30:54Z</dcterms:modified>
  <cp:revision>3</cp:revision>
  <dc:subject/>
  <dc:title>Villancico_Real</dc:title>
</cp:coreProperties>
</file>