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0C6-1F30-4779-86CE-C48A2DA0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35A-B56E-4BDD-8289-B669B278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228-185E-4A99-A9C4-05C7B660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2EB-E0DF-4191-B6E0-72E1E78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27A-AA50-49C9-8EEF-C044BD73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BCE5-9645-4200-B2B6-D7C924E2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5B76-572E-422A-A08A-476084A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800-6170-4892-B73F-FC896FC2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A82-4659-4967-8F49-BC58569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6302-369E-4AB6-AF69-4B317266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1C0F-2656-49F3-8E44-7B1F971B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D52-D90B-4EEE-ADF4-626A6DA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ABD7-0CC5-4120-B495-4D71083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7DF9-5536-4674-8C48-1F831E8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0580-2445-4413-944F-711C6ED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B157-2E5E-4D3D-8D04-89293887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67FF-F92E-47F8-BB8E-9F873C70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CD3-940B-4DC4-A10D-AEB647B5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258-BCFE-48CC-AE56-88EE0ECB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410-ADB6-4440-98BF-524B512F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9D7-EB04-449C-A1AF-05DA6C20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082-09DD-4D4D-9BF9-222C869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F19-25F0-4E02-AB18-757D5FC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E23-79F4-4F4D-808B-1B071ADC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08BB-7947-4B58-9237-ABD7566877A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3AAD-ECE7-45CE-833C-2AD4953DB0B1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3880" y="2286000"/>
            <a:ext cx="65534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QUÉ ES PEN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MORALEJA</a:t>
            </a:r>
            <a:r>
              <a:rPr b="0" lang="es-ES_tradnl" sz="5400" spc="-1" strike="noStrike">
                <a:solidFill>
                  <a:srgbClr val="221304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752480" y="26668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Antes de dar una respuesta, averiguá primero el por qué de la pregunt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152388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nena llegó de la escuela, se acercó a su padre y le dij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Papá, ¿te puedo hacer una pregunti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Por supuesto mi a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¿Qué es pe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1447920"/>
            <a:ext cx="754380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hombre sonrió y se dijo a si mismo  “¡Cómo me jodió esta pendeja!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trataba de esos hombres a los que les gusta dar explicaciones a sus hijos, y la psicopedagoga le había dicho que a los niños hay que explicarles las cosas, pero sólo cuando las pregu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abía estado esperando este momento... ¡Y el momento había lle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523880"/>
            <a:ext cx="784836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ni mi amor, sentate acá al ladito m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rá, seguramente lo habrás oído nombrar de otra forma, porque es algo que tiene muchos nombres pop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tre los niños vas a oír hablar del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it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 lo escucharás con nombres de vegetale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zanahor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pepin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bana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chaucha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Y como verás los apodos pueden ser masculinos o femen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676520"/>
            <a:ext cx="762012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 se le da nombre de animale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pájar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o el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ajarit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víbor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bo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nutri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gans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instrumentos musicale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pito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flauta o la quen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y también de embutidos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l chorizo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salchich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a morcill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y todo tipo de otros nombres de fantas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mbién tiene nombres cariñosos como le dicen las mamás a los nenes: "qué cosita tan linda la que tiene mi bebé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447920"/>
            <a:ext cx="777240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 lo importante es que se trata realmente del órgano de reproducción masculino. Que es un cuerpo cavernoso, que está formado  por un glande o cabeza y por el cuerpo propiamente dic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uerpo esta surcado por la uretra que lleva el pipí desde la vejiga al exterior, por el conducto espermático que lleva el esperma desde los testículos al exterior y por dos arterias muy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1371600"/>
            <a:ext cx="77724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ndo el hombre se excita esas arterias comienzan a bombear sangre hacia la cabeza o glande, así el pene se endurece y  se lo introduce en la vagina, produciéndose la relación sexual o coito. Luego sale el esperma que lleva las semillitas, que se llaman espermatozoides, permitiendo así la procre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 ejemplo, así naciste vos y tu herman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o... ¿Por qué me lo preguntá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220968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rque ayer se murió el papá de una compañera de clase y hoy la maestra nos dijo que para mañana tenemos que llevar 5 Pesos para hacerle una Misa el sábado, para que n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NE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 alma y pueda descansar en p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47800" y="690480"/>
            <a:ext cx="3848400" cy="5478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8:11:09Z</dcterms:created>
  <dc:creator>edel</dc:creator>
  <dc:description/>
  <cp:keywords>em-go</cp:keywords>
  <dc:language>en-US</dc:language>
  <cp:lastModifiedBy>Taque</cp:lastModifiedBy>
  <dcterms:modified xsi:type="dcterms:W3CDTF">2005-05-20T17:10:04Z</dcterms:modified>
  <cp:revision>9</cp:revision>
  <dc:subject/>
  <dc:title>Lección embarazosa</dc:title>
</cp:coreProperties>
</file>