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D8A-A5B3-4C7F-AE3E-CFA09E54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3C5-7746-4DF4-9714-142FA23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2E3-15E7-4BE0-B180-F17BF4F7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6B7-8454-46A4-BB0E-95911355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095A-73EA-4B9F-87E1-CEAD7F4D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584D-6C71-4E84-86A9-15E254D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58CA-AB2C-4133-9083-86FE2D8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DBC2-514D-4947-8F09-4A3A1DBD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A4E-EDC5-42E8-B27E-15E15A2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7D6-7D33-4842-9C6F-4612814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B20A-8BFE-4778-AAF4-F94F5D5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028-DFD1-49BD-908C-A060CD0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7D9B-C9F5-41BA-8B1E-56B0D6F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3173-D819-405E-A622-39B5436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0F7-DE81-4391-B3A8-F2DB1BF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BF6F-C892-4318-8E4A-D0516C8F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62D3-9EBA-4339-9311-AD8E1CBE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475-53A3-4B2B-BFF7-8F0A565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FC5-DE1C-4D4C-9854-6D71559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49F-4E3D-4965-984B-21EC361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393-5CBE-436F-AB09-F089A39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F84-757A-49B5-811A-59E2E26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502-2BF3-4CBF-8FC5-252EBAB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D64-0865-4071-BD8A-AFC10FB0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B6D-644A-426E-89A3-954783707E8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B427-00E8-4804-AABC-806DA312B627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3880" y="2286000"/>
            <a:ext cx="65534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É ES PEN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MORALEJA</a:t>
            </a:r>
            <a:r>
              <a:rPr b="0" lang="es-ES_tradnl" sz="54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52480" y="26668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Antes de dar una respuesta, averiguá primero el por qué de la pregunt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nena llegó de la escuela, se acercó a su padre y le dij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Papá, ¿te puedo hacer una pregunti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Por supuesto mi a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¿Qué es pe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1447920"/>
            <a:ext cx="754380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hombre sonrió y se dijo a si mismo  “¡Cómo me jodió esta pendeja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trataba de esos hombres a los que les gusta dar explicaciones a sus hijos, y la psicopedagoga le había dicho que a los niños hay que explicarles las cosas, pero sólo cuando las pregu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abía estado esperando este momento... ¡Y el momento había lle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523880"/>
            <a:ext cx="784836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ni mi amor, sentate acá al ladito m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rá, seguramente lo habrás oído nombrar de otra forma, porque es algo que tiene muchos nombres pop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tre los niños vas a oír hablar del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it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lo escucharás con nombres de veget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zanahor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epin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bana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chauch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 como verás los apodos pueden ser masculinos o femen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676520"/>
            <a:ext cx="762012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se le da nombre de anim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ájar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o el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ajarit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víbor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bo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nutr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gans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instrumentos music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ito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flauta o la que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y también de embutido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chorizo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salchi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morcill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y todo tipo de otros nombres de fantas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tiene nombres cariñosos como le dicen las mamás a los nenes: "qué cosita tan linda la que tiene mi bebé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447920"/>
            <a:ext cx="777240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 lo importante es que se trata realmente del órgano de reproducción masculino. Que es un cuerpo cavernoso, que está formado  por un glande o cabeza y por el cuerpo propiamente di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uerpo esta surcado por la uretra que lleva el pipí desde la vejiga al exterior, por el conducto espermático que lleva el esperma desde los testículos al exterior y por dos arterias muy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1371600"/>
            <a:ext cx="77724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ndo el hombre se excita esas arterias comienzan a bombear sangre hacia la cabeza o glande, así el pene se endurece y  se lo introduce en la vagina, produciéndose la relación sexual o coito. Luego sale el esperma que lleva las semillitas, que se llaman espermatozoides, permitiendo así la procre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ejemplo, así naciste vos y tu herma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... ¿Por qué me lo preguntá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220968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que ayer se murió el papá de una compañera de clase y hoy la maestra nos dijo que para mañana tenemos que llevar 5 Pesos para hacerle una Misa el sábado, para que n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NE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alma y pueda descansar en p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11:09Z</dcterms:created>
  <dc:creator>edel</dc:creator>
  <dc:description/>
  <cp:keywords>em-go</cp:keywords>
  <dc:language>en-US</dc:language>
  <cp:lastModifiedBy>Taque</cp:lastModifiedBy>
  <dcterms:modified xsi:type="dcterms:W3CDTF">2005-05-20T17:10:04Z</dcterms:modified>
  <cp:revision>9</cp:revision>
  <dc:subject/>
  <dc:title>Lección embarazosa</dc:title>
</cp:coreProperties>
</file>