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5.jpeg" ContentType="image/jpeg"/>
  <Override PartName="/ppt/media/Ernesto%20Cortazar%20-%20Lives%20Of%20Innocence.wav" ContentType="audio/x-wav"/>
  <Override PartName="/ppt/media/image28.jpeg" ContentType="image/jpeg"/>
  <Override PartName="/ppt/media/image5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0B9-DCE8-47E0-BAF5-F49B1687E93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415-8E10-47B9-B00C-D731E2317F5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759-7996-4902-A391-4EE9BFDED39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885-16FA-431D-BF44-E381382EEE4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EDB-39CE-488E-9415-DD13D193F59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483-34A9-4BF1-92CE-7A44BC272FD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858-0092-4D45-8C6E-3A073ACD05A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1650-5277-405F-B52C-994BF6026A3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FF5-AB5B-4077-AF79-0C382091623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1E3-5F48-47BC-A684-7858BBE3DE0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C8A0-4A17-49DC-8E9F-430B57276D4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822-B702-4FEF-A6A0-7C496C2A672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E4CD-3D53-499E-AB87-762E62066D1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F41-5964-42DB-A3DB-DC997302AA9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003-F339-4D04-AB80-549CD609C4F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FF4-54BB-4E1F-AB0E-A1FE9E94141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994-24FA-4732-9DB6-9C9BE39AE30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013-E6E3-416A-8C21-F438C2F88E8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905E-6970-4BDE-B6EB-35A766423A6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CFF-F1D7-4A6B-A255-F4FB2BD7BA2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B55-9165-485C-BB2F-FCF837A36FC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F81-E8E6-45DA-889A-FEC4EA6F517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7BD-8E4B-49BD-9E2D-DF668BE1ADC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300-B28B-4A78-A554-DE808BD5FF5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D42E-8F1B-4906-B013-A558F7FA994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833-1377-4A75-918B-D2D241FA092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F23-0DAC-49CF-98EE-C311B4412E8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F23-3562-4B25-9906-B2A14569BAB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93CD-F001-4DD8-B3EE-1CCD584732C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AA5-DD86-48DA-AAC7-7079BE65A2E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6B1-5019-4F36-9467-A0066BAA3F8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9D5-987D-4A77-9F98-5B62B4742CE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5EE-42BE-4750-AD24-D9A175446C9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1CE5-5BA9-4AE4-99B3-08BEA6F5717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8514-B2F4-41ED-8847-C42B3D68B9D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721-F15E-46BE-835A-B2C94712EF9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DFC-2AF3-4046-AAE3-C84F145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F68-B0C9-4077-9AD9-A1C37A9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BBF-5E5B-4141-9C14-00D2CBB1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DD6-75A1-4F79-A7B7-7685F465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782-372A-41F3-87D7-2F63E41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966-CE8E-406C-84C7-834B722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FDB-D3AB-472C-81B4-083202D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274-D88B-4C52-8878-68C8D60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BB4-3C5B-44D8-9C4A-7F2E593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023-8DCC-4B8E-B50B-89ABC42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B2F-7BE0-4954-B8AC-C69E102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789-BB99-46C3-9863-B138AE2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9C1-4712-4D09-B41B-B829492AACA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Lives%20Of%20Innocenc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ear.com/listen/adb50d6/la-vie-en-rose-edith-piaf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ear.com/listen/55e02e8/non,-je-ne-regrette-rien--edith-piaf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-6480" y="3743280"/>
            <a:ext cx="9156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8 Imagen" descr="EdithPiaf..jpg"/>
          <p:cNvPicPr/>
          <p:nvPr/>
        </p:nvPicPr>
        <p:blipFill>
          <a:blip r:embed="rId2"/>
          <a:stretch/>
        </p:blipFill>
        <p:spPr>
          <a:xfrm>
            <a:off x="2724120" y="1103400"/>
            <a:ext cx="340200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Ernesto%20Cortazar%20-%20Lives%20Of%20Innocen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Imagen" descr="Charles Aznavour....jpg"/>
          <p:cNvPicPr/>
          <p:nvPr/>
        </p:nvPicPr>
        <p:blipFill>
          <a:blip r:embed="rId1"/>
          <a:stretch/>
        </p:blipFill>
        <p:spPr>
          <a:xfrm>
            <a:off x="714240" y="357120"/>
            <a:ext cx="2152800" cy="3214800"/>
          </a:xfrm>
          <a:prstGeom prst="rect">
            <a:avLst/>
          </a:prstGeom>
          <a:ln w="0">
            <a:noFill/>
          </a:ln>
        </p:spPr>
      </p:pic>
      <p:sp>
        <p:nvSpPr>
          <p:cNvPr id="75" name="4 Rectángulo"/>
          <p:cNvSpPr/>
          <p:nvPr/>
        </p:nvSpPr>
        <p:spPr>
          <a:xfrm>
            <a:off x="714240" y="357192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harles Aznavour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5 Imagen" descr="Georges Moustaki....jpg"/>
          <p:cNvPicPr/>
          <p:nvPr/>
        </p:nvPicPr>
        <p:blipFill>
          <a:blip r:embed="rId2"/>
          <a:stretch/>
        </p:blipFill>
        <p:spPr>
          <a:xfrm>
            <a:off x="4214880" y="4071960"/>
            <a:ext cx="2714400" cy="2008080"/>
          </a:xfrm>
          <a:prstGeom prst="rect">
            <a:avLst/>
          </a:prstGeom>
          <a:ln w="0">
            <a:noFill/>
          </a:ln>
        </p:spPr>
      </p:pic>
      <p:sp>
        <p:nvSpPr>
          <p:cNvPr id="77" name="6 Rectángulo"/>
          <p:cNvSpPr/>
          <p:nvPr/>
        </p:nvSpPr>
        <p:spPr>
          <a:xfrm>
            <a:off x="4214880" y="607212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eorges Moustaki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7 Imagen" descr="Junto a Yves Montand.jpg"/>
          <p:cNvPicPr/>
          <p:nvPr/>
        </p:nvPicPr>
        <p:blipFill>
          <a:blip r:embed="rId3"/>
          <a:stretch/>
        </p:blipFill>
        <p:spPr>
          <a:xfrm>
            <a:off x="3643200" y="428760"/>
            <a:ext cx="4857840" cy="3238200"/>
          </a:xfrm>
          <a:prstGeom prst="rect">
            <a:avLst/>
          </a:prstGeom>
          <a:ln w="0">
            <a:noFill/>
          </a:ln>
        </p:spPr>
      </p:pic>
      <p:sp>
        <p:nvSpPr>
          <p:cNvPr id="79" name="8 Rectángulo"/>
          <p:cNvSpPr/>
          <p:nvPr/>
        </p:nvSpPr>
        <p:spPr>
          <a:xfrm>
            <a:off x="3643200" y="364320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ves Montand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9 Imagen" descr="theo sarapo.jpg"/>
          <p:cNvPicPr/>
          <p:nvPr/>
        </p:nvPicPr>
        <p:blipFill>
          <a:blip r:embed="rId4"/>
          <a:stretch/>
        </p:blipFill>
        <p:spPr>
          <a:xfrm>
            <a:off x="1928880" y="40006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192888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arcel Cerda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Imagen" descr="Orson Welles.jpg"/>
          <p:cNvPicPr/>
          <p:nvPr/>
        </p:nvPicPr>
        <p:blipFill>
          <a:blip r:embed="rId1"/>
          <a:stretch/>
        </p:blipFill>
        <p:spPr>
          <a:xfrm>
            <a:off x="785880" y="428760"/>
            <a:ext cx="764064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5 Rectángulo"/>
          <p:cNvSpPr/>
          <p:nvPr/>
        </p:nvSpPr>
        <p:spPr>
          <a:xfrm>
            <a:off x="6350760" y="57862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Orson W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Rectángulo"/>
          <p:cNvSpPr/>
          <p:nvPr/>
        </p:nvSpPr>
        <p:spPr>
          <a:xfrm>
            <a:off x="428760" y="500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Incluso la famosísima Marlene Dietrich que le regaló un diamante de un cuarto de kilo por una apasionada noche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4 Imagen" descr="beso marlened.JPG"/>
          <p:cNvPicPr/>
          <p:nvPr/>
        </p:nvPicPr>
        <p:blipFill>
          <a:blip r:embed="rId1"/>
          <a:stretch/>
        </p:blipFill>
        <p:spPr>
          <a:xfrm>
            <a:off x="500040" y="785880"/>
            <a:ext cx="4070520" cy="334800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Marlene Dietrich.jpg"/>
          <p:cNvPicPr/>
          <p:nvPr/>
        </p:nvPicPr>
        <p:blipFill>
          <a:blip r:embed="rId2"/>
          <a:stretch/>
        </p:blipFill>
        <p:spPr>
          <a:xfrm>
            <a:off x="4714920" y="78588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6 Rectángulo"/>
          <p:cNvSpPr/>
          <p:nvPr/>
        </p:nvSpPr>
        <p:spPr>
          <a:xfrm>
            <a:off x="4643280" y="4143240"/>
            <a:ext cx="37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Marlene Dietr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7 Rectángulo"/>
          <p:cNvSpPr/>
          <p:nvPr/>
        </p:nvSpPr>
        <p:spPr>
          <a:xfrm>
            <a:off x="500040" y="414324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500040" y="414324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Edith</a:t>
            </a:r>
            <a:r>
              <a:rPr b="0" lang="es-ES_tradnl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Piaf y Marlene Dietri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Edith-Piaf-La-Vie-En-Rose-OS-393734.jpg"/>
          <p:cNvPicPr/>
          <p:nvPr/>
        </p:nvPicPr>
        <p:blipFill>
          <a:blip r:embed="rId1"/>
          <a:stretch/>
        </p:blipFill>
        <p:spPr>
          <a:xfrm>
            <a:off x="2000160" y="500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1" name="3 Rectángulo"/>
          <p:cNvSpPr/>
          <p:nvPr/>
        </p:nvSpPr>
        <p:spPr>
          <a:xfrm>
            <a:off x="1285920" y="46432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Durante cuatro años viví casi como un animal o una loca: nada existía para mí más allá del momento en que me era aplicada mi inyección y sentía por fin el efecto de la droga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785880" y="29289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seguía viviendo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a vie en rose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a pesar de un terrible accidente automovilístico en el que sufrió varias fracturas. Los médicos le prescribieron morfina, a la que rápidament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se hizo adic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5 Imagen" descr="piaf.jpg"/>
          <p:cNvPicPr/>
          <p:nvPr/>
        </p:nvPicPr>
        <p:blipFill>
          <a:blip r:embed="rId3"/>
          <a:stretch/>
        </p:blipFill>
        <p:spPr>
          <a:xfrm>
            <a:off x="4643280" y="57168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5 Imagen" descr="edith_piaf_1726.jpg"/>
          <p:cNvPicPr/>
          <p:nvPr/>
        </p:nvPicPr>
        <p:blipFill>
          <a:blip r:embed="rId1"/>
          <a:stretch/>
        </p:blipFill>
        <p:spPr>
          <a:xfrm>
            <a:off x="1320840" y="177840"/>
            <a:ext cx="6502320" cy="650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4000680" y="1357200"/>
            <a:ext cx="5143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iaf se inyectaba, a través de su ropa y medias, momentos antes de subir al escenario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La única vez que actuó sin morfina fue un desastr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y salió abucheada por su público.</a:t>
            </a:r>
            <a:br>
              <a:rPr sz="2400"/>
            </a:b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También empezó a beber sin control y sus amigos intentaron que dejara ese hábito, llegando incluso a esconderle las botellas de alcohol, pero tampoco no funcionó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De todas formas su público la adorab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ues era el ícono de Francia de la postguerra, una diva consag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2 Imagen" descr="EdithPiaf.jpg"/>
          <p:cNvPicPr/>
          <p:nvPr/>
        </p:nvPicPr>
        <p:blipFill>
          <a:blip r:embed="rId1"/>
          <a:stretch/>
        </p:blipFill>
        <p:spPr>
          <a:xfrm>
            <a:off x="0" y="1071720"/>
            <a:ext cx="384336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5 Rectángulo"/>
          <p:cNvSpPr/>
          <p:nvPr/>
        </p:nvSpPr>
        <p:spPr>
          <a:xfrm>
            <a:off x="4643280" y="100008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n embargo, esta vida desenfrenada que no la llenaba ni la hacía feliz, era la única que tenía y la disfrutaba, la que asumía como parte de su esencia, por eso es que cada vez que cantaba a viva voz la famosa canción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que la identificaba perfectament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n, Je Ne Regrette Rian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(No, no me arrepiento de nada), se le llenaban los ojos de lágri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6 Imagen" descr="imgEdith%20Piaf4.jpg"/>
          <p:cNvPicPr/>
          <p:nvPr/>
        </p:nvPicPr>
        <p:blipFill>
          <a:blip r:embed="rId2"/>
          <a:stretch/>
        </p:blipFill>
        <p:spPr>
          <a:xfrm>
            <a:off x="214200" y="1143000"/>
            <a:ext cx="420372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928800" y="41432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legó a sus 46 años bien recorridos, y sin saber cómo, encontró de pronto al gran amor de su vida. Se involucró en una relación que sorprendió al mundo. Se enamoró locament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héo Sarap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un joven griego 20 años menor qu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bio_theo03.jpg"/>
          <p:cNvPicPr/>
          <p:nvPr/>
        </p:nvPicPr>
        <p:blipFill>
          <a:blip r:embed="rId1"/>
          <a:stretch/>
        </p:blipFill>
        <p:spPr>
          <a:xfrm>
            <a:off x="1785960" y="571680"/>
            <a:ext cx="5560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6 Rectángulo"/>
          <p:cNvSpPr/>
          <p:nvPr/>
        </p:nvSpPr>
        <p:spPr>
          <a:xfrm>
            <a:off x="5218560" y="37148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éo Sara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4857840" y="1143000"/>
            <a:ext cx="428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ith aseguraba que éste era el definitivo y más grande amor de su vida. Se casó con él y todo el mundo pensó que se trataba de un “gigoló” que quería aprovecharse de su fortuna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la gente fue difícil creer en el amor de una mujer mayor y famosa con un joven adonis griego, pero Edith gritó a los cuatro vientos que Théo era el único hombre que había ama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4 Imagen" descr="d4rx8u5mc65a8x5d.jpg"/>
          <p:cNvPicPr/>
          <p:nvPr/>
        </p:nvPicPr>
        <p:blipFill>
          <a:blip r:embed="rId1"/>
          <a:stretch/>
        </p:blipFill>
        <p:spPr>
          <a:xfrm>
            <a:off x="0" y="1071720"/>
            <a:ext cx="4762440" cy="4790880"/>
          </a:xfrm>
          <a:prstGeom prst="rect">
            <a:avLst/>
          </a:prstGeom>
          <a:ln w="0">
            <a:noFill/>
          </a:ln>
        </p:spPr>
      </p:pic>
      <p:sp>
        <p:nvSpPr>
          <p:cNvPr id="104" name="5 Rectángulo"/>
          <p:cNvSpPr/>
          <p:nvPr/>
        </p:nvSpPr>
        <p:spPr>
          <a:xfrm>
            <a:off x="1643040" y="5572080"/>
            <a:ext cx="30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héo y Edith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theo%20sarapo-edith%20piaf%20mariage%201962.jpg"/>
          <p:cNvPicPr/>
          <p:nvPr/>
        </p:nvPicPr>
        <p:blipFill>
          <a:blip r:embed="rId1"/>
          <a:stretch/>
        </p:blipFill>
        <p:spPr>
          <a:xfrm>
            <a:off x="357120" y="1643040"/>
            <a:ext cx="4429080" cy="3997440"/>
          </a:xfrm>
          <a:prstGeom prst="rect">
            <a:avLst/>
          </a:prstGeom>
          <a:ln w="0">
            <a:noFill/>
          </a:ln>
        </p:spPr>
      </p:pic>
      <p:pic>
        <p:nvPicPr>
          <p:cNvPr id="106" name="2 Imagen" descr="b34755a443a7f63a415246d3ec10f810.jpg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07" name="3 CuadroTexto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ía de la b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Rectángulo"/>
          <p:cNvSpPr/>
          <p:nvPr/>
        </p:nvSpPr>
        <p:spPr>
          <a:xfrm>
            <a:off x="857160" y="400068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ació con el nombr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Giovanna Gassio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ija de una cantante ambulante y de un acróbata de circo que la abandonó antes de que ella naciera. Su madre a punto de dar a luz, no alcanzó a llegar a la maternidad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nació en plena calle debajo de una faro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frente al número 72 de la rue de Belleville en París el 19 de diciembre de 191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7 Imagen" descr="Edith Piaf 1.jpg"/>
          <p:cNvPicPr/>
          <p:nvPr/>
        </p:nvPicPr>
        <p:blipFill>
          <a:blip r:embed="rId1"/>
          <a:stretch/>
        </p:blipFill>
        <p:spPr>
          <a:xfrm>
            <a:off x="2857680" y="1643040"/>
            <a:ext cx="325404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8 Imagen" descr="biogranpiaf.jpg"/>
          <p:cNvPicPr/>
          <p:nvPr/>
        </p:nvPicPr>
        <p:blipFill>
          <a:blip r:embed="rId2"/>
          <a:stretch/>
        </p:blipFill>
        <p:spPr>
          <a:xfrm>
            <a:off x="642960" y="642960"/>
            <a:ext cx="785808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 Imagen" descr="con teo.jpg"/>
          <p:cNvPicPr/>
          <p:nvPr/>
        </p:nvPicPr>
        <p:blipFill>
          <a:blip r:embed="rId1"/>
          <a:stretch/>
        </p:blipFill>
        <p:spPr>
          <a:xfrm>
            <a:off x="571680" y="642960"/>
            <a:ext cx="3571560" cy="5357880"/>
          </a:xfrm>
          <a:prstGeom prst="rect">
            <a:avLst/>
          </a:prstGeom>
          <a:ln w="0">
            <a:noFill/>
          </a:ln>
        </p:spPr>
      </p:pic>
      <p:sp>
        <p:nvSpPr>
          <p:cNvPr id="109" name="5 CuadroTexto"/>
          <p:cNvSpPr/>
          <p:nvPr/>
        </p:nvSpPr>
        <p:spPr>
          <a:xfrm>
            <a:off x="0" y="607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6 Imagen" descr="theo.jpg"/>
          <p:cNvPicPr/>
          <p:nvPr/>
        </p:nvPicPr>
        <p:blipFill>
          <a:blip r:embed="rId2"/>
          <a:stretch/>
        </p:blipFill>
        <p:spPr>
          <a:xfrm>
            <a:off x="4786200" y="642960"/>
            <a:ext cx="2764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CuadroTexto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6 Imagen" descr="129543.jpg"/>
          <p:cNvPicPr/>
          <p:nvPr/>
        </p:nvPicPr>
        <p:blipFill>
          <a:blip r:embed="rId1"/>
          <a:stretch/>
        </p:blipFill>
        <p:spPr>
          <a:xfrm>
            <a:off x="2235240" y="1676520"/>
            <a:ext cx="467352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7 Imagen" descr="edith3.jpg"/>
          <p:cNvPicPr/>
          <p:nvPr/>
        </p:nvPicPr>
        <p:blipFill>
          <a:blip r:embed="rId2"/>
          <a:stretch/>
        </p:blipFill>
        <p:spPr>
          <a:xfrm>
            <a:off x="642960" y="571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2 Rectángulo"/>
          <p:cNvSpPr/>
          <p:nvPr/>
        </p:nvSpPr>
        <p:spPr>
          <a:xfrm>
            <a:off x="1071720" y="3571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ño después de casarse con el joven griego, en 1963, Edith Piaf murió en su casa del Boulevard Lannes a la edad de 47 años, víctima de una cirrosis avanzada y con sus facciones deterioradas debido a la morfina. El gran amor de su vida sólo le duró un añ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5 Imagen" descr="edith_piaf_01.jpg"/>
          <p:cNvPicPr/>
          <p:nvPr/>
        </p:nvPicPr>
        <p:blipFill>
          <a:blip r:embed="rId1"/>
          <a:stretch/>
        </p:blipFill>
        <p:spPr>
          <a:xfrm>
            <a:off x="928800" y="642960"/>
            <a:ext cx="200016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imgEdith%20Piaf1.jpg"/>
          <p:cNvPicPr/>
          <p:nvPr/>
        </p:nvPicPr>
        <p:blipFill>
          <a:blip r:embed="rId2"/>
          <a:stretch/>
        </p:blipFill>
        <p:spPr>
          <a:xfrm>
            <a:off x="3357720" y="500040"/>
            <a:ext cx="205740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9 Imagen" descr="EdithPiaf,..jpg"/>
          <p:cNvPicPr/>
          <p:nvPr/>
        </p:nvPicPr>
        <p:blipFill>
          <a:blip r:embed="rId3"/>
          <a:stretch/>
        </p:blipFill>
        <p:spPr>
          <a:xfrm>
            <a:off x="5715000" y="714240"/>
            <a:ext cx="24289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edith4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7942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eo Sarapo, en Cap Ferrat, 1963, año de su 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8 Imagen" descr="Edith con Théo Sarapo.jpg"/>
          <p:cNvPicPr/>
          <p:nvPr/>
        </p:nvPicPr>
        <p:blipFill>
          <a:blip r:embed="rId1"/>
          <a:stretch/>
        </p:blipFill>
        <p:spPr>
          <a:xfrm>
            <a:off x="142920" y="1857240"/>
            <a:ext cx="3946320" cy="314352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936000" y="50007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th con Théo Sara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10 Imagen" descr="Fotografía tomada poco antes de morir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53080" cy="3143520"/>
          </a:xfrm>
          <a:prstGeom prst="rect">
            <a:avLst/>
          </a:prstGeom>
          <a:ln w="0">
            <a:noFill/>
          </a:ln>
        </p:spPr>
      </p:pic>
      <p:sp>
        <p:nvSpPr>
          <p:cNvPr id="123" name="11 Rectángulo"/>
          <p:cNvSpPr/>
          <p:nvPr/>
        </p:nvSpPr>
        <p:spPr>
          <a:xfrm>
            <a:off x="428616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tografía tomada poco antes de mor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4000680" y="250020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ue el único heredero de Edith Piaf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Los derechos discográficos, de autor y cinematográficos fueron a parar a su cuenta bancaria. Eso confirmaba las sospechas de la g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4 Imagen" descr="22542249_120252203941.jpg"/>
          <p:cNvPicPr/>
          <p:nvPr/>
        </p:nvPicPr>
        <p:blipFill>
          <a:blip r:embed="rId1"/>
          <a:stretch/>
        </p:blipFill>
        <p:spPr>
          <a:xfrm>
            <a:off x="571680" y="1214280"/>
            <a:ext cx="336996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2 Rectángulo"/>
          <p:cNvSpPr/>
          <p:nvPr/>
        </p:nvSpPr>
        <p:spPr>
          <a:xfrm>
            <a:off x="1000080" y="307188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imagen de gigoló, inescrupuloso y aprovechador, se extendió por todo el mundo, mientras el silencio del griego confirmaba todas esas sospechas. Sin embargo, siete años después Théo Sarapo volvió a ser noticia de primera plana en los periódicos. Se había suicidado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vivió hasta agotar la “fabulosa” herencia recibida de su mujer, es decir, una lista interminable de deud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4 Imagen" descr="default.jpg"/>
          <p:cNvPicPr/>
          <p:nvPr/>
        </p:nvPicPr>
        <p:blipFill>
          <a:blip r:embed="rId1"/>
          <a:stretch/>
        </p:blipFill>
        <p:spPr>
          <a:xfrm>
            <a:off x="3214800" y="64296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Rectángulo"/>
          <p:cNvSpPr/>
          <p:nvPr/>
        </p:nvSpPr>
        <p:spPr>
          <a:xfrm>
            <a:off x="500040" y="35002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nfermedad y adicción de Edith Piaf la había dejado en bancarro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con las deudas hasta el cuello. Théo Sarapo, en silencio, las fue pagando como pudo, una tras otra, y así hasta dejar totalmente limpio el sagrado nombre de su amada. Cuand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llegó a pagar el último centavo se quitó la vida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¿Para qué la quería si no podía compartirla con el único amor de su vid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4 Imagen" descr="d41619p-piaf.jpg"/>
          <p:cNvPicPr/>
          <p:nvPr/>
        </p:nvPicPr>
        <p:blipFill>
          <a:blip r:embed="rId1"/>
          <a:stretch/>
        </p:blipFill>
        <p:spPr>
          <a:xfrm>
            <a:off x="928800" y="357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5 Imagen" descr="250273_2721678.jpg"/>
          <p:cNvPicPr/>
          <p:nvPr/>
        </p:nvPicPr>
        <p:blipFill>
          <a:blip r:embed="rId2"/>
          <a:stretch/>
        </p:blipFill>
        <p:spPr>
          <a:xfrm>
            <a:off x="4786200" y="357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Rectángulo"/>
          <p:cNvSpPr/>
          <p:nvPr/>
        </p:nvSpPr>
        <p:spPr>
          <a:xfrm>
            <a:off x="928800" y="228600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su mesilla de noche hallaron una tarjeta que decía: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Pour toi Edith, mon amour"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le enseñó al mundo y a sus detractores otra hermosa lección de amor. Durante los siete años que demoró pagar las deudas de su amada Edith, jamás se lo vio con otra muj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4 Rectángulo"/>
          <p:cNvSpPr/>
          <p:nvPr/>
        </p:nvSpPr>
        <p:spPr>
          <a:xfrm>
            <a:off x="114300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 enterrado junto a ella. Al fin estarían juntos otra vez, para cantar a dúo desde el más allá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4" name="2 Imagen" descr="800px-Tombeau_d'Edith_Pi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Rectángulo"/>
          <p:cNvSpPr/>
          <p:nvPr/>
        </p:nvSpPr>
        <p:spPr>
          <a:xfrm>
            <a:off x="500040" y="321480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ujer era demasiado pobre para criarla y se la entrega al cuidado de su abuela materna, quien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n vez de tetero la alimentaba con vino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con la excusa de que así se eliminaban los microbios. Después la entrega a su padre, quien está a punto de ir al frente en la Primera Guerra Mundial, lo que lo lleva a dejar a la niña con su abuela paterna (dueña una casa de prostitución en Bernay, Normandía) donde Edith es criada por las prostitutas de la cas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12 Imagen" descr="piafs_img_assist_custom.jpg"/>
          <p:cNvPicPr/>
          <p:nvPr/>
        </p:nvPicPr>
        <p:blipFill>
          <a:blip r:embed="rId1"/>
          <a:stretch/>
        </p:blipFill>
        <p:spPr>
          <a:xfrm>
            <a:off x="2571840" y="50004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6" name="4 Imagen" descr="teaserpic.jpg"/>
          <p:cNvPicPr/>
          <p:nvPr/>
        </p:nvPicPr>
        <p:blipFill>
          <a:blip r:embed="rId1"/>
          <a:stretch/>
        </p:blipFill>
        <p:spPr>
          <a:xfrm>
            <a:off x="785880" y="71424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Rectángulo"/>
          <p:cNvSpPr/>
          <p:nvPr/>
        </p:nvSpPr>
        <p:spPr>
          <a:xfrm>
            <a:off x="857160" y="2714760"/>
            <a:ext cx="742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Ni del bien que me han hecho, Ni del mal, Todo eso me da igual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Todo está pagado, barrido, olvidado... Me importa un bledo el pasad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Con mis recuerdos, he encendido el fuego, mis penas, mis placeres… Ya no los necesit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Barrí todos los amores y todos sus temblores, los barrí para siempre, vuelvo a empezar de cero.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Porque mi vida, Porque mis alegrías, Hoy comienzan contig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5 Imagen" descr="Piaf_Horn_001.jpg"/>
          <p:cNvPicPr/>
          <p:nvPr/>
        </p:nvPicPr>
        <p:blipFill>
          <a:blip r:embed="rId1"/>
          <a:stretch/>
        </p:blipFill>
        <p:spPr>
          <a:xfrm>
            <a:off x="3714840" y="642960"/>
            <a:ext cx="1547640" cy="186228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Marion_Cotillard_hara_Edith_Piaf.jpg"/>
          <p:cNvPicPr/>
          <p:nvPr/>
        </p:nvPicPr>
        <p:blipFill>
          <a:blip r:embed="rId2"/>
          <a:stretch/>
        </p:blipFill>
        <p:spPr>
          <a:xfrm>
            <a:off x="1643040" y="71424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40" name="8 Imagen" descr="piaf.jpg"/>
          <p:cNvPicPr/>
          <p:nvPr/>
        </p:nvPicPr>
        <p:blipFill>
          <a:blip r:embed="rId3"/>
          <a:stretch/>
        </p:blipFill>
        <p:spPr>
          <a:xfrm>
            <a:off x="5715000" y="6429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 Imagen" descr="3.jpg"/>
          <p:cNvPicPr/>
          <p:nvPr/>
        </p:nvPicPr>
        <p:blipFill>
          <a:blip r:embed="rId1"/>
          <a:stretch/>
        </p:blipFill>
        <p:spPr>
          <a:xfrm>
            <a:off x="1643040" y="642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5 Imagen" descr="piafad.jpg"/>
          <p:cNvPicPr/>
          <p:nvPr/>
        </p:nvPicPr>
        <p:blipFill>
          <a:blip r:embed="rId1"/>
          <a:stretch/>
        </p:blipFill>
        <p:spPr>
          <a:xfrm>
            <a:off x="428760" y="428760"/>
            <a:ext cx="4055760" cy="5857920"/>
          </a:xfrm>
          <a:prstGeom prst="rect">
            <a:avLst/>
          </a:prstGeom>
          <a:ln w="0">
            <a:noFill/>
          </a:ln>
        </p:spPr>
      </p:pic>
      <p:pic>
        <p:nvPicPr>
          <p:cNvPr id="143" name="6 Imagen" descr="be09800700.jpg"/>
          <p:cNvPicPr/>
          <p:nvPr/>
        </p:nvPicPr>
        <p:blipFill>
          <a:blip r:embed="rId2"/>
          <a:stretch/>
        </p:blipFill>
        <p:spPr>
          <a:xfrm>
            <a:off x="4714920" y="428760"/>
            <a:ext cx="410040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Rectángulo"/>
          <p:cNvSpPr/>
          <p:nvPr/>
        </p:nvSpPr>
        <p:spPr>
          <a:xfrm>
            <a:off x="642960" y="235728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 hoy quise contarles esta historia. Porque la gente siempre juzga con ligereza, porque los prejuicios y la suspicacia empañan muchas veces el verdadero amor y las buenas intenciones. También porque Edith nos demostró que no se necesita toda una vida para amar y disfrutar, porque nos enseñó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un año es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pas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el resto de tu vida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 esa persona especial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, también se llam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cciones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edith piaf_thumb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19560"/>
          </a:xfrm>
          <a:prstGeom prst="rect">
            <a:avLst/>
          </a:prstGeom>
          <a:ln w="0">
            <a:noFill/>
          </a:ln>
        </p:spPr>
      </p:pic>
      <p:pic>
        <p:nvPicPr>
          <p:cNvPr id="146" name="4 Imagen" descr="d824i26596h161112.jpg"/>
          <p:cNvPicPr/>
          <p:nvPr/>
        </p:nvPicPr>
        <p:blipFill>
          <a:blip r:embed="rId2"/>
          <a:stretch/>
        </p:blipFill>
        <p:spPr>
          <a:xfrm>
            <a:off x="1714680" y="357120"/>
            <a:ext cx="5715000" cy="6096240"/>
          </a:xfrm>
          <a:prstGeom prst="rect">
            <a:avLst/>
          </a:prstGeom>
          <a:ln w="0">
            <a:noFill/>
          </a:ln>
        </p:spPr>
      </p:pic>
      <p:pic>
        <p:nvPicPr>
          <p:cNvPr id="147" name="5 Rectángulo" descr=""/>
          <p:cNvPicPr/>
          <p:nvPr/>
        </p:nvPicPr>
        <p:blipFill>
          <a:blip r:embed="rId3"/>
          <a:stretch/>
        </p:blipFill>
        <p:spPr>
          <a:xfrm>
            <a:off x="3529080" y="4681440"/>
            <a:ext cx="18349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90792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7 Rectángulo"/>
          <p:cNvSpPr/>
          <p:nvPr/>
        </p:nvSpPr>
        <p:spPr>
          <a:xfrm>
            <a:off x="642960" y="78588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Cuando apenas tenía cuatro años,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una meningitis la dejó cieg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ero poco después recobró la vista gracias, según explicó su abuela, al devoto peregrinaje a la iglesia de Santa Teresita del Niño Jesús, en Lisieux, que la mujer hizo con su ni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8 Imagen" descr="Lisieux es una ciudad francesa, situada en el departamento de Calvados, en la región de la Baja Normandía..jpg"/>
          <p:cNvPicPr/>
          <p:nvPr/>
        </p:nvPicPr>
        <p:blipFill>
          <a:blip r:embed="rId1"/>
          <a:stretch/>
        </p:blipFill>
        <p:spPr>
          <a:xfrm>
            <a:off x="3786120" y="250020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58" name="9 Rectángulo"/>
          <p:cNvSpPr/>
          <p:nvPr/>
        </p:nvSpPr>
        <p:spPr>
          <a:xfrm>
            <a:off x="2214720" y="5929200"/>
            <a:ext cx="45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Lisieux es una ciudad francesa, situada en el departame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de Calvados, en la región de la Baja Normandí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10 Imagen" descr="piaf17.jpg"/>
          <p:cNvPicPr/>
          <p:nvPr/>
        </p:nvPicPr>
        <p:blipFill>
          <a:blip r:embed="rId2"/>
          <a:stretch/>
        </p:blipFill>
        <p:spPr>
          <a:xfrm>
            <a:off x="928800" y="2500200"/>
            <a:ext cx="271620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11 Rectángulo"/>
          <p:cNvSpPr/>
          <p:nvPr/>
        </p:nvSpPr>
        <p:spPr>
          <a:xfrm>
            <a:off x="928800" y="250020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62626"/>
                </a:solidFill>
                <a:latin typeface="Times New Roman"/>
              </a:rPr>
              <a:t>Edith Pi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3143160" y="2286000"/>
            <a:ext cx="60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los primeros años de la vida de Edith fueron difíciles, los de su adolescencia fueron peores. Cuando apenas tenía diez años su padre enfermó gravemente y la pequeña empezó a cantar por la calle, recogiendo las monedas que los transeúntes le arrojaban. En aquellas primeras actuaciones, Edith sólo cantaba la Marsellesa, el himno nacional francés, porque es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la única canción que cono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2 Imagen" descr="Edith_Piaf_enfant.jpg"/>
          <p:cNvPicPr/>
          <p:nvPr/>
        </p:nvPicPr>
        <p:blipFill>
          <a:blip r:embed="rId1"/>
          <a:stretch/>
        </p:blipFill>
        <p:spPr>
          <a:xfrm>
            <a:off x="357120" y="1071720"/>
            <a:ext cx="262116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>
            <a:off x="357120" y="5500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dith Piaf  enf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785880" y="35002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finalizar la Primera Guerra Mundial, su padre vuelve del frente y la lleva consigo a vivir la vida de los artistas de los pequeños circos itinerantes, luego la del artista ambulante, independiente y miserable. Edith revela su talento y su excepcional voz en las canciones populares que canta en las calles junto a su padre, tal como su madre lo ha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6 Imagen" descr="edith-piaf.jpg"/>
          <p:cNvPicPr/>
          <p:nvPr/>
        </p:nvPicPr>
        <p:blipFill>
          <a:blip r:embed="rId1"/>
          <a:stretch/>
        </p:blipFill>
        <p:spPr>
          <a:xfrm>
            <a:off x="2928960" y="500040"/>
            <a:ext cx="2857320" cy="282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Rectángulo"/>
          <p:cNvSpPr/>
          <p:nvPr/>
        </p:nvSpPr>
        <p:spPr>
          <a:xfrm>
            <a:off x="4143240" y="250020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1933, a los 17 años, tiene una hija con su amante Louis Dupont, llamada Marcelle, que muere de meningitis a los dos años de edad, en 193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 autobiografía se titu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u bal du ch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6 Imagen" descr="edith_piaf de chica.jpg"/>
          <p:cNvPicPr/>
          <p:nvPr/>
        </p:nvPicPr>
        <p:blipFill>
          <a:blip r:embed="rId1"/>
          <a:stretch/>
        </p:blipFill>
        <p:spPr>
          <a:xfrm>
            <a:off x="21420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7 Rectángulo"/>
          <p:cNvSpPr/>
          <p:nvPr/>
        </p:nvSpPr>
        <p:spPr>
          <a:xfrm>
            <a:off x="0" y="164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ueno, pero hablamos de Lecciones de amo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así que adentrémonos en su vida sentimen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8 Rectángulo"/>
          <p:cNvSpPr/>
          <p:nvPr/>
        </p:nvSpPr>
        <p:spPr>
          <a:xfrm>
            <a:off x="3714840" y="32860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a pesar d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no ser precisamente una mujer guap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y de medir apenas 1,53 m de estatura, era una de esas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femmes fatal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que emanan un encanto especial y que hacía que los hombres cayeran rendidos a sus pi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9 Imagen" descr="edith_piaf-ss.jpg"/>
          <p:cNvPicPr/>
          <p:nvPr/>
        </p:nvPicPr>
        <p:blipFill>
          <a:blip r:embed="rId1"/>
          <a:stretch/>
        </p:blipFill>
        <p:spPr>
          <a:xfrm>
            <a:off x="785880" y="314316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4429080" y="164304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or su vida pasaron desde sus inicios, pequeños rufianes, artistas callejeros y después hasta hombres famosos como Marlon Brando, Yves Montand, Charles Aznavour, o Georges Moustaki. Jugaba a deslumbrar, los conquistaba y los abandonaba. También sucumbieron a sus encantos el famoso campeón de boxeo Mercel Cerdan y actores como John Gar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2 Imagen" descr="Edith y Marcel.jpg"/>
          <p:cNvPicPr/>
          <p:nvPr/>
        </p:nvPicPr>
        <p:blipFill>
          <a:blip r:embed="rId1"/>
          <a:stretch/>
        </p:blipFill>
        <p:spPr>
          <a:xfrm>
            <a:off x="428760" y="428760"/>
            <a:ext cx="3817800" cy="58579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1009080" y="6286680"/>
            <a:ext cx="25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ith y Marcel Cerd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9:08:29Z</dcterms:created>
  <dc:creator>esrebla</dc:creator>
  <dc:description/>
  <dc:language>en-US</dc:language>
  <cp:lastModifiedBy>esrebla</cp:lastModifiedBy>
  <dcterms:modified xsi:type="dcterms:W3CDTF">2009-11-04T00:56:09Z</dcterms:modified>
  <cp:revision>35</cp:revision>
  <dc:subject/>
  <dc:title>www.laboutiquedelpowerpoint.com</dc:title>
</cp:coreProperties>
</file>