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8EF-0380-4660-8BBD-FA4F18FC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F76-DBF3-4B3B-939A-6A211B6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D05-539A-4CB2-BCD3-329FAFCA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535-48F6-4CEA-A4F1-117745F1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8F3-EF41-4C59-92F3-757F35BF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405-536D-4106-B076-759C2F3C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32C-F6B2-4F4F-B03B-6C0D8B9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D10-1115-4944-B562-BAB87F84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131-D55B-48F2-ABB1-AEFF76B4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996-C097-4679-80B5-939CA79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52B-2B25-4987-A997-144DB14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EFB-BC83-44B6-B82C-1F21FD8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A1BE-D215-4A20-ABC7-DB3398711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v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613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ff99ff"/>
                </a:solidFill>
                <a:latin typeface="Vineta BT"/>
              </a:rPr>
              <a:t>La Mujer...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H01896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440" y="270000"/>
            <a:ext cx="61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SECRETA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99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la comprensión total; nos conoce mejor que nadie; lee nuestros pensamientos; se achaca nuestros err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strellas" descr=""/>
          <p:cNvPicPr/>
          <p:nvPr/>
        </p:nvPicPr>
        <p:blipFill>
          <a:blip r:embed="rId1"/>
          <a:stretch/>
        </p:blipFill>
        <p:spPr>
          <a:xfrm>
            <a:off x="38088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9080" y="422280"/>
            <a:ext cx="855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ERO INDEPENDIENTEMENTE DE ESTAS VIRTUDES, TODAS Y CADA UNA DE ELLAS SIEMPRE ESTÁN... Y ESTARÁN POR LOS SIGLOS DE LOS SIGL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699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jodiendo.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Y jodie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3020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Y Jodie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9561800">
            <a:off x="2895840" y="2742840"/>
            <a:ext cx="428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00"/>
                </a:solidFill>
                <a:latin typeface="Arial"/>
              </a:rPr>
              <a:t>Y Jodiendo.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44400">
            <a:off x="2911680" y="3885840"/>
            <a:ext cx="6232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MX" sz="5400" spc="-1" strike="noStrike">
                <a:solidFill>
                  <a:srgbClr val="ffffff"/>
                </a:solidFill>
                <a:latin typeface="Arial"/>
              </a:rPr>
              <a:t>Recontrajodiendo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v0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5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Por último, si tu mujer no jode, revísala... Puede ser un hombre....    o está jodiendo a otro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ebeLlor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61080" y="270000"/>
            <a:ext cx="39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MAD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2760" y="5680080"/>
            <a:ext cx="87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99ff"/>
                </a:solidFill>
                <a:latin typeface="Arial"/>
              </a:rPr>
              <a:t>Es el ser que forja nuestra confianza en el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H01736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59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HERMAN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5791320"/>
            <a:ext cx="85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33"/>
                </a:solidFill>
                <a:latin typeface="Arial"/>
              </a:rPr>
              <a:t>Es quien nos inspira el espíritu prot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H01484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440" y="3459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Arial"/>
              </a:rPr>
              <a:t>COMO AMIG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080" y="5908680"/>
            <a:ext cx="85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la confidente de nuestras pe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H01807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760" y="2700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Arial"/>
              </a:rPr>
              <a:t>COMO NOV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5943600"/>
            <a:ext cx="86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el símbolo de la ilusión y la esperan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H01568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2760" y="19368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ESPOS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440" y="5562720"/>
            <a:ext cx="877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el apoyo e inspiración de todos nuestros proye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H01825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2760" y="345960"/>
            <a:ext cx="40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HIJ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6386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s nuestra reivindicación con la figura femen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H01628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98960" y="19368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ABUEL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08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la presencia del amor incondi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H01944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2760" y="270000"/>
            <a:ext cx="51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COMO AMAN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68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s el renacimiento de la aventura y la pa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6T22:56:50Z</dcterms:created>
  <dc:creator>Ricardo Giha Yidi</dc:creator>
  <dc:description/>
  <dc:language>en-US</dc:language>
  <cp:lastModifiedBy>ETB</cp:lastModifiedBy>
  <dcterms:modified xsi:type="dcterms:W3CDTF">2002-10-29T21:54:42Z</dcterms:modified>
  <cp:revision>29</cp:revision>
  <dc:subject/>
  <dc:title>Presentación de PowerPoint</dc:title>
</cp:coreProperties>
</file>