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4173-6E94-40DC-B4D9-76636F3C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7DB4-DA2E-4D49-8980-E8B96C74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6A19-8949-477D-9A0F-9BEDB10D8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9631-D86A-4DD3-9F92-71F443081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C7AE-F139-4A85-8C41-2478FBED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C3EB-2D27-4D0E-82F6-3A469047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9DBF-6C5C-400A-9E9E-145B1913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D5B8-2172-4000-A5F1-E36CCA17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4E72-AB25-47E5-B453-0CF566BC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77C4-0F2A-493C-AAA0-2182B2A9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39AF-9316-4B5C-A1AA-D2C6D6B9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8014-C656-44F5-81F8-FC82A6F7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7093-B8DE-4291-A37D-8FB354828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v0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4613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200" spc="-1" strike="noStrike">
                <a:solidFill>
                  <a:srgbClr val="ff99ff"/>
                </a:solidFill>
                <a:latin typeface="Vineta BT"/>
              </a:rPr>
              <a:t>La Mujer...!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H01896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6440" y="270000"/>
            <a:ext cx="61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COMO SECRETARI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994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s la comprensión total; nos conoce mejor que nadie; lee nuestros pensamientos; se achaca nuestros err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Estrellas" descr=""/>
          <p:cNvPicPr/>
          <p:nvPr/>
        </p:nvPicPr>
        <p:blipFill>
          <a:blip r:embed="rId1"/>
          <a:stretch/>
        </p:blipFill>
        <p:spPr>
          <a:xfrm>
            <a:off x="38088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89080" y="422280"/>
            <a:ext cx="855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PERO INDEPENDIENTEMENTE DE ESTAS VIRTUDES, TODAS Y CADA UNA DE ELLAS SIEMPRE ESTÁN... Y ESTARÁN POR LOS SIGLOS DE LOS SIGLO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36990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jodiendo.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572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Y jodien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5302080"/>
            <a:ext cx="327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ff"/>
                </a:solidFill>
                <a:latin typeface="Arial"/>
              </a:rPr>
              <a:t>Y Jodie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9561800">
            <a:off x="2895840" y="2742840"/>
            <a:ext cx="428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ffff00"/>
                </a:solidFill>
                <a:latin typeface="Arial"/>
              </a:rPr>
              <a:t>Y Jodiendo.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20144400">
            <a:off x="2911680" y="3885840"/>
            <a:ext cx="62326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0" lang="es-MX" sz="5400" spc="-1" strike="noStrike">
                <a:solidFill>
                  <a:srgbClr val="ffffff"/>
                </a:solidFill>
                <a:latin typeface="Arial"/>
              </a:rPr>
              <a:t>Recontrajodiendo!!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dv03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6508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Por último, si tu mujer no jode, revísala... Puede ser un hombre....    o está jodiendo a otro.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ebeLlor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861080" y="270000"/>
            <a:ext cx="39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COMO MADR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2760" y="5680080"/>
            <a:ext cx="870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99ff"/>
                </a:solidFill>
                <a:latin typeface="Arial"/>
              </a:rPr>
              <a:t>Es el ser que forja nuestra confianza en el fut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H01736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34596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COMO HERMAN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080" y="5791320"/>
            <a:ext cx="855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cc33"/>
                </a:solidFill>
                <a:latin typeface="Arial"/>
              </a:rPr>
              <a:t>Es quien nos inspira el espíritu prot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H01484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6440" y="34596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3300"/>
                </a:solidFill>
                <a:latin typeface="Arial"/>
              </a:rPr>
              <a:t>COMO AMIG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9080" y="5908680"/>
            <a:ext cx="855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s la confidente de nuestras pe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H01807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2760" y="27000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3300"/>
                </a:solidFill>
                <a:latin typeface="Arial"/>
              </a:rPr>
              <a:t>COMO NOVI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5943600"/>
            <a:ext cx="86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s el símbolo de la ilusión y la esperanz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H01568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12760" y="193680"/>
            <a:ext cx="39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COMO ESPOS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6440" y="5562720"/>
            <a:ext cx="877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s el apoyo e inspiración de todos nuestros proyec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H01825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12760" y="345960"/>
            <a:ext cx="40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COMO HIJ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56386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s nuestra reivindicación con la figura femen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H01628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098960" y="19368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COMO ABUEL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908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s la presencia del amor incondic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H01944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12760" y="270000"/>
            <a:ext cx="519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ff"/>
                </a:solidFill>
                <a:latin typeface="Arial"/>
              </a:rPr>
              <a:t>COMO AMANT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68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s el renacimiento de la aventura y la pas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6T22:56:50Z</dcterms:created>
  <dc:creator>Ricardo Giha Yidi</dc:creator>
  <dc:description/>
  <dc:language>en-US</dc:language>
  <cp:lastModifiedBy>ETB</cp:lastModifiedBy>
  <dcterms:modified xsi:type="dcterms:W3CDTF">2002-10-29T21:54:42Z</dcterms:modified>
  <cp:revision>29</cp:revision>
  <dc:subject/>
  <dc:title>Presentación de PowerPoint</dc:title>
</cp:coreProperties>
</file>