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ove%20Spell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5D9-BD3D-4C7B-BA5B-1779FB43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A16-39F5-4393-A014-F32DBEF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9B-3A3A-47ED-844C-2F541FDF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27E-C327-4D9A-9EA7-7A9F9CEB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6A6-6621-4651-B512-C439FCD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D41-10D0-45BD-9F80-32843CDF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077-AACD-410A-B563-31AFA5DE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2DB-F597-4CD3-B149-2E111962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D2A-EED5-4A2C-986C-0843526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172-04F5-4619-81D2-9CC2B44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B1E-B958-4DCE-B096-26978BED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254-2134-4F81-A1E2-5014FA1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0" descr="Roda-Carret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0B11-9ACA-48B0-AF7D-AB9E992CB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Spe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0" y="0"/>
            <a:ext cx="536400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La Humildad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285920" y="3214800"/>
            <a:ext cx="7056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stoy en el 7   %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ombre santo se estremeció ante semejante cuadro de miseria y sufrimiento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eñor le dijo: 'Has visto el Infierno'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uego fueron y abrieron la siguiente puerta. Era exactamente igual como el primer cuar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bía gran mesa redonda con el gran pote de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uisado que hizo agua la boca del hombre santo. La gente estaba equipada con las mismas cucharas de mangos largo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ro aquí la gente  estaba bien alimentada y llena de salud, riéndose y habla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ombre santo dij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 entiendo........! 'Es simple'dijo el Señor: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'Esto requiere de una habilidad.......'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'.....Mira: Ellos han aprendido a alimentarse el uno al otro,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ientras que los avaros piensan solamente en ellos mismos'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verdadero sentido del amor es dar, Jesus murió para darte todo por am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flexió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ntes de pensar: 'Señor... que tienes para mi vida el día de hoy?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egúntale: 'Padre... que puedo dar a otros de lo mucho que ya me has dado?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uando Jesús murió en la cruz El estaba pensando en todos nosot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8458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914400" y="1371600"/>
            <a:ext cx="7197840" cy="383328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l 93 % de la gente no lo  reenviar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N SOLO LO HARA UN 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3300"/>
                </a:solidFill>
                <a:latin typeface="Tahoma"/>
                <a:ea typeface="Tahoma"/>
              </a:rPr>
              <a:t>Con todo cariño para ti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785960" y="5429160"/>
            <a:ext cx="650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C20-E0FF-4589-BE66-1A63FAB52BC8}" type="datetime2"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ernes, 31 de julio de 2026</a:t>
            </a:fld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--- </a:t>
            </a:r>
            <a:fld id="{265AEBE5-7356-412C-8544-3BF7B5F60C88}" type="datetime11"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6:52:45</a:t>
            </a:fld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973080" y="636480"/>
            <a:ext cx="7197840" cy="559476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Caminaba con mi padre, cuando él se detuvo en una curva y después de un pequeño silencio me preguntó:“Además del cantar de los pájaros, ¿escuchas alguna cosa más?”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Agudicé mis oídos y algunos segundos después le respondí: “Estoy escuchando el ruido de una carreta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3080" y="636480"/>
            <a:ext cx="7197840" cy="6082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so es” -dijo mi padre- “es una carreta vacía”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Pregunté a mi padre: “¿Cómo sabes que es una carreta vacía si aún no la vemos?”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ntonces mi padre respondió: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Es muy fácil saber cuándo una carreta está vacía, por causa del ruido. Cuánto más vacía la carreta, mayor es el ruido que hac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47640" y="392040"/>
            <a:ext cx="7916760" cy="608184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Me convertí en adulto y hasta hoy, cuando noto a una persona </a:t>
            </a:r>
            <a:r>
              <a:rPr b="0" lang="es-MX" sz="4800" spc="-1" strike="noStrike">
                <a:solidFill>
                  <a:srgbClr val="ffff00"/>
                </a:solidFill>
                <a:latin typeface="Tahoma"/>
                <a:ea typeface="Tahoma"/>
              </a:rPr>
              <a:t>hablando demasiado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, interrumpiendo la conversación de todos, siendo inoportuna, presumiendo de lo que tiene, sintiéndose prepotente y haciendo de menos a la gente, tengo la impresión de oír la voz de mi padre diciendo: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Cuanto más vacía la carreta, mayor es el ruido que hac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14520" y="392040"/>
            <a:ext cx="7916760" cy="608184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La humildad consiste en callar nuestras virtudes y permitirle a los demás descubrirlas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Y recuerden que existen personas tan pobres que lo único que tienen es dinero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Nadie está más vacío, que aquel que esta   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ahoma"/>
              </a:rPr>
              <a:t>lleno del       ‘Yo mismo’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Seamos lluvia serena y mansa que llega profundamente a las raíces, en silencio, nutri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hile,Aconc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42960" y="3000240"/>
            <a:ext cx="8062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ierto día u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mbre Santo 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taba teniendo una conversación con e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ñor y dijo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629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'Señor, me gustaría saber como son el Cielo y el Infierno.'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l Señor llevo al hombre santo hacia dos puert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l abrir una de las puertas, el hombre santo miro dentro y en medio del  cuarto había una gran mesa redond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n medio de la mesa había una gran olla de guisado que olía tan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delicioso que hizo agua la boca del hombre sant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gente sentada alrededor de la mesa estaba delgada y enferma y parecían hambrientos.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llos estaban sosteniendo cucharas con mangos muy largos que estaban atados a sus brazos,</a:t>
            </a: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cada uno fue capaz de meter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mano en el pote de  guisado y tomar una cucharada, pero por causa  que el mango era mas largo que sus brazos, no podían poner las cucharas dentro de sus boc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14:19Z</dcterms:created>
  <dc:creator/>
  <dc:description/>
  <dc:language>en-US</dc:language>
  <cp:lastModifiedBy>Cargas</cp:lastModifiedBy>
  <dcterms:modified xsi:type="dcterms:W3CDTF">2008-12-19T13:25:26Z</dcterms:modified>
  <cp:revision>8</cp:revision>
  <dc:subject/>
  <dc:title>Diapositiva 1</dc:title>
</cp:coreProperties>
</file>