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Love%20Spell.wav" ContentType="audio/x-wav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16B9-A3A5-487F-9186-5C3ADA45F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064A-82FC-411F-9C67-46018C40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4AD3-DFFF-4B29-A338-5FB3D022F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3B7A-1B60-4768-9F58-C136873EA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B7B2-D59B-4EFE-8D5B-1287C35B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5EF0-947E-4EEC-988C-475B1E4A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10F1-823E-4810-94B1-1896E9A2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C82E-6079-4A89-BB30-CA36FA69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FEF8-EB75-4E5A-BBC3-E32AFDED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B9FC-676B-4A0A-82D3-9792FAE6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384D-1B96-4F10-AB09-7B9F2FDB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5887-852F-44FB-B69E-A1437829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30" descr="Roda-Carret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6283-550B-487D-99D0-DA3BD56BB0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ove%20Spell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6"/>
          <p:cNvSpPr txBox="1"/>
          <p:nvPr/>
        </p:nvSpPr>
        <p:spPr>
          <a:xfrm>
            <a:off x="0" y="0"/>
            <a:ext cx="5364000" cy="35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6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808080"/>
                </a:solidFill>
                <a:latin typeface="Arial Black"/>
              </a:rPr>
              <a:t>La Humildad</a:t>
            </a:r>
            <a:endParaRPr b="0" i="1" lang="en-US" sz="4000" spc="1" strike="noStrike">
              <a:ln w="9360">
                <a:solidFill>
                  <a:srgbClr val="ffffff"/>
                </a:solidFill>
                <a:miter/>
              </a:ln>
              <a:solidFill>
                <a:srgbClr val="808080"/>
              </a:solidFill>
              <a:latin typeface="Arial Black"/>
              <a:ea typeface="Arial Black"/>
            </a:endParaRPr>
          </a:p>
        </p:txBody>
      </p:sp>
      <p:sp>
        <p:nvSpPr>
          <p:cNvPr id="43" name="WordArt 8"/>
          <p:cNvSpPr txBox="1"/>
          <p:nvPr/>
        </p:nvSpPr>
        <p:spPr>
          <a:xfrm>
            <a:off x="1285920" y="3214800"/>
            <a:ext cx="7056360" cy="14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estoy en el 7   %</a:t>
            </a:r>
            <a:endParaRPr b="0" i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748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l hombre santo se estremeció ante semejante cuadro de miseria y sufrimiento.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l Señor le dijo: 'Has visto el Infierno'.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uego fueron y abrieron la siguiente puerta. Era exactamente igual como el primer cuarto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Había gran mesa redonda con el gran pote de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guisado que hizo agua la boca del hombre santo. La gente estaba equipada con las mismas cucharas de mangos largos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pero aquí la gente  estaba bien alimentada y llena de salud, riéndose y hablan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000" y="-360"/>
            <a:ext cx="86756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l hombre santo dij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No entiendo........! 'Es simple'dijo el Señor:</a:t>
            </a: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'Esto requiere de una habilidad.......'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'.....Mira: Ellos han aprendido a alimentarse el uno al otro,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mientras que los avaros piensan solamente en ellos mismos'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l verdadero sentido del amor es dar, Jesus murió para darte todo por am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Reflexión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Antes de pensar: 'Señor... que tienes para mi vida el día de hoy?'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Pregúntale: 'Padre... que puedo dar a otros de lo mucho que ya me has dado?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uando Jesús murió en la cruz El estaba pensando en todos nosotr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000"/>
                            </p:stCondLst>
                            <p:childTnLst>
                              <p:par>
                                <p:cTn id="2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476280"/>
            <a:ext cx="84582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6"/>
          <p:cNvSpPr/>
          <p:nvPr/>
        </p:nvSpPr>
        <p:spPr>
          <a:xfrm>
            <a:off x="914400" y="1371600"/>
            <a:ext cx="7197840" cy="383328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spAutoFit/>
          </a:bodyPr>
          <a:p>
            <a:pPr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El 93 % de la gente no lo  reenviara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AN SOLO LO HARA UN 7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000" spc="-1" strike="noStrike">
                <a:solidFill>
                  <a:srgbClr val="ff3300"/>
                </a:solidFill>
                <a:latin typeface="Tahoma"/>
                <a:ea typeface="Tahoma"/>
              </a:rPr>
              <a:t>Con todo cariño para ti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4 CuadroTexto"/>
          <p:cNvSpPr/>
          <p:nvPr/>
        </p:nvSpPr>
        <p:spPr>
          <a:xfrm>
            <a:off x="1785960" y="5429160"/>
            <a:ext cx="650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8D1F-5110-4236-8EDE-7C747C4C0849}" type="datetime2">
              <a:rPr b="0" lang="es-ES_tradnl" sz="2400" spc="-1" strike="noStrike">
                <a:solidFill>
                  <a:srgbClr val="ffffff"/>
                </a:solidFill>
                <a:latin typeface="Tahoma"/>
              </a:rPr>
              <a:t>miércoles, 29 de julio de 2026</a:t>
            </a:fld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--- </a:t>
            </a:r>
            <a:fld id="{D2197DE1-AE79-4007-852D-894E9FDBC63C}" type="datetime11">
              <a:rPr b="0" lang="es-ES_tradnl" sz="2400" spc="-1" strike="noStrike">
                <a:solidFill>
                  <a:srgbClr val="ffffff"/>
                </a:solidFill>
                <a:latin typeface="Tahoma"/>
              </a:rPr>
              <a:t>07:27:57</a:t>
            </a:fld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h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973080" y="636480"/>
            <a:ext cx="7197840" cy="559476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Tahoma"/>
              </a:rPr>
              <a:t>Caminaba con mi padre, cuando él se detuvo en una curva y después de un pequeño silencio me preguntó:“Además del cantar de los pájaros, ¿escuchas alguna cosa más?”</a:t>
            </a:r>
            <a:br>
              <a:rPr sz="3200"/>
            </a:b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Tahoma"/>
              </a:rPr>
              <a:t>Agudicé mis oídos y algunos segundos después le respondí: “Estoy escuchando el ruido de una carreta..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973080" y="636480"/>
            <a:ext cx="7197840" cy="608220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Tahoma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Tahoma"/>
              </a:rPr>
              <a:t>Eso es” -dijo mi padre- “es una carreta vacía”.</a:t>
            </a:r>
            <a:br>
              <a:rPr sz="3200"/>
            </a:b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Tahoma"/>
              </a:rPr>
              <a:t>Pregunté a mi padre: “¿Cómo sabes que es una carreta vacía si aún no la vemos?”</a:t>
            </a:r>
            <a:br>
              <a:rPr sz="3200"/>
            </a:b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Tahoma"/>
              </a:rPr>
              <a:t>Entonces mi padre respondió: </a:t>
            </a:r>
            <a:br>
              <a:rPr sz="3200"/>
            </a:b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Tahoma"/>
              </a:rPr>
              <a:t>“Es muy fácil saber cuándo una carreta está vacía, por causa del ruido. Cuánto más vacía la carreta, mayor es el ruido que hace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647640" y="392040"/>
            <a:ext cx="7916760" cy="608184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Tahoma"/>
              </a:rPr>
              <a:t>Me convertí en adulto y hasta hoy, cuando noto a una persona </a:t>
            </a:r>
            <a:r>
              <a:rPr b="0" lang="es-MX" sz="4800" spc="-1" strike="noStrike">
                <a:solidFill>
                  <a:srgbClr val="ffff00"/>
                </a:solidFill>
                <a:latin typeface="Tahoma"/>
                <a:ea typeface="Tahoma"/>
              </a:rPr>
              <a:t>hablando demasiado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Tahoma"/>
              </a:rPr>
              <a:t>, interrumpiendo la conversación de todos, siendo inoportuna, presumiendo de lo que tiene, sintiéndose prepotente y haciendo de menos a la gente, tengo la impresión de oír la voz de mi padre diciendo: </a:t>
            </a:r>
            <a:br>
              <a:rPr sz="3200"/>
            </a:b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Tahoma"/>
              </a:rPr>
              <a:t>“Cuanto más vacía la carreta, mayor es el ruido que hace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5"/>
          <p:cNvSpPr/>
          <p:nvPr/>
        </p:nvSpPr>
        <p:spPr>
          <a:xfrm>
            <a:off x="614520" y="392040"/>
            <a:ext cx="7916760" cy="608184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Tahoma"/>
              </a:rPr>
              <a:t>La humildad consiste en callar nuestras virtudes y permitirle a los demás descubrirlas.</a:t>
            </a:r>
            <a:br>
              <a:rPr sz="3200"/>
            </a:b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Tahoma"/>
              </a:rPr>
              <a:t>Y recuerden que existen personas tan pobres que lo único que tienen es dinero.</a:t>
            </a:r>
            <a:br>
              <a:rPr sz="3200"/>
            </a:b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Tahoma"/>
              </a:rPr>
              <a:t>Nadie está más vacío, que aquel que esta   </a:t>
            </a:r>
            <a:r>
              <a:rPr b="1" lang="es-MX" sz="3200" spc="-1" strike="noStrike">
                <a:solidFill>
                  <a:srgbClr val="ffff00"/>
                </a:solidFill>
                <a:latin typeface="Tahoma"/>
                <a:ea typeface="Tahoma"/>
              </a:rPr>
              <a:t>lleno del       ‘Yo mismo’.</a:t>
            </a:r>
            <a:br>
              <a:rPr sz="3200"/>
            </a:b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Tahoma"/>
              </a:rPr>
              <a:t>Seamos lluvia serena y mansa que llega profundamente a las raíces, en silencio, nutrie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hile,Aconcagu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642960" y="3000240"/>
            <a:ext cx="80629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ierto día un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ombre Santo 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staba teniendo una conversación con el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ñor y dijo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4920" y="404280"/>
            <a:ext cx="806292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'Señor, me gustaría saber como son el Cielo y el Infierno.'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El Señor llevo al hombre santo hacia dos puerta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Al abrir una de las puertas, el hombre santo miro dentro y en medio del  cuarto había una gran mesa redonda.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En medio de la mesa había una gran olla de guisado que olía tan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delicioso que hizo agua la boca del hombre santo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La gente sentada alrededor de la mesa estaba delgada y enferma y parecían hambrientos.</a:t>
            </a: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Ellos estaban sosteniendo cucharas con mangos muy largos que estaban atados a sus brazos,</a:t>
            </a:r>
            <a:r>
              <a:rPr b="1" lang="es-E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cada uno fue capaz de meter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la mano en el pote de  guisado y tomar una cucharada, pero por causa  que el mango era mas largo que sus brazos, no podían poner las cucharas dentro de sus boca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19:14:19Z</dcterms:created>
  <dc:creator/>
  <dc:description/>
  <dc:language>en-US</dc:language>
  <cp:lastModifiedBy>Cargas</cp:lastModifiedBy>
  <dcterms:modified xsi:type="dcterms:W3CDTF">2008-12-19T13:25:26Z</dcterms:modified>
  <cp:revision>8</cp:revision>
  <dc:subject/>
  <dc:title>Diapositiva 1</dc:title>
</cp:coreProperties>
</file>