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A2F-DC02-40D5-9760-235C2B42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A27-466F-4178-9379-D7CD7B11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B3D-B9D1-440C-BC05-E437010A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70E-4EFA-4F50-84F1-6A76B903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2A5-90DA-4F76-AE1F-54EBE618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CA4-5143-428E-8560-A273F337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AD7-4C96-4329-928F-F2E527C6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B66-8837-473D-B495-239EB2FA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CCF-7AF8-420E-B29F-8DC26397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02A-E4BB-495A-80C9-D37B02F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ACC-4577-44BE-A7B7-09711B0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2FE-5F72-42FD-B772-0036151F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D32F-D2CE-4003-B1C1-6F11BCE3AB7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8787405_1"/>
          <p:cNvPicPr/>
          <p:nvPr/>
        </p:nvPicPr>
        <p:blipFill>
          <a:blip r:embed="rId1"/>
          <a:stretch/>
        </p:blipFill>
        <p:spPr>
          <a:xfrm>
            <a:off x="0" y="0"/>
            <a:ext cx="8137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8280360" cy="1469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ff99"/>
                </a:solidFill>
                <a:latin typeface="Arial Black"/>
              </a:rPr>
              <a:t>Alta costu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802800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a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6156360" y="5229360"/>
            <a:ext cx="240660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Rosita Pedrazzini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1640" y="549360"/>
            <a:ext cx="42591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dre cos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olsillo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guard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ll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one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liosas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jores recuer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mi identida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00720" y="90792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ndo estaban quiet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ida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is sueños, 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eran a mi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u polvo de estrell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 sostuvier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 sus hilos de mag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ndo me asom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la vid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¡para empezar a vestir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s manos de mi madre nu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bandonaron su trabaj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Y sé muy bien que hoy, donde esté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hebran oraciones para mi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Y yo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¡Yo las be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mo si estrenara bendicion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8920" y="691920"/>
            <a:ext cx="4248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tela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istoria famili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forzaron cos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s sostuv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nte cualquier ti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la vid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03280" y="259920"/>
            <a:ext cx="3961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hebraron el hilo 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e las partes del mo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olvidar que cada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distinta a la otra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juntas hacen el tod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o la famili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0360" y="259920"/>
            <a:ext cx="5364000" cy="5689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iraron dobladil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diéramos crec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nos quedaran co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ideal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39700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zurcieron desga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volvié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usar el corazó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hilacha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entimiento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486320" y="0"/>
            <a:ext cx="465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427640" y="0"/>
            <a:ext cx="215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ieron retaz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uviéramos una ma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ori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e nos cubrier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03280" y="476280"/>
            <a:ext cx="3683160" cy="564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dre asegura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esillas y bot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uviéramos un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é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speranz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1052640"/>
            <a:ext cx="349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 aplica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á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asumié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cambios que nos piden los año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3888000" cy="475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manos de 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ordaron marav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s sorprend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 sus conti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tregas de bellez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39:13Z</dcterms:created>
  <dc:creator>WinuE</dc:creator>
  <dc:description/>
  <dc:language>en-US</dc:language>
  <cp:lastModifiedBy>Victor Moscoso</cp:lastModifiedBy>
  <dcterms:modified xsi:type="dcterms:W3CDTF">2010-02-02T13:03:40Z</dcterms:modified>
  <cp:revision>10</cp:revision>
  <dc:subject/>
  <dc:title>Mamá</dc:title>
</cp:coreProperties>
</file>