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7BB-4B87-4E0B-9194-8AFB3BF7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E02-9B4F-4163-A94A-95189C98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D6F-8121-437A-8398-6AD65060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3242-BD73-46BD-957F-CC9B336A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9FB-D73C-4FBF-9994-D0550FA6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807-A084-4150-8F19-42817302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1C9-1D48-4080-BD83-3774B339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A32-2CA3-494C-8BB2-14805E9D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FC2-4D90-4A74-9B3C-814E7C19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718-AEFB-4AF1-9D81-6DB9F70D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321-25B3-4E45-A54E-F06FD68B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21F-B1A8-4A31-B4B5-6CE53F9C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1849-B8F8-487F-BBE2-79AF575A67D6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8787405_1"/>
          <p:cNvPicPr/>
          <p:nvPr/>
        </p:nvPicPr>
        <p:blipFill>
          <a:blip r:embed="rId1"/>
          <a:stretch/>
        </p:blipFill>
        <p:spPr>
          <a:xfrm>
            <a:off x="0" y="0"/>
            <a:ext cx="8137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3640" y="2707920"/>
            <a:ext cx="8280360" cy="1469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ffff99"/>
                </a:solidFill>
                <a:latin typeface="Arial Black"/>
              </a:rPr>
              <a:t>Alta costu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4"/>
          <p:cNvSpPr/>
          <p:nvPr/>
        </p:nvSpPr>
        <p:spPr>
          <a:xfrm>
            <a:off x="802800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a0000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6156360" y="5229360"/>
            <a:ext cx="240660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Rosita Pedrazzini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1640" y="549360"/>
            <a:ext cx="42591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adre cos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olsillos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guard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ell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one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liosas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jores recuer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 mi identida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9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00720" y="90792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 mad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ando estaban quieta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ida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is sueños, para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eran a mi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u polvo de estrella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31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 sostuvier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 sus hilos de mag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ando me asom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la vid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¡para empezar a vestirl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56264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as manos de mi madre nun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bandonaron su trabaj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Y sé muy bien que hoy, donde esté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hebran oraciones para mi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Y yo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¡Yo las bes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mo si estrenara bendicion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8920" y="691920"/>
            <a:ext cx="4248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tela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istoria famili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forzaron cos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s sostuvie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nte cualquier ti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la vid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03280" y="259920"/>
            <a:ext cx="3961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hebraron el hilo 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e las partes del mol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olvidar que cada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 distinta a la otra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 juntas hacen el tod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o la famili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40360" y="259920"/>
            <a:ext cx="5364000" cy="5689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manos de 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iraron dobladil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diéramos crec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nos quedaran co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ideal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39700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zurcieron desga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volvié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usar el corazó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hilacha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sentimiento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486320" y="0"/>
            <a:ext cx="4657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427640" y="0"/>
            <a:ext cx="215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ieron retaz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uviéramos una man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ori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ue nos cubrier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03280" y="476280"/>
            <a:ext cx="3683160" cy="564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adre asegura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esillas y bot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uviéramos uni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dié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esperanz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600360" y="0"/>
            <a:ext cx="55436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1052640"/>
            <a:ext cx="349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 madre aplica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á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asumié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cambios que nos piden los año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3888000" cy="475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ordaron marav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s sorprend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 sus continu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tregas de bellez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3:39:13Z</dcterms:created>
  <dc:creator>WinuE</dc:creator>
  <dc:description/>
  <dc:language>en-US</dc:language>
  <cp:lastModifiedBy>Victor Moscoso</cp:lastModifiedBy>
  <dcterms:modified xsi:type="dcterms:W3CDTF">2010-02-02T13:03:40Z</dcterms:modified>
  <cp:revision>10</cp:revision>
  <dc:subject/>
  <dc:title>Mamá</dc:title>
</cp:coreProperties>
</file>