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949-411E-41ED-A145-22C7790C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A7A-F964-4D7C-813C-1F4483A0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5AF-4252-46A0-9347-5BDEFF9E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4A7-D736-4802-B347-F5749AF6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A81-E71A-404E-AB22-5D21095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F58-55A2-4C5B-85DB-EDF9DDA5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FEC-0D2F-46A3-94E7-D4227821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F70-6DEF-49F3-8648-B42C642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FE8-F77E-4E95-AE00-1DFEEAFA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EC1-CA01-4EA5-9D76-A42F4BA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84A-18B0-4DD3-A98B-36B57ADE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BA4-A182-44A6-90D9-3DC3CB3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964-87B5-432E-A5DB-1729296DE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itannic Bold"/>
              </a:rPr>
              <a:t>Aprenda a jugar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Britannic Bold"/>
              </a:rPr>
              <a:t>BIL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08720" y="59500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33"/>
                </a:solidFill>
                <a:latin typeface="Baskerville Old Face"/>
              </a:rPr>
              <a:t>By Wan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2895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Vam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comi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garran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l “tac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nuevament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548496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uena suert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inta08" descr=""/>
          <p:cNvPicPr/>
          <p:nvPr/>
        </p:nvPicPr>
        <p:blipFill>
          <a:blip r:embed="rId1"/>
          <a:stretch/>
        </p:blipFill>
        <p:spPr>
          <a:xfrm>
            <a:off x="28954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19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que el forro de la me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3028" r="0" b="0"/>
          <a:stretch/>
        </p:blipFill>
        <p:spPr>
          <a:xfrm>
            <a:off x="0" y="58680"/>
            <a:ext cx="4951440" cy="679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76560" y="60948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bserve bien como se agarra el taco!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6516"/>
          <a:stretch/>
        </p:blipFill>
        <p:spPr>
          <a:xfrm>
            <a:off x="0" y="1752480"/>
            <a:ext cx="9144000" cy="5034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írese en las bolas largas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15200" y="1600200"/>
            <a:ext cx="1905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be meter la bola azul en la tron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5498"/>
          <a:stretch/>
        </p:blipFill>
        <p:spPr>
          <a:xfrm>
            <a:off x="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5520" y="60912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 favor, que alguien me alcance la tiz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2968"/>
          <a:stretch/>
        </p:blipFill>
        <p:spPr>
          <a:xfrm>
            <a:off x="685800" y="0"/>
            <a:ext cx="5345280" cy="746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2057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 ahora el taco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4777" r="0" b="0"/>
          <a:stretch/>
        </p:blipFill>
        <p:spPr>
          <a:xfrm>
            <a:off x="2425680" y="109440"/>
            <a:ext cx="6718320" cy="674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5988"/>
          <a:stretch/>
        </p:blipFill>
        <p:spPr>
          <a:xfrm>
            <a:off x="0" y="107964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la 7 en la tronera del fondo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Presto atenció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828800"/>
            <a:ext cx="579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Aprendió alg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50532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N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937040"/>
            <a:ext cx="80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Entonces siga con la siguiente lecció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1:14:23Z</dcterms:created>
  <dc:creator>Wanderson Perseguin</dc:creator>
  <dc:description/>
  <dc:language>en-US</dc:language>
  <cp:lastModifiedBy>WP</cp:lastModifiedBy>
  <dcterms:modified xsi:type="dcterms:W3CDTF">2006-12-21T13:59:34Z</dcterms:modified>
  <cp:revision>5</cp:revision>
  <dc:subject/>
  <dc:title>Aprenda a Jogar BILHAR</dc:title>
</cp:coreProperties>
</file>