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02F-DE2D-41F0-9345-F24E9D7A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F04-CEED-4927-9B72-8ED6949D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C1D-7EC1-46E7-8B7D-16117F1B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0E7-DCE5-47D0-B695-41D7EF5D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8F5-81B7-44A0-9FE6-894126F4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701-581E-4493-B19D-734A7651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736-ACDD-415F-9EB1-F2FE9EE1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BD5-17B7-4C50-AF11-084E6633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C2A-4507-442A-877B-84F8923F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393-3F15-41E5-9AE6-B097186E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0F8-BBB2-4CAD-957A-29722504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CA8-2FC2-4A0B-8A90-7DB62DCD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5FB1-D8C2-4A0E-859B-663026850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itannic Bold"/>
              </a:rPr>
              <a:t>Aprenda a jugar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Britannic Bold"/>
              </a:rPr>
              <a:t>BILLA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08720" y="595008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33"/>
                </a:solidFill>
                <a:latin typeface="Baskerville Old Face"/>
              </a:rPr>
              <a:t>By Wand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2895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Vamo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comi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agarran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el “tac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nuevament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548496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Buena suerte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inta08" descr=""/>
          <p:cNvPicPr/>
          <p:nvPr/>
        </p:nvPicPr>
        <p:blipFill>
          <a:blip r:embed="rId1"/>
          <a:stretch/>
        </p:blipFill>
        <p:spPr>
          <a:xfrm>
            <a:off x="2895480" y="0"/>
            <a:ext cx="45658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019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que el forro de la me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3028" r="0" b="0"/>
          <a:stretch/>
        </p:blipFill>
        <p:spPr>
          <a:xfrm>
            <a:off x="0" y="58680"/>
            <a:ext cx="4951440" cy="679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76560" y="60948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bserve bien como se agarra el taco!!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6516"/>
          <a:stretch/>
        </p:blipFill>
        <p:spPr>
          <a:xfrm>
            <a:off x="0" y="1752480"/>
            <a:ext cx="9144000" cy="5034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írese en las bolas largas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15200" y="1600200"/>
            <a:ext cx="1905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be meter la bola azul en la trone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5498"/>
          <a:stretch/>
        </p:blipFill>
        <p:spPr>
          <a:xfrm>
            <a:off x="0" y="0"/>
            <a:ext cx="7238880" cy="684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5520" y="609120"/>
            <a:ext cx="3048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r favor, que alguien me alcance la tiz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2968"/>
          <a:stretch/>
        </p:blipFill>
        <p:spPr>
          <a:xfrm>
            <a:off x="685800" y="0"/>
            <a:ext cx="5345280" cy="74674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066320"/>
            <a:ext cx="2057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 ahora el taco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4777" r="0" b="0"/>
          <a:stretch/>
        </p:blipFill>
        <p:spPr>
          <a:xfrm>
            <a:off x="2425680" y="109440"/>
            <a:ext cx="6718320" cy="67485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5988"/>
          <a:stretch/>
        </p:blipFill>
        <p:spPr>
          <a:xfrm>
            <a:off x="0" y="1079640"/>
            <a:ext cx="9144000" cy="5719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ola 7 en la tronera del fondo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b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04920"/>
            <a:ext cx="57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Presto atenció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828800"/>
            <a:ext cx="579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Aprendió algo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505320"/>
            <a:ext cx="38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No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937040"/>
            <a:ext cx="80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Entonces siga con la siguiente lecció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1:14:23Z</dcterms:created>
  <dc:creator>Wanderson Perseguin</dc:creator>
  <dc:description/>
  <dc:language>en-US</dc:language>
  <cp:lastModifiedBy>WP</cp:lastModifiedBy>
  <dcterms:modified xsi:type="dcterms:W3CDTF">2006-12-21T13:59:34Z</dcterms:modified>
  <cp:revision>5</cp:revision>
  <dc:subject/>
  <dc:title>Aprenda a Jogar BILHAR</dc:title>
</cp:coreProperties>
</file>