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Sonrisa.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1B36D0-4CF2-43D7-AD33-05ED43CB20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AEDE16-A768-4811-83C2-665A287648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BA12E8-21FC-4EDF-818E-F1C8ADB5FA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5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6D4F69-7B3F-424E-9B27-E04DFC17C3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7803C-E334-446C-A6DD-8F4757A304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FED85-335E-402E-80FA-B0A22159A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9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5F415-6AE5-4EDD-9AF7-D7B23E944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9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BFA7E-DBC9-4AA3-A2F2-E7F5A60C8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28202-EF53-4282-8122-2F3B60B95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58B19-4BD2-4A11-AF73-FD71EFF3D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0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D2340-1C62-479C-BFCA-207AE0B86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A19012-31C1-4C62-933A-CE5CA48EF0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0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069EF-CC71-45EC-944E-596900159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0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31473-1D52-4C92-B80F-419D39DD3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1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64915-F68B-4BCF-A90A-A35DF7E28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E5A06-A5DD-42B3-B91C-A92D7BCF5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2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76614A-B4AE-42EE-982C-8AFDFCBA97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DD0AF3-74AD-4A5B-BDCD-FD79E551DE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0123BA-AC5F-423E-8780-05E5DF4FE4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F8CE5B-FFF1-4E3D-BF83-5060CC6914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B7644D-A4BB-4A72-B6F1-593F814C23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816E26-A267-4316-90DA-C38F63DA57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E18C46-E808-43FB-AAA9-BC10FA5AFD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16B24B-0427-4557-8344-F656760C6FE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EC248-1B86-410C-956C-C14AE500B6D1}"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7A6AD-2B2F-48BC-BFCC-3D28C28C3D04}"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Sonrisa.wav"/><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1966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a mujer se despierta durante la noche y descubre que su esposo no está en la cama. Baja las escaleras en busca de su marido, lo encuentra sentado en la cocina, con una taza de café en la man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68360" y="1052280"/>
            <a:ext cx="8229600" cy="4530600"/>
          </a:xfrm>
          <a:prstGeom prst="rect">
            <a:avLst/>
          </a:prstGeom>
          <a:noFill/>
          <a:ln w="0">
            <a:noFill/>
          </a:ln>
        </p:spPr>
        <p:txBody>
          <a:bodyPr lIns="90000" rIns="90000" tIns="46800" bIns="4680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parece ensimismado en sus pensamientos, mientras fija su mirada en la pared.</a:t>
            </a:r>
            <a:endParaRPr b="0" lang="en-US" sz="2800" spc="-1" strike="noStrike">
              <a:solidFill>
                <a:srgbClr val="ffffff"/>
              </a:solidFill>
              <a:latin typeface="Tahoma"/>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la observa que le cae una lágrima de un ojo, mientras bebe un  sorbo de café</a:t>
            </a:r>
            <a:r>
              <a:rPr b="0" lang="es-ES" sz="2800" spc="-1" strike="noStrike">
                <a:solidFill>
                  <a:srgbClr val="ffffff"/>
                </a:solidFill>
                <a:latin typeface="Tahoma"/>
              </a:rPr>
              <a:t>.</a:t>
            </a:r>
            <a:endParaRPr b="0" lang="en-US" sz="2800" spc="-1" strike="noStrike">
              <a:solidFill>
                <a:srgbClr val="ffffff"/>
              </a:solidFill>
              <a:latin typeface="Tahoma"/>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_tradnl" sz="2800" spc="-1" strike="noStrike">
                <a:solidFill>
                  <a:srgbClr val="ffffff"/>
                </a:solidFill>
                <a:latin typeface="Tahoma"/>
              </a:rPr>
              <a:t>Que te sucede, querido?, -le susurra, mientras entra a la cocina-, </a:t>
            </a:r>
            <a:r>
              <a:rPr b="0" lang="es-ES" sz="2800" spc="-1" strike="noStrike">
                <a:solidFill>
                  <a:srgbClr val="ffffff"/>
                </a:solidFill>
                <a:latin typeface="Tahoma"/>
              </a:rPr>
              <a:t>¿</a:t>
            </a:r>
            <a:r>
              <a:rPr b="0" lang="es-ES_tradnl" sz="2800" spc="-1" strike="noStrike">
                <a:solidFill>
                  <a:srgbClr val="ffffff"/>
                </a:solidFill>
                <a:latin typeface="Tahoma"/>
              </a:rPr>
              <a:t>por que estas aquí a estas horas de la noche</a:t>
            </a:r>
            <a:r>
              <a:rPr b="0" lang="es-ES" sz="2800" spc="-1" strike="noStrike">
                <a:solidFill>
                  <a:srgbClr val="ffffff"/>
                </a:solidFill>
                <a:latin typeface="Tahoma"/>
              </a:rPr>
              <a:t>?</a:t>
            </a:r>
            <a:endParaRPr b="0" lang="en-US" sz="2800" spc="-1" strike="noStrike">
              <a:solidFill>
                <a:srgbClr val="ffffff"/>
              </a:solidFill>
              <a:latin typeface="Tahoma"/>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a:t>
            </a:r>
            <a:r>
              <a:rPr b="0" lang="es-ES_tradnl" sz="2800" spc="-1" strike="noStrike">
                <a:solidFill>
                  <a:srgbClr val="ffffff"/>
                </a:solidFill>
                <a:latin typeface="Tahoma"/>
              </a:rPr>
              <a:t>l marido deposita la taza de café sobre la mesa, la mira y le pregunta en un tono solem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052280"/>
            <a:ext cx="8229600" cy="4530600"/>
          </a:xfrm>
          <a:prstGeom prst="rect">
            <a:avLst/>
          </a:prstGeom>
          <a:noFill/>
          <a:ln w="0">
            <a:noFill/>
          </a:ln>
        </p:spPr>
        <p:txBody>
          <a:bodyPr lIns="90000" rIns="90000" tIns="46800" bIns="46800"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_tradnl" sz="2800" spc="-1" strike="noStrike">
                <a:solidFill>
                  <a:srgbClr val="ffffff"/>
                </a:solidFill>
                <a:latin typeface="Tahoma"/>
              </a:rPr>
              <a:t>Recuerdas 20 años atrás, cuando nos comprometimos, que tu sólo tenias 16 años?</a:t>
            </a:r>
            <a:endParaRPr b="0" lang="en-US" sz="2800" spc="-1" strike="noStrike">
              <a:solidFill>
                <a:srgbClr val="ffffff"/>
              </a:solidFill>
              <a:latin typeface="Tahoma"/>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Si lo recuerdo como si fuera ahora.</a:t>
            </a:r>
            <a:endParaRPr b="0" lang="en-US" sz="2800" spc="-1" strike="noStrike">
              <a:solidFill>
                <a:srgbClr val="ffffff"/>
              </a:solidFill>
              <a:latin typeface="Tahoma"/>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marido hace una pausa. No le vienen las palabras fácilmente…</a:t>
            </a:r>
            <a:endParaRPr b="0" lang="en-US" sz="2800" spc="-1" strike="noStrike">
              <a:solidFill>
                <a:srgbClr val="ffffff"/>
              </a:solidFill>
              <a:latin typeface="Tahoma"/>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Recuerdas cuando tu padre nos pilló haciendo el amor en el asiento trasero de mi coche? </a:t>
            </a:r>
            <a:endParaRPr b="0" lang="en-US" sz="2800" spc="-1" strike="noStrike">
              <a:solidFill>
                <a:srgbClr val="ffffff"/>
              </a:solidFill>
              <a:latin typeface="Tahoma"/>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Sí, me acuerdo, dice la esposa dejándose caer en una silla a su lado</a:t>
            </a:r>
            <a:r>
              <a:rPr b="0" lang="es-ES" sz="2800" spc="-1" strike="noStrike">
                <a:solidFill>
                  <a:srgbClr val="ffffff"/>
                </a:solidFill>
                <a:latin typeface="Tahoma"/>
              </a:rPr>
              <a:t>.</a:t>
            </a:r>
            <a:endParaRPr b="0" lang="en-US" sz="2800" spc="-1" strike="noStrike">
              <a:solidFill>
                <a:srgbClr val="ffffff"/>
              </a:solidFill>
              <a:latin typeface="Tahoma"/>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marido prosigue: </a:t>
            </a:r>
            <a:endParaRPr b="0" lang="en-US" sz="2800" spc="-1" strike="noStrike">
              <a:solidFill>
                <a:srgbClr val="ffffff"/>
              </a:solidFill>
              <a:latin typeface="Tahoma"/>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836280"/>
            <a:ext cx="82296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Recuerdas cuando me apuntó a la cara con la escopeta y me dijo: “te casas con mi hija, o te envío a la cárcel por 20 años”?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También me acuerdo de eso, le contesta ella con voz suave....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marido se seca las lágrimas de la mejilla</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y dice: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Hoy hubiese salido libre...!!!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0" y="761760"/>
            <a:ext cx="91440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6000" spc="-1" strike="noStrike">
              <a:solidFill>
                <a:srgbClr val="ffffcc"/>
              </a:solidFill>
              <a:latin typeface="Tahoma"/>
            </a:endParaRPr>
          </a:p>
        </p:txBody>
      </p:sp>
      <p:sp>
        <p:nvSpPr>
          <p:cNvPr id="132" name=""/>
          <p:cNvSpPr/>
          <p:nvPr/>
        </p:nvSpPr>
        <p:spPr>
          <a:xfrm>
            <a:off x="-684360" y="5715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ffff00"/>
                </a:solidFill>
                <a:latin typeface="Verdana"/>
              </a:rPr>
              <a:t>   </a:t>
            </a:r>
            <a:r>
              <a:rPr b="1" lang="es-MX" sz="5400" spc="-1" strike="noStrike">
                <a:solidFill>
                  <a:srgbClr val="ffffff"/>
                </a:solidFill>
                <a:latin typeface="Verdana"/>
              </a:rPr>
              <a:t>Ja ja ja</a:t>
            </a:r>
            <a:endParaRPr b="0" lang="en-US" sz="5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5T19:11:52Z</dcterms:created>
  <dc:creator>Luis Eduardo Contreras Torres</dc:creator>
  <dc:description/>
  <dc:language>en-US</dc:language>
  <cp:lastModifiedBy>JUAN</cp:lastModifiedBy>
  <dcterms:modified xsi:type="dcterms:W3CDTF">2008-03-12T22:41:18Z</dcterms:modified>
  <cp:revision>9</cp:revision>
  <dc:subject/>
  <dc:title>El matrimonio</dc:title>
</cp:coreProperties>
</file>