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166%20sec%20Ern%20Cortazar%20-%20L'adieu.wav" ContentType="audio/x-wav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11C-51F2-4F79-A78B-D87A20B9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F29-F7A7-45A9-BE05-8EDDAB5F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C5F-1420-46E8-A253-30D23F8E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588-2BEF-440D-89D8-01CCB633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FF6-1DA7-4903-BDA8-C9D3881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BA8-F761-4395-8417-F1D4E224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747-4E40-4851-9DC7-EE29C3E1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9BB-CB35-4771-9E96-0C6BCB9A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E54-3C57-4A50-BAF8-4CA814A0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644-BD9C-4614-BD59-44925DB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081-5BFF-4E07-AED9-6CA757D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F63-25A7-46F3-954F-E26C72C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7C14-A66C-4296-A9C2-511721A1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166%20sec%20Ern%20Cortazar%20-%20L&apos;adieu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800" spc="-1" strike="noStrike">
                <a:solidFill>
                  <a:srgbClr val="2f2fff"/>
                </a:solidFill>
                <a:latin typeface="Black Chancery"/>
              </a:rPr>
              <a:t>Les poiss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8800" spc="-1" strike="noStrike">
                <a:solidFill>
                  <a:srgbClr val="2f2fff"/>
                </a:solidFill>
                <a:latin typeface="Black Chancery"/>
              </a:rPr>
              <a:t>du Cora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2f2fff"/>
                </a:solidFill>
                <a:latin typeface="Black Chancery"/>
              </a:rPr>
              <a:t>Il faut cliquer pour continuer… mais ne soit pas trop pressé,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2f2fff"/>
                </a:solidFill>
                <a:latin typeface="Black Chancery"/>
              </a:rPr>
              <a:t>ainsi tu  profiteras de cette agréable musiq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627280" y="2205000"/>
            <a:ext cx="3240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A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9" name=""/>
          <p:cNvSpPr/>
          <p:nvPr/>
        </p:nvSpPr>
        <p:spPr>
          <a:xfrm>
            <a:off x="599760" y="5537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i tu as souhaité patienter 3 minutes…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te composition musicale recommencera jusqu’à ce que tu cl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affe"/>
            </a:gs>
            <a:gs pos="50000">
              <a:srgbClr val="2f2fff"/>
            </a:gs>
            <a:gs pos="100000">
              <a:srgbClr val="afa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3:08:10Z</dcterms:created>
  <dc:creator>Baeke Antoine</dc:creator>
  <dc:description/>
  <dc:language>en-US</dc:language>
  <cp:lastModifiedBy>Falconnet</cp:lastModifiedBy>
  <dcterms:modified xsi:type="dcterms:W3CDTF">2006-06-04T06:53:47Z</dcterms:modified>
  <cp:revision>12</cp:revision>
  <dc:subject/>
  <dc:title>Dia 1</dc:title>
</cp:coreProperties>
</file>