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166%20sec%20Ern%20Cortazar%20-%20L'adieu.wav" ContentType="audio/x-wav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1ED-9DCD-4B0D-AE99-FBC3C5C4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327-8CDC-45DE-B781-2872B49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D2E-C53E-467D-B977-352672D4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8CF-516A-41B4-9372-DBC45C45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06B-22E2-4587-BBF2-46AE611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C01-4490-4C3F-A814-DD5A386E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DBC-9E34-406B-8E04-776E4FA8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930-FAFC-4863-B94E-03E3AD3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074-9210-4305-9C0A-7E72BB3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EF6-9171-4DE0-868A-F5D7367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237-F6BC-4B16-8E18-B2CFA26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40A-9818-46E2-888F-941FDBEF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D14D-7236-44B5-B328-F64709CE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6%20sec%20Ern%20Cortazar%20-%20L&apos;adieu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2f2fff"/>
                </a:solidFill>
                <a:latin typeface="Black Chancery"/>
              </a:rPr>
              <a:t>Les poiss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2f2fff"/>
                </a:solidFill>
                <a:latin typeface="Black Chancery"/>
              </a:rPr>
              <a:t>du Cor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2f2fff"/>
                </a:solidFill>
                <a:latin typeface="Black Chancery"/>
              </a:rPr>
              <a:t>Il faut cliquer pour continuer… mais ne soit pas trop pressé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2f2fff"/>
                </a:solidFill>
                <a:latin typeface="Black Chancery"/>
              </a:rPr>
              <a:t>ainsi tu  profiteras de cette agréable musi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627280" y="2205000"/>
            <a:ext cx="32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A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599760" y="5537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i tu as souhaité patienter 3 minutes…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composition musicale recommencera jusqu’à ce que tu c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3:08:10Z</dcterms:created>
  <dc:creator>Baeke Antoine</dc:creator>
  <dc:description/>
  <dc:language>en-US</dc:language>
  <cp:lastModifiedBy>Falconnet</cp:lastModifiedBy>
  <dcterms:modified xsi:type="dcterms:W3CDTF">2006-06-04T06:53:47Z</dcterms:modified>
  <cp:revision>12</cp:revision>
  <dc:subject/>
  <dc:title>Dia 1</dc:title>
</cp:coreProperties>
</file>