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Andrea%20Bocelli%20&amp;%20Laura%20Pausini%20-%20Vivo%20Per%20Lei.wav" ContentType="audio/x-wav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7565-08EF-4346-BBF2-3F946F0F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1B67-7EFC-4FB5-AD9C-55272B12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4A42-0DF7-4869-9FCD-1FCA1963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E6B5-5FF9-45FB-9BD0-D441C3323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6005-8F85-48B6-AC3C-0777BB65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BC5F-1C5D-4A0E-AD88-8E5F5A62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B5C3-44ED-452D-AD0D-2D3B9172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FA0B-496B-47E9-BDA2-2E04CB38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EC16-76D2-4551-A2A7-8D714D2F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07EA-68A3-4E6D-B429-146B4A5B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4C4A-C1C4-4805-9001-4AB95786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6483-15A2-418F-B950-B19B5E7B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5512-F15E-437A-87D1-7B6AF3EAC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ndrea%20Bocelli%20&amp;%20Laura%20Pausini%20-%20Vivo%20Per%20Lei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03640" y="4937040"/>
            <a:ext cx="5940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ekton Pro"/>
              </a:rPr>
              <a:t>Lanc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ekton Pro"/>
              </a:rPr>
              <a:t>Italia - año 7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ekton Pro"/>
              </a:rPr>
              <a:t>Lanciano es una pequeña ciudad medieval, que se encuentra en la costa del Mar Adriático de Italia, en la carretera entre San Giovanni Rotondo y Loreto. Lanciano significa "Lanza"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524640"/>
            <a:ext cx="26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00"/>
                </a:solidFill>
                <a:latin typeface="Arial"/>
              </a:rPr>
              <a:t>Utilizar m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2" name="Andrea%20Bocelli%20&amp;%20Laura%20Pausini%20-%20Vivo%20Per%20Lei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1100160" y="-833400"/>
            <a:ext cx="11344320" cy="8524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08000" y="4076640"/>
            <a:ext cx="2016000" cy="3384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-316080" y="0"/>
            <a:ext cx="10146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Después se volteó despacio hacia ellas, diciéndoles: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Oh afortunados testigos a quién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el Santísimo Dios, para destruir mi falta de fe, ha querido revelárseles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 Él mismo en este Bendito Sacramento y hacerse visible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 ante nuestros ojos.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Vengan, hermanos y maravíllense ante nuestro Dios tan cerca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de nosotros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Contemplen la Carne y la Sangre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de Nuestro Amado Cristo!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181080" y="0"/>
            <a:ext cx="9577440" cy="7101000"/>
          </a:xfrm>
          <a:prstGeom prst="rect">
            <a:avLst/>
          </a:prstGeom>
          <a:gradFill rotWithShape="0">
            <a:gsLst>
              <a:gs pos="0">
                <a:srgbClr val="ffa7a7"/>
              </a:gs>
              <a:gs pos="100000">
                <a:srgbClr val="754c4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580000" cy="743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-181080" y="0"/>
            <a:ext cx="9577440" cy="7101000"/>
          </a:xfrm>
          <a:prstGeom prst="rect">
            <a:avLst/>
          </a:prstGeom>
          <a:gradFill rotWithShape="0">
            <a:gsLst>
              <a:gs pos="0">
                <a:srgbClr val="ffa7a7"/>
              </a:gs>
              <a:gs pos="100000">
                <a:srgbClr val="754c4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7417080" cy="7102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284720" y="333360"/>
            <a:ext cx="4743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ekton Pro"/>
              </a:rPr>
              <a:t>Las personas se apresuraron para ir al altar y, al presenciar el milagro, empezaron a clamar, pidiendo perdón y misericordia.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ekton Pro"/>
              </a:rPr>
              <a:t>Otras empezaron a darse golpes de pecho, confesando sus pecados, declarándose indignos de presenciar tal milagro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Otros se arrodillaban en señal de respeto y gratitud por el regalo que el Señor les había concedido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 Todos contaban la historia por toda la ciudad y por todos los pueblos circunveci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5e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084560" y="0"/>
            <a:ext cx="5059440" cy="6745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0920" y="620640"/>
            <a:ext cx="4392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La carne se mantuvo intacta, pero la sangre se dividió en el cáliz, en 5 partículas de diferentes tamaños y formas irregulares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Los monjes decidieron pesar las partículas descubriendo fenómenos particulares sobre el peso de cada una de ella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Cuando pesan 1, pesa lo mismo que 2 y 2 pesan lo mismo que las 5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Inmediatamente la Hostia y las cinco partículas fueron colocadas en un relicario de marf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4284720" cy="68580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5e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2232000" cy="3168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708200" y="3429000"/>
            <a:ext cx="2442960" cy="3240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427640" y="189000"/>
            <a:ext cx="4537080" cy="85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Análisis, realizados con absoluto rigor científico (desde 1574, en 1970-71 y en 1991) y documentados, por una serie de fotografías al microscopio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dieron los siguientes resultados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La Carne es verdadera Carne. La Sangre es verdadera Sangre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La Carne y la Sangre pertenecen a la especie humana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La Carne está constituida por el tejido muscular del corazón. En la Carne están presentes, en secciones, el miocardio, el endocardio, el nervio vago y, por el relevante espesor del miocardio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el ventrículo cardiaco izquie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0" y="0"/>
            <a:ext cx="4753080" cy="71010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5e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487840" y="907920"/>
            <a:ext cx="2851200" cy="5042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79280" y="476280"/>
            <a:ext cx="504036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La Carne es un CORAZON completo en su estructura esencial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* La Carne y la Sangre tienen el mismo grupo sanguíneo (AB).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ekton Pro"/>
              </a:rPr>
              <a:t>ípico grupo sanguíneo judío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* En la Sangre se encontraron las proteínas normalmente fraccionadas, con la proporción en porcentaje, correspondiente al cuadro Sero-proteico de la sangre fresca normal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* En la Sangre también se encontraron estos minerales : Cloruro, fósforo, magnesio, potasio, sodio y cal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-181080" y="0"/>
            <a:ext cx="4897440" cy="702936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5e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816360" cy="3794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284720" y="1557360"/>
            <a:ext cx="4680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La conservación de la Carne y de la Sangre, dejadas al estado natural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por espacio de trece siglos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y expuestas a la acción de agentes atmosféricos y biológicos, es de por sí,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 un fenómeno extraordinario.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Conclusión: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Se puede decir que la Ciencia ha dado una respuesta segura y exhaustiva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acerca de la autenticidad del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Milagro Eucarístico de Lanci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Basílica del milagro Eucarísico en Lanciano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780000" y="0"/>
            <a:ext cx="5508360" cy="7029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50920" y="404640"/>
            <a:ext cx="331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Aquí se conserva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desde hace má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de trece siglos </a:t>
            </a:r>
            <a:br>
              <a:rPr sz="2400"/>
            </a:br>
            <a:br>
              <a:rPr sz="2400"/>
            </a:br>
            <a:r>
              <a:rPr b="0" lang="en-US" sz="2400" spc="-1" strike="noStrike" u="sng">
                <a:solidFill>
                  <a:srgbClr val="ffffff"/>
                </a:solidFill>
                <a:uFillTx/>
                <a:latin typeface="Tekton Pro"/>
              </a:rPr>
              <a:t>el primero </a:t>
            </a:r>
            <a:br>
              <a:rPr sz="2400"/>
            </a:br>
            <a:br>
              <a:rPr sz="2400"/>
            </a:br>
            <a:r>
              <a:rPr b="0" lang="en-US" sz="2400" spc="-1" strike="noStrike" u="sng">
                <a:solidFill>
                  <a:srgbClr val="ffffff"/>
                </a:solidFill>
                <a:uFillTx/>
                <a:latin typeface="Tekton Pro"/>
              </a:rPr>
              <a:t>y más grande</a:t>
            </a: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de lo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milagro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Eucarísticos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e1e1"/>
              </a:gs>
              <a:gs pos="100000">
                <a:srgbClr val="75676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932360" y="2349360"/>
            <a:ext cx="2855880" cy="4248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042920" y="2349360"/>
            <a:ext cx="3132360" cy="4248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971640" y="333360"/>
            <a:ext cx="68403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La Carne, desde 1713, se conserva en un artístico Ostensorio de plata, de la escuela napolitana, finamente cincel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La Sangre está contenida en una rica y antigua ampolla de cristal de Ro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372360" y="333360"/>
            <a:ext cx="277164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ekton Pro"/>
              </a:rPr>
              <a:t>La Hostia-Carne, aún se conserva muy bien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ekton Pro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Tekton Pro"/>
              </a:rPr>
              <a:t>El tamaño de la hostia es como las hostias que el sacerdote eleva en las misas hoy día.</a:t>
            </a:r>
            <a:r>
              <a:rPr b="1" i="1" lang="es-ES" sz="2400" spc="-1" strike="noStrike">
                <a:solidFill>
                  <a:srgbClr val="000000"/>
                </a:solidFill>
                <a:latin typeface="Tekton Pr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76360" y="4221000"/>
            <a:ext cx="266400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ekton Pro"/>
              </a:rPr>
              <a:t>Es ligeramente parda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ekton Pro"/>
              </a:rPr>
              <a:t>adquiere un tinte róse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ekton Pro"/>
              </a:rPr>
              <a:t>si se ilumina por el la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ekton Pro"/>
              </a:rPr>
              <a:t>posterior.  La sang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ekton Pro"/>
              </a:rPr>
              <a:t>coagulada tiene un col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ekton Pro"/>
              </a:rPr>
              <a:t>terroso que tiende 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ekton Pro"/>
              </a:rPr>
              <a:t>amarillo Oc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0"/>
                            </p:stCondLst>
                            <p:childTnLst>
                              <p:par>
                                <p:cTn id="15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>
            <a:lum bright="5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00000" y="2852640"/>
            <a:ext cx="7417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El Milagro de Lanciano es un continuo milag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La Hostia convertida en Carne y el Vino convertido en Sangr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sin el uso de ningún preservativo, están aún presentes en el relic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Cuando en 1991 hicieron cortes histológicos de la carne, esta sangr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476360" y="5084640"/>
            <a:ext cx="6624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QUE DIOS TE BENDIGA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/>
          <p:nvPr/>
        </p:nvSpPr>
        <p:spPr>
          <a:xfrm>
            <a:off x="826920" y="549360"/>
            <a:ext cx="73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ekton Pro"/>
              </a:rPr>
              <a:t>“</a:t>
            </a:r>
            <a:r>
              <a:rPr b="1" i="1" lang="es-ES_tradnl" sz="3200" spc="-1" strike="noStrike">
                <a:solidFill>
                  <a:srgbClr val="000000"/>
                </a:solidFill>
                <a:latin typeface="Tekton Pro"/>
              </a:rPr>
              <a:t>Que el Señor te bendiga y te guarde,</a:t>
            </a:r>
            <a:br>
              <a:rPr sz="3200"/>
            </a:br>
            <a:r>
              <a:rPr b="1" i="1" lang="es-ES_tradnl" sz="3200" spc="-1" strike="noStrike">
                <a:solidFill>
                  <a:srgbClr val="000000"/>
                </a:solidFill>
                <a:latin typeface="Tekton Pro"/>
              </a:rPr>
              <a:t> </a:t>
            </a:r>
            <a:br>
              <a:rPr sz="3200"/>
            </a:br>
            <a:r>
              <a:rPr b="1" i="1" lang="es-ES_tradnl" sz="3200" spc="-1" strike="noStrike">
                <a:solidFill>
                  <a:srgbClr val="000000"/>
                </a:solidFill>
                <a:latin typeface="Tekton Pro"/>
              </a:rPr>
              <a:t>que el Señor haga brillar su rostro </a:t>
            </a:r>
            <a:br>
              <a:rPr sz="3200"/>
            </a:br>
            <a:r>
              <a:rPr b="1" i="1" lang="es-ES_tradnl" sz="3200" spc="-1" strike="noStrike">
                <a:solidFill>
                  <a:srgbClr val="000000"/>
                </a:solidFill>
                <a:latin typeface="Tekton Pro"/>
              </a:rPr>
              <a:t>sobre ti  y te conceda su Gracia, </a:t>
            </a:r>
            <a:br>
              <a:rPr sz="3200"/>
            </a:br>
            <a:br>
              <a:rPr sz="3200"/>
            </a:br>
            <a:r>
              <a:rPr b="1" i="1" lang="es-ES_tradnl" sz="3200" spc="-1" strike="noStrike">
                <a:solidFill>
                  <a:srgbClr val="000000"/>
                </a:solidFill>
                <a:latin typeface="Tekton Pro"/>
              </a:rPr>
              <a:t>Que el Señor habite en ti y te de Paz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440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601640"/>
            <a:ext cx="7008840" cy="5256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140600" y="3357720"/>
            <a:ext cx="2003400" cy="3500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0" y="333360"/>
            <a:ext cx="457200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kton Pro"/>
              </a:rPr>
              <a:t>Un Monje de la Orden de San Basili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kton Pro"/>
              </a:rPr>
              <a:t>sabio en las cosas del mund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kton Pro"/>
              </a:rPr>
              <a:t>pero no en las cosas de la f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kton Pro"/>
              </a:rPr>
              <a:t>pasaba un tiempo de prueb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kton Pro"/>
              </a:rPr>
              <a:t>contra la f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kton Pro"/>
              </a:rPr>
              <a:t>Dudaba de la presencia real de Nuestro Señor Jesús en la Eucaristía. Oraba constantemente para librarse de esas dudas por miedo de perder su vocación.</a:t>
            </a:r>
            <a:r>
              <a:rPr b="1" i="1" lang="en-US" sz="2000" spc="-1" strike="noStrike">
                <a:solidFill>
                  <a:srgbClr val="333399"/>
                </a:solidFill>
                <a:latin typeface="Tekton Pr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90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43280" y="274680"/>
            <a:ext cx="4043520" cy="51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24360" y="0"/>
            <a:ext cx="5400720" cy="7029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8360" y="836640"/>
            <a:ext cx="324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Sufría día tras día la du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¿Está Jesús realmente y, substancialmente presente en la Eucaristía?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Dudaba sobre el misterio de la transubstanci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4643280" cy="6858000"/>
          </a:xfrm>
          <a:prstGeom prst="rect">
            <a:avLst/>
          </a:prstGeom>
          <a:gradFill rotWithShape="0">
            <a:gsLst>
              <a:gs pos="0">
                <a:srgbClr val="ffa7a7"/>
              </a:gs>
              <a:gs pos="100000">
                <a:srgbClr val="754c4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4086360" cy="568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88000" y="260280"/>
            <a:ext cx="3889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kton Pro"/>
              </a:rPr>
              <a:t>Oraba constantemente para librarse de esas dudas por miedo de perder su vocació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ekton Pro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ekton Pro"/>
              </a:rPr>
              <a:t>Su sacerdocio se convirtió en una rutina y se destruía poco a poco. Especialmente la celebración de la Santa Misa se convirtió en una rutina más, un trabajo m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54000" y="0"/>
            <a:ext cx="599436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0920" y="3114720"/>
            <a:ext cx="864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kton Pro"/>
              </a:rPr>
              <a:t>La sit</a:t>
            </a:r>
            <a:r>
              <a:rPr b="1" lang="en-US" sz="2400" spc="-1" strike="noStrike">
                <a:solidFill>
                  <a:srgbClr val="000000"/>
                </a:solidFill>
                <a:latin typeface="Tekton Pro"/>
              </a:rPr>
              <a:t>uació</a:t>
            </a:r>
            <a:r>
              <a:rPr b="1" lang="en-US" sz="2400" spc="-1" strike="noStrike">
                <a:solidFill>
                  <a:srgbClr val="ffffff"/>
                </a:solidFill>
                <a:latin typeface="Tekton Pro"/>
              </a:rPr>
              <a:t>n en el mundo no le ayudó a fortalecer su fe. Había muchas herejías surgiendo durante esta época.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ekton Pro"/>
              </a:rPr>
              <a:t>Sacerdotes y obispos eran víctimas de esas herejías, las cuales estaban infectando a la Iglesia por todas parte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ekton Pro"/>
              </a:rPr>
              <a:t> Algunas de estas herejías negaban la presencia real de nuestro Señor en la Eucaristía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ekton Pro"/>
              </a:rPr>
              <a:t>El sacerdote no podía levantarse de esta oscuridad que envolvía su corazón.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ekton Pro"/>
              </a:rPr>
              <a:t>Cada vez estaba más convencido, por la lógica humana, de esas herejí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22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989000"/>
            <a:ext cx="85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ekton Pro"/>
              </a:rPr>
              <a:t>Una mañana del año 700,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ekton Pro"/>
              </a:rPr>
              <a:t>mientras celebraba la Santa Misa,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ekton Pro"/>
              </a:rPr>
              <a:t>el sacerdote estaba siendo atacado fuertemente por la duda y después de haber pronunciado las solemnes palabras de la consagración,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ekton Pro"/>
              </a:rPr>
              <a:t>vio como la Santa Hostia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ekton Pro"/>
              </a:rPr>
              <a:t>se convirtió en un círculo de carne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ekton Pro"/>
              </a:rPr>
              <a:t>y el vino en sangre vi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00000" y="3429000"/>
            <a:ext cx="669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kton Pro"/>
              </a:rPr>
              <a:t>Estaba ante un fenómeno sobrenatural visible, que lo hizo temblar y comenzó a llorar incontrolablemente de gozo y agradecimiento. . 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ekton Pro"/>
              </a:rPr>
              <a:t>Estuvo largo rato, de espaldas a los fieles, como era la misa en ese ti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23:29:12Z</dcterms:created>
  <dc:creator/>
  <dc:description/>
  <dc:language>en-US</dc:language>
  <cp:lastModifiedBy>Colossus User</cp:lastModifiedBy>
  <dcterms:modified xsi:type="dcterms:W3CDTF">2009-02-18T03:11:08Z</dcterms:modified>
  <cp:revision>0</cp:revision>
  <dc:subject/>
  <dc:title>Lanciano-Italia</dc:title>
</cp:coreProperties>
</file>