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Andrea%20Bocelli%20&amp;%20Laura%20Pausini%20-%20Vivo%20Per%20Lei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6DA-2C2F-4567-B173-3C103718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904-E551-43D2-8D2C-2556B82D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083-9E2A-45BD-BC20-D1C5B567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2E1-2EF6-40B6-B07D-52684E5F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848-2ED5-45BE-840D-B02D63F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30D-F62E-43E6-98B4-A135FD5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4A4-6372-4F0C-969D-C69E0A5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CFB-CBDA-485A-ADC2-EE61361B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E43-5887-4844-A7B7-D25FFE1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4C4-46F8-41A3-A47F-AF4B338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41C-291E-484D-92D6-9BAB2E1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718-38E7-4EAC-83CF-E9EA52C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C391-3DB5-4BA9-B414-3D9E81DA6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a%20Bocelli%20&amp;%20Laura%20Pausini%20-%20Vivo%20Per%20Lei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3640" y="4937040"/>
            <a:ext cx="594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Italia - año 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ekton Pro"/>
              </a:rPr>
              <a:t>Lanciano es una pequeña ciudad medieval, que se encuentra en la costa del Mar Adriático de Italia, en la carretera entre San Giovanni Rotondo y Loreto. Lanciano significa "Lanza"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524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00"/>
                </a:solidFill>
                <a:latin typeface="Arial"/>
              </a:rPr>
              <a:t>Utilizar m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Andrea%20Bocelli%20&amp;%20Laura%20Pausini%20-%20Vivo%20Per%20Le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100160" y="-833400"/>
            <a:ext cx="11344320" cy="852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8000" y="4076640"/>
            <a:ext cx="2016000" cy="33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16080" y="0"/>
            <a:ext cx="1014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spués se volteó despacio hacia ellas, diciéndoles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Oh afortunados testigos a quién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Santísimo Dios, para destruir mi falta de fe, ha querido revelárse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Él mismo en este Bendito Sacramento y hacerse visib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 ante nuestros ojos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Vengan, hermanos y maravíllense ante nuestro Dios tan cerc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osotr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ontemplen la Carne y la Sangr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de Nuestro Amado Cristo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580000" cy="74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81080" y="0"/>
            <a:ext cx="9577440" cy="7101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7417080" cy="710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84720" y="333360"/>
            <a:ext cx="4743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Las personas se apresuraron para ir al altar y, al presenciar el milagro, empezaron a clamar, pidiendo perdón y misericordia.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ekton Pro"/>
              </a:rPr>
              <a:t>Otras empezaron a darse golpes de pecho, confesando sus pecados, declarándose indignos de presenciar tal milagr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Otros se arrodillaban en señal de respeto y gratitud por el regalo que el Señor les había concedido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Todos contaban la historia por toda la ciudad y por todos los pueblos circunvec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6745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0640"/>
            <a:ext cx="4392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se mantuvo intacta, pero la sangre se dividió en el cáliz, en 5 partículas de diferentes tamaños y formas irregulare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os monjes decidieron pesar las partículas descubriendo fenómenos particulares sobre el peso de cada una de ella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Cuando pesan 1, pesa lo mismo que 2 y 2 pesan lo mismo que las 5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Inmediatamente la Hostia y las cinco partículas fueron colocadas en un relicario de marf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232000" cy="316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08200" y="3429000"/>
            <a:ext cx="24429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27640" y="189000"/>
            <a:ext cx="453708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nálisis, realizados con absoluto rigor científico (desde 1574, en 1970-71 y en 1991) y documentados, por una serie de fotografías al microscop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ieron los siguientes resultado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 verdadera Carne. La Sangre es verdadera Sang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y la Sangre pertenecen a la especie human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 está constituida por el tejido muscular del corazón. En la Carne están presentes, en secciones, el miocardio, el endocardio, el nervio vago y, por el relevante espesor del miocardio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l ventrículo cardiaco izqui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0"/>
            <a:ext cx="4753080" cy="71010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87840" y="907920"/>
            <a:ext cx="2851200" cy="50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476280"/>
            <a:ext cx="5040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arne es un CORAZON completo en su estructura esenci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La Carne y la Sangre tienen el mismo grupo sanguíneo (AB)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ekton Pro"/>
              </a:rPr>
              <a:t>ípico grupo sanguíneo judí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se encontraron las proteínas normalmente fraccionadas, con la proporción en porcentaje, correspondiente al cuadro Sero-proteico de la sangre fresca normal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* En la Sangre también se encontraron estos minerales : Cloruro, fósforo, magnesio, potasio, sodio y cal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81080" y="0"/>
            <a:ext cx="4897440" cy="7029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379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84720" y="155736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La conservación de la Carne y de la Sangre, dejadas al estado natura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por espacio de trece siglos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y expuestas a la acción de agentes atmosféricos y biológicos, es de por sí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 un fenómeno extraordinari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Conclusión: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Se puede decir que la Ciencia ha dado una respuesta segura y exhaustiva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acerca de la autenticidad del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ekton Pro"/>
              </a:rPr>
              <a:t>Milagro Eucarístico de Lanc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Basílica del milagro Eucarísico en Lanciano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80000" y="0"/>
            <a:ext cx="5508360" cy="702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40464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Aquí se conser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sde hace má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trece siglos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el primero 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ekton Pro"/>
              </a:rPr>
              <a:t>y más grande</a:t>
            </a: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e l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milagro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Eucarístico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7567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285588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13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333360"/>
            <a:ext cx="684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Carne, desde 1713, se conserva en un artístico Ostensorio de plata, de la escuela napolitana, finamente cinc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La Sangre está contenida en una rica y antigua ampolla de cristal de Ro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72360" y="333360"/>
            <a:ext cx="27716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La Hostia-Carne, aún se conserva muy bie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Tekton Pro"/>
              </a:rPr>
              <a:t>El tamaño de la hostia es como las hostias que el sacerdote eleva en las misas hoy día.</a:t>
            </a:r>
            <a:r>
              <a:rPr b="1" i="1" lang="es-ES" sz="2400" spc="-1" strike="noStrike">
                <a:solidFill>
                  <a:srgbClr val="000000"/>
                </a:solidFill>
                <a:latin typeface="Tekton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221000"/>
            <a:ext cx="2664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Es ligeramente pard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dquiere un tinte r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si se ilumina por el 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posterior.  La sang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coagulada tiene un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terroso que tiende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ekton Pro"/>
              </a:rPr>
              <a:t>amarillo O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2852640"/>
            <a:ext cx="741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El Milagro de Lanciano es un continuo milag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La Hostia convertida en Carne y el Vino convertido en Sang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sin el uso de ningún preservativo, están aún presentes en el relic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ekton Pro"/>
              </a:rPr>
              <a:t>Cuando en 1991 hicieron cortes histológicos de la carne, esta sang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360" y="5084640"/>
            <a:ext cx="6624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 DIOS TE BENDIGA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49360"/>
            <a:ext cx="73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te bendiga y te guarde,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ga brillar su rostro </a:t>
            </a: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sobre ti  y te conceda su Gracia, </a:t>
            </a:r>
            <a:br>
              <a:rPr sz="3200"/>
            </a:br>
            <a:br>
              <a:rPr sz="3200"/>
            </a:br>
            <a:r>
              <a:rPr b="1" i="1" lang="es-ES_tradnl" sz="3200" spc="-1" strike="noStrike">
                <a:solidFill>
                  <a:srgbClr val="000000"/>
                </a:solidFill>
                <a:latin typeface="Tekton Pro"/>
              </a:rPr>
              <a:t>Que el Señor habite en ti y te de Paz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7008840" cy="525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40600" y="3357720"/>
            <a:ext cx="2003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33360"/>
            <a:ext cx="45720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Un Monje de la Orden de San Basil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sabio en las cosas del mun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ero no en las cosas de la f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pasaba un tiempo de prue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contra la 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kton Pro"/>
              </a:rPr>
              <a:t>Dudaba de la presencia real de Nuestro Señor Jesús en la Eucaristía. Oraba constantemente para librarse de esas dudas por miedo de perder su vocación.</a:t>
            </a:r>
            <a:r>
              <a:rPr b="1" i="1" lang="en-US" sz="2000" spc="-1" strike="noStrike">
                <a:solidFill>
                  <a:srgbClr val="333399"/>
                </a:solidFill>
                <a:latin typeface="Tekton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400720" cy="7029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836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Sufría día tras día la du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¿Está Jesús realmente y, substancialmente presente en la Eucaristía?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kton Pro"/>
              </a:rPr>
              <a:t>Dudaba sobre el misterio de la transubstan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43280" cy="6858000"/>
          </a:xfrm>
          <a:prstGeom prst="rect">
            <a:avLst/>
          </a:prstGeom>
          <a:gradFill rotWithShape="0">
            <a:gsLst>
              <a:gs pos="0">
                <a:srgbClr val="ffa7a7"/>
              </a:gs>
              <a:gs pos="100000">
                <a:srgbClr val="754c4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86360" cy="568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260280"/>
            <a:ext cx="388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Oraba constantemente para librarse de esas dudas por miedo de perder su vocació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u sacerdocio se convirtió en una rutina y se destruía poco a poco. Especialmente la celebración de la Santa Misa se convirtió en una rutina más, un trabaj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5400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31147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La sit</a:t>
            </a:r>
            <a:r>
              <a:rPr b="1" lang="en-US" sz="2400" spc="-1" strike="noStrike">
                <a:solidFill>
                  <a:srgbClr val="000000"/>
                </a:solidFill>
                <a:latin typeface="Tekton Pro"/>
              </a:rPr>
              <a:t>uació</a:t>
            </a: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n en el mundo no le ayudó a fortalecer su fe. Había muchas herejías surgiendo durante esta época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Sacerdotes y obispos eran víctimas de esas herejías, las cuales estaban infectando a la Iglesia por todas parte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 Algunas de estas herejías negaban la presencia real de nuestro Señor en la Eucaristía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l sacerdote no podía levantarse de esta oscuridad que envolvía su corazón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Cada vez estaba más convencido, por la lógica humana, de esas herej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98900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Una mañana del año 700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mientras celebraba la Santa Misa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el sacerdote estaba siendo atacado fuertemente por la duda y después de haber pronunciado las solemnes palabras de la consagración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vio como la Santa Hostia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se convirtió en un círculo de carne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ekton Pro"/>
              </a:rPr>
              <a:t>y el vino en sangre vi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342900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aba ante un fenómeno sobrenatural visible, que lo hizo temblar y comenzó a llorar incontrolablemente de gozo y agradecimiento. . 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ekton Pro"/>
              </a:rPr>
              <a:t>Estuvo largo rato, de espaldas a los fieles, como era la misa en es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29:12Z</dcterms:created>
  <dc:creator/>
  <dc:description/>
  <dc:language>en-US</dc:language>
  <cp:lastModifiedBy>Colossus User</cp:lastModifiedBy>
  <dcterms:modified xsi:type="dcterms:W3CDTF">2009-02-18T03:11:08Z</dcterms:modified>
  <cp:revision>0</cp:revision>
  <dc:subject/>
  <dc:title>Lanciano-Italia</dc:title>
</cp:coreProperties>
</file>