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3CA9-2E25-4DBF-8A3B-3F3ADD28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247F-D8FB-47AE-BCC7-B445194B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5EDE-DD2C-4885-9A79-31DE65ED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83E1-335C-4D2E-BAA3-22575D4D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3663-8317-4528-A62B-4B756F99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C142-F043-4F2B-AC10-A96E10A7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5ED6-AD61-4AEB-AE5B-BA4B266F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D1BD-B27D-4013-A3E4-3B40F784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EDD9-451F-4EAB-BDFF-9741BDFA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49B0-7039-42CB-A2A4-FCFFA9BB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DFDA-E413-4CCA-94C1-40BDB615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71FD-F59A-4432-981C-49063816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CA94-F341-4354-A681-DFFF226F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C7FC-6E18-454A-BF96-5881F40D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BFFE-4EBF-4C56-84B4-DEF5D90B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BE10-4AD8-460A-BCA1-835A31A3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5703-2BFB-4BB8-A50E-8B0062D7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6B7D3-6EE5-4706-A5F9-317619DC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3EC82-C8DA-4F71-80EB-DBD9A5BF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6FE42-232D-42A5-B9E7-F3842724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DE2A2-FD8B-491E-BBC1-EB7B179F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A1D94-6511-447F-865D-C05674DB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ED4F-847C-470F-8275-58DC3294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EAA26-9DCE-413F-8A9E-D2B7E98D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CD077-BD5E-4653-9FE3-74684CE5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C8AA2-BF2F-489A-B109-0D9360D5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FDCDA-F5A1-4EA4-A6D6-86025353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190CF-8727-4AA2-B843-7D6737E0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9D4B3-20F6-4079-8344-8CCD5722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6CA67-8BE0-4C78-82B6-F6A1DE51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89AE6-0BB3-4AB6-B0D2-A5D48B37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1CF34-6B49-464B-A7E9-86871B78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73EA3-27D4-4006-9655-365CF0C4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9088-AE39-4BB6-95B0-9A410068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D9D83-E925-4345-8E75-8D219043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8A08A-653E-4862-9A1A-5690EA16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3B507-A5B6-41F7-BC8F-31DA743D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0DEA5-C918-46B7-87CE-D99471CF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E2DAE-8A6E-4188-B027-22B07C25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C34BF-DC2D-4866-8301-7E579DA7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4F126-EDAB-482B-BAC9-D0BA57F3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4B40F-FD9B-4B92-83F8-EED3A26C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9D444-8530-4A05-8C0C-9F95A6AB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ECF4E-6BCF-4630-A09F-E4485E2A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CDB-E306-4F11-9F83-F33F1CAA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B0CA0-3BEC-46B2-A81F-DDAD81B9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AEE66-FC4F-417E-A084-48BCDE1A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16A9A-2323-4319-B929-FAC2AD6A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8CA31-EBA5-4EFB-B903-94C7A326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7EAED-0C23-4B15-BC2F-E6C9A9B1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46D28-FE5C-4FA8-9A44-58584B04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E3949-E581-4A16-897E-08BB537A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31DD6-EEB6-40E0-BC8F-29647510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0F65C-02C6-4F15-ADE0-9570BC59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F9234-5E39-4528-A6B6-0FB3AE2E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BD3-EF33-4A53-A26E-45CB36C9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E5488-4718-4F48-8798-13AA4558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B6D0E-1175-4E27-89C1-05E21C89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B6814-7533-469B-99E4-170E977A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DA294-1731-46EA-BB96-DF47F810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7154E-AC87-41D3-B276-F65F17C9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F5777-A942-4E05-BB2E-34E0C57E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71FDF-14C2-4C7F-8367-E4FACC0E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A8642-3184-4F43-8C01-AD1B0837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DFDA3-D3CA-4D60-B99E-9D51F9AF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235AC-02DF-4C4F-B069-689F7C6A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65EF-8E5A-4A52-80F1-CF4392AC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48F01-6AA7-4C63-8860-35B5269D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51A1D-CFB9-4963-B944-33AA725D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898BC-AC12-4BE1-81FA-3205CC46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66B2F-5278-4B7B-8F44-FABA8AB8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7C8B4-0B6F-4ED1-9D83-D7CE0FE4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BB6FF-F94E-4713-BF74-831B36B7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A9E18-55B7-4AAA-970F-047E324A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00D56-F144-469B-93B2-72AFB00A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F0E17-AA3A-4C04-9855-E7AC69AB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B3484-81B2-4701-A924-B739B2FF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8DC7-7FFA-4DDF-B2DF-5C7B520E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8EC15-746B-4D71-B7CA-DDE2DED8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1E30A-F236-49A6-9F16-0D70BCB8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687F2-BA3E-48BC-961F-76A79502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C6DCC-C4AE-4174-9827-789369D2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AAAFA-C320-4085-BAA0-A0D08466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FA18-4D85-4904-A59D-91F897FD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6D08-0829-4B25-A5D7-1B92828D153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973C-D850-4653-AAA5-406AFCF154CD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0AB1-7AED-4498-864E-B1922EC1164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12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14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BA4B-520B-4356-B47D-5327B74E00E1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C5CA-D562-4FD7-B534-BF55FDCA0A8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1319-F1D1-4479-B8EF-D0D68487937F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780A-2748-455B-9602-04CA10440CE9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3" name="3 Imagen" descr="191310_10150140703804037_751234036_6643183_2977931_o.jpg"/>
          <p:cNvPicPr/>
          <p:nvPr/>
        </p:nvPicPr>
        <p:blipFill>
          <a:blip r:embed="rId1"/>
          <a:stretch/>
        </p:blipFill>
        <p:spPr>
          <a:xfrm>
            <a:off x="0" y="171360"/>
            <a:ext cx="9144000" cy="651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1 Imagen" descr="196801_10150140705594037_751234036_6643214_6056594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1 Imagen" descr="196858_10150140708354037_751234036_6643251_1281392_n.jpg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1 Imagen" descr="196892_10150140702999037_751234036_6643166_4656692_n.jpg"/>
          <p:cNvPicPr/>
          <p:nvPr/>
        </p:nvPicPr>
        <p:blipFill>
          <a:blip r:embed="rId1"/>
          <a:stretch/>
        </p:blipFill>
        <p:spPr>
          <a:xfrm>
            <a:off x="647640" y="0"/>
            <a:ext cx="781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1 Imagen" descr="197043_10150140701709037_751234036_6643137_108027_n.jpg"/>
          <p:cNvPicPr/>
          <p:nvPr/>
        </p:nvPicPr>
        <p:blipFill>
          <a:blip r:embed="rId1"/>
          <a:stretch/>
        </p:blipFill>
        <p:spPr>
          <a:xfrm>
            <a:off x="1008000" y="0"/>
            <a:ext cx="6659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1 Imagen" descr="197314_10150140705824037_751234036_6643218_4078906_n.jpg"/>
          <p:cNvPicPr/>
          <p:nvPr/>
        </p:nvPicPr>
        <p:blipFill>
          <a:blip r:embed="rId1"/>
          <a:stretch/>
        </p:blipFill>
        <p:spPr>
          <a:xfrm>
            <a:off x="0" y="406440"/>
            <a:ext cx="9144000" cy="604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3 Imagen" descr="198469_10150140703514037_751234036_6643179_7347733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3" name="4 Imagen" descr="198899_10150140710084037_751234036_6643278_6734305_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1 Imagen" descr="199498_10150140708759037_751234036_6643257_2790098_n.jpg"/>
          <p:cNvPicPr/>
          <p:nvPr/>
        </p:nvPicPr>
        <p:blipFill>
          <a:blip r:embed="rId1"/>
          <a:stretch/>
        </p:blipFill>
        <p:spPr>
          <a:xfrm>
            <a:off x="0" y="0"/>
            <a:ext cx="7451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1 Imagen" descr="199607_10150140707364037_751234036_6643236_7231896_n.jpg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1 Imagen" descr="199782_10150140702849037_751234036_6643163_2956601_n.jpg"/>
          <p:cNvPicPr/>
          <p:nvPr/>
        </p:nvPicPr>
        <p:blipFill>
          <a:blip r:embed="rId1"/>
          <a:stretch/>
        </p:blipFill>
        <p:spPr>
          <a:xfrm>
            <a:off x="0" y="0"/>
            <a:ext cx="3936960" cy="6858000"/>
          </a:xfrm>
          <a:prstGeom prst="rect">
            <a:avLst/>
          </a:prstGeom>
          <a:ln w="0">
            <a:noFill/>
          </a:ln>
        </p:spPr>
      </p:pic>
      <p:pic>
        <p:nvPicPr>
          <p:cNvPr id="327" name="2 Imagen" descr="200123_10150140705724037_751234036_6643216_704388_n.jpg"/>
          <p:cNvPicPr/>
          <p:nvPr/>
        </p:nvPicPr>
        <p:blipFill>
          <a:blip r:embed="rId2"/>
          <a:stretch/>
        </p:blipFill>
        <p:spPr>
          <a:xfrm>
            <a:off x="3929040" y="0"/>
            <a:ext cx="5214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1 Imagen" descr="200149_10150140709554037_751234036_6643268_5690739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2 Imagen" descr="200192_10150140702129037_751234036_6643147_6625844_n.jpg"/>
          <p:cNvPicPr/>
          <p:nvPr/>
        </p:nvPicPr>
        <p:blipFill>
          <a:blip r:embed="rId2"/>
          <a:stretch/>
        </p:blipFill>
        <p:spPr>
          <a:xfrm>
            <a:off x="0" y="95400"/>
            <a:ext cx="9144000" cy="6667200"/>
          </a:xfrm>
          <a:prstGeom prst="rect">
            <a:avLst/>
          </a:prstGeom>
          <a:ln w="0">
            <a:noFill/>
          </a:ln>
        </p:spPr>
      </p:pic>
      <p:pic>
        <p:nvPicPr>
          <p:cNvPr id="330" name="3 Imagen" descr="200149_10150140709554037_751234036_6643268_5690739_n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6" name="3 Imagen" descr="3.bmp"/>
          <p:cNvPicPr/>
          <p:nvPr/>
        </p:nvPicPr>
        <p:blipFill>
          <a:blip r:embed="rId1"/>
          <a:stretch/>
        </p:blipFill>
        <p:spPr>
          <a:xfrm>
            <a:off x="0" y="0"/>
            <a:ext cx="4429080" cy="6858000"/>
          </a:xfrm>
          <a:prstGeom prst="rect">
            <a:avLst/>
          </a:prstGeom>
          <a:ln w="0">
            <a:noFill/>
          </a:ln>
        </p:spPr>
      </p:pic>
      <p:pic>
        <p:nvPicPr>
          <p:cNvPr id="307" name="4 Imagen" descr="195877_10150140705324037_751234036_6643210_7034740_n.jpg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1 Imagen" descr="200192_10150140702129037_751234036_6643147_6625844_n.jpg"/>
          <p:cNvPicPr/>
          <p:nvPr/>
        </p:nvPicPr>
        <p:blipFill>
          <a:blip r:embed="rId1"/>
          <a:stretch/>
        </p:blipFill>
        <p:spPr>
          <a:xfrm>
            <a:off x="0" y="95400"/>
            <a:ext cx="9144000" cy="66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1 Imagen" descr="200489_10150140706174037_751234036_6643224_1830652_n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1 Imagen" descr="200594_10150140702419037_751234036_6643153_221801_n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334" name="2 Imagen" descr="200635_10150140704119037_751234036_6643188_3625188_n.jpg"/>
          <p:cNvPicPr/>
          <p:nvPr/>
        </p:nvPicPr>
        <p:blipFill>
          <a:blip r:embed="rId2"/>
          <a:stretch/>
        </p:blipFill>
        <p:spPr>
          <a:xfrm>
            <a:off x="4635360" y="0"/>
            <a:ext cx="4508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1 Imagen" descr="205112_10150140704009037_751234036_6643186_6661504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6" name="2 Imagen" descr="205286_10150140710204037_751234036_6643280_3553040_n.jpg"/>
          <p:cNvPicPr/>
          <p:nvPr/>
        </p:nvPicPr>
        <p:blipFill>
          <a:blip r:embed="rId2"/>
          <a:stretch/>
        </p:blipFill>
        <p:spPr>
          <a:xfrm>
            <a:off x="0" y="1060560"/>
            <a:ext cx="9144000" cy="47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9" name="3 Imagen" descr="205512_10150140705959037_751234036_6643220_5775902_n.jpg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3 Imagen" descr="205567_10150140704984037_751234036_6643202_5948181_n.jpg"/>
          <p:cNvPicPr/>
          <p:nvPr/>
        </p:nvPicPr>
        <p:blipFill>
          <a:blip r:embed="rId1"/>
          <a:stretch/>
        </p:blipFill>
        <p:spPr>
          <a:xfrm>
            <a:off x="0" y="0"/>
            <a:ext cx="4143240" cy="6858000"/>
          </a:xfrm>
          <a:prstGeom prst="rect">
            <a:avLst/>
          </a:prstGeom>
          <a:ln w="0">
            <a:noFill/>
          </a:ln>
        </p:spPr>
      </p:pic>
      <p:pic>
        <p:nvPicPr>
          <p:cNvPr id="341" name="5 Imagen" descr="205456_10150140702754037_751234036_6643161_1382676_n.jpg"/>
          <p:cNvPicPr/>
          <p:nvPr/>
        </p:nvPicPr>
        <p:blipFill>
          <a:blip r:embed="rId2"/>
          <a:stretch/>
        </p:blipFill>
        <p:spPr>
          <a:xfrm>
            <a:off x="4143240" y="0"/>
            <a:ext cx="5072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1 Imagen" descr="205615_10150140709914037_751234036_6643275_12545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1 Imagen" descr="205617_10150140702579037_751234036_6643157_1726388_n.jpg"/>
          <p:cNvPicPr/>
          <p:nvPr/>
        </p:nvPicPr>
        <p:blipFill>
          <a:blip r:embed="rId1"/>
          <a:stretch/>
        </p:blipFill>
        <p:spPr>
          <a:xfrm>
            <a:off x="1008000" y="0"/>
            <a:ext cx="7309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1 Imagen" descr="206081_10150140708584037_751234036_6643254_2174240_n.jpg"/>
          <p:cNvPicPr/>
          <p:nvPr/>
        </p:nvPicPr>
        <p:blipFill>
          <a:blip r:embed="rId1"/>
          <a:stretch/>
        </p:blipFill>
        <p:spPr>
          <a:xfrm>
            <a:off x="1295280" y="0"/>
            <a:ext cx="6085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1 Imagen" descr="206191_10150140709834037_751234036_6643273_3186790_n.jpg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346" name="2 Imagen" descr="206302_10150140702624037_751234036_6643158_4852177_n.jpg"/>
          <p:cNvPicPr/>
          <p:nvPr/>
        </p:nvPicPr>
        <p:blipFill>
          <a:blip r:embed="rId2"/>
          <a:stretch/>
        </p:blipFill>
        <p:spPr>
          <a:xfrm>
            <a:off x="4643280" y="0"/>
            <a:ext cx="4515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3 Imagen" descr="195915_10150140705654037_751234036_6643215_8234449_n.jpg"/>
          <p:cNvPicPr/>
          <p:nvPr/>
        </p:nvPicPr>
        <p:blipFill>
          <a:blip r:embed="rId1"/>
          <a:stretch/>
        </p:blipFill>
        <p:spPr>
          <a:xfrm>
            <a:off x="0" y="368280"/>
            <a:ext cx="914400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1 Imagen" descr="196242_10150140705894037_751234036_6643219_1109081_n.jpg"/>
          <p:cNvPicPr/>
          <p:nvPr/>
        </p:nvPicPr>
        <p:blipFill>
          <a:blip r:embed="rId1"/>
          <a:stretch/>
        </p:blipFill>
        <p:spPr>
          <a:xfrm>
            <a:off x="0" y="1212840"/>
            <a:ext cx="9144000" cy="443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1 Imagen" descr="196244_10150140701909037_751234036_6643142_535248_n.jpg"/>
          <p:cNvPicPr/>
          <p:nvPr/>
        </p:nvPicPr>
        <p:blipFill>
          <a:blip r:embed="rId1"/>
          <a:stretch/>
        </p:blipFill>
        <p:spPr>
          <a:xfrm>
            <a:off x="344520" y="0"/>
            <a:ext cx="8454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1 Imagen" descr="196295_10150140708484037_751234036_6643252_7222863_n.jpg"/>
          <p:cNvPicPr/>
          <p:nvPr/>
        </p:nvPicPr>
        <p:blipFill>
          <a:blip r:embed="rId1"/>
          <a:stretch/>
        </p:blipFill>
        <p:spPr>
          <a:xfrm>
            <a:off x="1295280" y="0"/>
            <a:ext cx="6301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2 Imagen" descr="196413_10150140701864037_751234036_6643141_5186078_n.jpg"/>
          <p:cNvPicPr/>
          <p:nvPr/>
        </p:nvPicPr>
        <p:blipFill>
          <a:blip r:embed="rId1"/>
          <a:stretch/>
        </p:blipFill>
        <p:spPr>
          <a:xfrm>
            <a:off x="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313" name="3 Imagen" descr="196719_10150140701964037_751234036_6643143_6529548_n.jpg"/>
          <p:cNvPicPr/>
          <p:nvPr/>
        </p:nvPicPr>
        <p:blipFill>
          <a:blip r:embed="rId2"/>
          <a:stretch/>
        </p:blipFill>
        <p:spPr>
          <a:xfrm>
            <a:off x="4357800" y="0"/>
            <a:ext cx="4786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1 Imagen" descr="196737_10150140708169037_751234036_6643248_5546051_n.jpg"/>
          <p:cNvPicPr/>
          <p:nvPr/>
        </p:nvPicPr>
        <p:blipFill>
          <a:blip r:embed="rId1"/>
          <a:stretch/>
        </p:blipFill>
        <p:spPr>
          <a:xfrm>
            <a:off x="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315" name="2 Imagen" descr="196853_10150140701389037_751234036_6643132_3574642_n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1 Imagen" descr="196756_10150140710464037_751234036_6643283_5473309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3:36:46Z</dcterms:created>
  <dc:creator>User</dc:creator>
  <dc:description/>
  <dc:language>en-US</dc:language>
  <cp:lastModifiedBy>Oliver Zimmermann Arredondo</cp:lastModifiedBy>
  <dcterms:modified xsi:type="dcterms:W3CDTF">2011-04-11T18:28:19Z</dcterms:modified>
  <cp:revision>10</cp:revision>
  <dc:subject/>
  <dc:title>Diapositiva 1</dc:title>
</cp:coreProperties>
</file>