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2F5-F603-4896-B762-79698696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442-8CE6-4BAC-817D-0D292DED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58D-4781-43CE-B34E-6A17F37A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9F8-CC22-4869-9B4F-57C1EDBA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BB24-F08C-4F81-934E-69ADA283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1A8B-966C-40EA-B32A-9AF83B86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10F8-A670-4A6E-A148-76E6A124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A217-A095-4383-9AD7-CFCCE719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DD45-3955-4C5C-BA46-90FE014F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631E-3583-4480-9714-83D51483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C1E3-FA5E-47DE-A101-15C67868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016-1D56-4A3B-96B9-218091C5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CDBA-3F9F-4242-B2FE-6E790C15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2763-3C59-4C7E-B36C-E952DC18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7D0F-AE22-44FE-86E4-C9FBA5F0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84B8-34D1-487E-9231-9B4DBDC6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B244-56C5-4F40-BD85-5D32337E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F936-398B-4D87-A087-93B29E34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BDE6-51E8-4C0F-86D1-AAB38C78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CCB72-76D2-4D36-B352-DEE85C55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2849-5DA0-4EE8-8D6A-E0728EBB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DA7B5-C046-478A-B243-C26D4646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1E7-ED56-4C5D-ADFC-5C5A529B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F18B-7604-4158-8BA8-9D808511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9128-CCB4-492E-8221-710BB499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5FE6-415F-45C6-8C18-550D905F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9F652-C8FB-480F-8A6F-B0ED14A1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BE21-A696-49FC-9D5D-EEC346FC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64E7-D1D1-4230-9843-196968CA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6D85-B683-4F47-822A-3BA68BB9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9987-AD26-46C7-9171-B7DBB453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20047-13AB-4804-9FC7-449FF5A6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7700-A49D-4C0D-AEC2-51650FD1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CBD-B509-4652-8B0E-D84624A1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8B348-9D49-407E-B911-22042789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02FB1-16BF-4172-80A9-3BCE672B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8CA0-7263-462A-815B-1994BD24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BB65-212A-48E2-990D-34C1224D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8C1C8-6735-461E-A46B-BCE47721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A6F3C-C48D-4A84-B5C4-BAB60838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7801-543D-4CD4-97C4-2E72B238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F1D04-D052-4612-810D-6CB13253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FA59D-4377-4DED-B797-52D646F0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19907-376B-4944-ABE5-E699EB53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C32-B268-4B62-9497-9462EDA6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02240-F2B0-4969-916A-C7A85BE0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F66DE-B699-414C-A66F-E5A179D8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6BB32-F269-42F9-ABEC-49CCD214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D3AF-9747-474F-B434-DC032446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101A8-1CBD-4AE9-AB57-2DE37C80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C0154-9F0E-4211-A427-3D8BAA14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575F4-1C65-458F-B559-68E76BF8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A13EE-BF25-4F08-AB32-FCEAA65F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F133-3AB4-4A6C-9E3D-AFACAB94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CB60-96C0-4D46-8EB6-A26EAD71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940-B65D-49F7-9224-64648BD9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41967-BAFE-4A08-B33B-DC773DEB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63F0-8B36-4832-8414-6563C512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87CF3-A8F8-4821-A792-0B69B653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04A85-1ED9-4920-830F-98F1704D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CD3A7-E3FA-4280-8B61-FAA28003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1BB7E-2AD5-420A-9097-3671FA9C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EBA7-748D-436C-96AB-A14BC8AA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0D947-A7A4-4B62-9DAB-4D35468E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562DF-8072-4903-846C-3DA98C7E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D35F7-F048-47CB-B142-8F15A859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571-1758-473F-BD61-C82C52A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232B2-33FF-4B54-B9A9-C88EB7D9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DC5B1-2BD4-4370-8A1F-EB0A5F95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95114-F2C9-4F07-99B0-EE346CB3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0A922-1F70-498A-B42D-6797CBB9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CE1FB-508A-4461-A719-B6060EDF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5AC0F-EAC5-4612-A017-191A4880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E0731-9A92-4813-B599-B2E80C70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44E12-B558-4783-BD6B-2C83111C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767DD-71BD-46B8-8859-1C477904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3DF4C-9EA3-45A2-B2BD-17B29916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15B-8976-48DA-B9F4-04DEB37A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67FFA-3ED6-4DFB-B958-2EA115C3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CB29D-5144-41CF-B84E-F4D83B74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40625-E33D-44A3-9F23-9813C668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DDAD0-E08A-4031-AED8-8DEF4A8A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80C5-2CD8-4F5C-95BB-D57323CE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B74-2A1E-49EA-B0D0-0A66B1E2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9085-216F-4066-9D68-54817C25CC0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AD37-EF12-4FF3-9300-AF4E41931394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B256-6BB5-4BA6-80EB-A0B6A454F1D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966A-8E1B-406C-87AF-DA1BA1FC597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2930-AA27-49C8-A0AE-FEF48DA1D02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3784-5DB5-4844-BF28-1014ED0E4FE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2F4F-FA40-4029-97DB-EB81123EAD3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3" name="3 Imagen" descr="191310_10150140703804037_751234036_6643183_2977931_o.jpg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5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Imagen" descr="196801_10150140705594037_751234036_6643214_6056594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1 Imagen" descr="196858_10150140708354037_751234036_6643251_1281392_n.jp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Imagen" descr="196892_10150140702999037_751234036_6643166_4656692_n.jpg"/>
          <p:cNvPicPr/>
          <p:nvPr/>
        </p:nvPicPr>
        <p:blipFill>
          <a:blip r:embed="rId1"/>
          <a:stretch/>
        </p:blipFill>
        <p:spPr>
          <a:xfrm>
            <a:off x="64764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1 Imagen" descr="197043_10150140701709037_751234036_6643137_108027_n.jpg"/>
          <p:cNvPicPr/>
          <p:nvPr/>
        </p:nvPicPr>
        <p:blipFill>
          <a:blip r:embed="rId1"/>
          <a:stretch/>
        </p:blipFill>
        <p:spPr>
          <a:xfrm>
            <a:off x="1008000" y="0"/>
            <a:ext cx="6659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1 Imagen" descr="197314_10150140705824037_751234036_6643218_4078906_n.jpg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3 Imagen" descr="198469_10150140703514037_751234036_6643179_7347733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4 Imagen" descr="198899_10150140710084037_751234036_6643278_6734305_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Imagen" descr="199498_10150140708759037_751234036_6643257_2790098_n.jpg"/>
          <p:cNvPicPr/>
          <p:nvPr/>
        </p:nvPicPr>
        <p:blipFill>
          <a:blip r:embed="rId1"/>
          <a:stretch/>
        </p:blipFill>
        <p:spPr>
          <a:xfrm>
            <a:off x="0" y="0"/>
            <a:ext cx="745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 Imagen" descr="199607_10150140707364037_751234036_6643236_7231896_n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Imagen" descr="199782_10150140702849037_751234036_6643163_2956601_n.jpg"/>
          <p:cNvPicPr/>
          <p:nvPr/>
        </p:nvPicPr>
        <p:blipFill>
          <a:blip r:embed="rId1"/>
          <a:stretch/>
        </p:blipFill>
        <p:spPr>
          <a:xfrm>
            <a:off x="0" y="0"/>
            <a:ext cx="3936960" cy="6858000"/>
          </a:xfrm>
          <a:prstGeom prst="rect">
            <a:avLst/>
          </a:prstGeom>
          <a:ln w="0">
            <a:noFill/>
          </a:ln>
        </p:spPr>
      </p:pic>
      <p:pic>
        <p:nvPicPr>
          <p:cNvPr id="327" name="2 Imagen" descr="200123_10150140705724037_751234036_6643216_704388_n.jpg"/>
          <p:cNvPicPr/>
          <p:nvPr/>
        </p:nvPicPr>
        <p:blipFill>
          <a:blip r:embed="rId2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1 Imagen" descr="200149_10150140709554037_751234036_6643268_569073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2 Imagen" descr="200192_10150140702129037_751234036_6643147_6625844_n.jpg"/>
          <p:cNvPicPr/>
          <p:nvPr/>
        </p:nvPicPr>
        <p:blipFill>
          <a:blip r:embed="rId2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  <p:pic>
        <p:nvPicPr>
          <p:cNvPr id="330" name="3 Imagen" descr="200149_10150140709554037_751234036_6643268_5690739_n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3 Imagen" descr="3.bmp"/>
          <p:cNvPicPr/>
          <p:nvPr/>
        </p:nvPicPr>
        <p:blipFill>
          <a:blip r:embed="rId1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4 Imagen" descr="195877_10150140705324037_751234036_6643210_7034740_n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1 Imagen" descr="200192_10150140702129037_751234036_6643147_6625844_n.jpg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6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1 Imagen" descr="200489_10150140706174037_751234036_6643224_1830652_n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1 Imagen" descr="200594_10150140702419037_751234036_6643153_221801_n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34" name="2 Imagen" descr="200635_10150140704119037_751234036_6643188_3625188_n.jpg"/>
          <p:cNvPicPr/>
          <p:nvPr/>
        </p:nvPicPr>
        <p:blipFill>
          <a:blip r:embed="rId2"/>
          <a:stretch/>
        </p:blipFill>
        <p:spPr>
          <a:xfrm>
            <a:off x="4635360" y="0"/>
            <a:ext cx="4508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1 Imagen" descr="205112_10150140704009037_751234036_6643186_6661504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2 Imagen" descr="205286_10150140710204037_751234036_6643280_3553040_n.jpg"/>
          <p:cNvPicPr/>
          <p:nvPr/>
        </p:nvPicPr>
        <p:blipFill>
          <a:blip r:embed="rId2"/>
          <a:stretch/>
        </p:blipFill>
        <p:spPr>
          <a:xfrm>
            <a:off x="0" y="1060560"/>
            <a:ext cx="9144000" cy="47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9" name="3 Imagen" descr="205512_10150140705959037_751234036_6643220_5775902_n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3 Imagen" descr="205567_10150140704984037_751234036_6643202_5948181_n.jpg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pic>
        <p:nvPicPr>
          <p:cNvPr id="341" name="5 Imagen" descr="205456_10150140702754037_751234036_6643161_1382676_n.jpg"/>
          <p:cNvPicPr/>
          <p:nvPr/>
        </p:nvPicPr>
        <p:blipFill>
          <a:blip r:embed="rId2"/>
          <a:stretch/>
        </p:blipFill>
        <p:spPr>
          <a:xfrm>
            <a:off x="4143240" y="0"/>
            <a:ext cx="5072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1 Imagen" descr="205615_10150140709914037_751234036_6643275_12545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1 Imagen" descr="205617_10150140702579037_751234036_6643157_1726388_n.jpg"/>
          <p:cNvPicPr/>
          <p:nvPr/>
        </p:nvPicPr>
        <p:blipFill>
          <a:blip r:embed="rId1"/>
          <a:stretch/>
        </p:blipFill>
        <p:spPr>
          <a:xfrm>
            <a:off x="1008000" y="0"/>
            <a:ext cx="730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 Imagen" descr="206081_10150140708584037_751234036_6643254_2174240_n.jpg"/>
          <p:cNvPicPr/>
          <p:nvPr/>
        </p:nvPicPr>
        <p:blipFill>
          <a:blip r:embed="rId1"/>
          <a:stretch/>
        </p:blipFill>
        <p:spPr>
          <a:xfrm>
            <a:off x="1295280" y="0"/>
            <a:ext cx="608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Imagen" descr="206191_10150140709834037_751234036_6643273_3186790_n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346" name="2 Imagen" descr="206302_10150140702624037_751234036_6643158_4852177_n.jpg"/>
          <p:cNvPicPr/>
          <p:nvPr/>
        </p:nvPicPr>
        <p:blipFill>
          <a:blip r:embed="rId2"/>
          <a:stretch/>
        </p:blipFill>
        <p:spPr>
          <a:xfrm>
            <a:off x="4643280" y="0"/>
            <a:ext cx="451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3 Imagen" descr="195915_10150140705654037_751234036_6643215_8234449_n.jpg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1 Imagen" descr="196242_10150140705894037_751234036_6643219_1109081_n.jpg"/>
          <p:cNvPicPr/>
          <p:nvPr/>
        </p:nvPicPr>
        <p:blipFill>
          <a:blip r:embed="rId1"/>
          <a:stretch/>
        </p:blipFill>
        <p:spPr>
          <a:xfrm>
            <a:off x="0" y="1212840"/>
            <a:ext cx="9144000" cy="44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Imagen" descr="196244_10150140701909037_751234036_6643142_535248_n.jpg"/>
          <p:cNvPicPr/>
          <p:nvPr/>
        </p:nvPicPr>
        <p:blipFill>
          <a:blip r:embed="rId1"/>
          <a:stretch/>
        </p:blipFill>
        <p:spPr>
          <a:xfrm>
            <a:off x="344520" y="0"/>
            <a:ext cx="8454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1 Imagen" descr="196295_10150140708484037_751234036_6643252_7222863_n.jpg"/>
          <p:cNvPicPr/>
          <p:nvPr/>
        </p:nvPicPr>
        <p:blipFill>
          <a:blip r:embed="rId1"/>
          <a:stretch/>
        </p:blipFill>
        <p:spPr>
          <a:xfrm>
            <a:off x="1295280" y="0"/>
            <a:ext cx="6301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2 Imagen" descr="196413_10150140701864037_751234036_6643141_5186078_n.jpg"/>
          <p:cNvPicPr/>
          <p:nvPr/>
        </p:nvPicPr>
        <p:blipFill>
          <a:blip r:embed="rId1"/>
          <a:stretch/>
        </p:blipFill>
        <p:spPr>
          <a:xfrm>
            <a:off x="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3 Imagen" descr="196719_10150140701964037_751234036_6643143_6529548_n.jpg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Imagen" descr="196737_10150140708169037_751234036_6643248_5546051_n.jpg"/>
          <p:cNvPicPr/>
          <p:nvPr/>
        </p:nvPicPr>
        <p:blipFill>
          <a:blip r:embed="rId1"/>
          <a:stretch/>
        </p:blipFill>
        <p:spPr>
          <a:xfrm>
            <a:off x="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2 Imagen" descr="196853_10150140701389037_751234036_6643132_3574642_n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1 Imagen" descr="196756_10150140710464037_751234036_6643283_547330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3:36:46Z</dcterms:created>
  <dc:creator>User</dc:creator>
  <dc:description/>
  <dc:language>en-US</dc:language>
  <cp:lastModifiedBy>Oliver Zimmermann Arredondo</cp:lastModifiedBy>
  <dcterms:modified xsi:type="dcterms:W3CDTF">2011-04-11T18:28:19Z</dcterms:modified>
  <cp:revision>10</cp:revision>
  <dc:subject/>
  <dc:title>Diapositiva 1</dc:title>
</cp:coreProperties>
</file>