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13.jpeg" ContentType="image/jpeg"/>
  <Override PartName="/ppt/media/image1.jpeg" ContentType="image/jpeg"/>
  <Override PartName="/ppt/media/image2.jpeg" ContentType="image/jpeg"/>
  <Override PartName="/ppt/media/Emile%20Pandolfi%20-%20What%20kind%20of%20fool%20am%20I%20%20cut%20%20pps.wav" ContentType="audio/x-wav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B157-2577-4FAC-A0A8-E267316C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408C-99CC-42BB-A4EF-D2FCADA8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5887-F374-4B46-A7AB-60C25B05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5C3-A194-4C3C-BA9B-A555F876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B965-5DA6-46EF-92A4-E3C7E9C1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23D3-FDB8-454A-AE9D-877ADB37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0F1C-7178-494A-AA96-FE5AC2E2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29CC-A8FF-43A0-B77B-2A5EDE6E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A31B-F962-46AC-B450-F49578D8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FD53-C11B-4D57-9E2E-421142C8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D167-A456-4AA9-89C5-63845329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AB7-1159-4A82-B9B2-BDC6C778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2AE4-FFD7-4E50-9FF8-EFC9406F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7D5F-CB0A-446A-9EC3-20D7DCCC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059A-B2BB-4CF6-81DE-219BA9DE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78E5-9B4B-4CD9-A690-FD905A75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EFE8-61D4-4A71-8266-4F6362B2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6895C-796B-46C1-A38C-6EB15F40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6FC73-E4D9-4CB5-845E-DB5093F6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24AD8-3292-4B18-91B3-BDF2C9F4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4E248-6685-443C-98C2-B620DC50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EDE2F-B7A8-4ADE-8B17-AE418FC5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DAB9-F2AF-4E0B-99A6-8E05EF2B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51434-D442-45A8-BC8C-C02026A8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832F4-B085-4BCA-B60B-EDC4ED71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4C896-B6AC-4DAF-BA84-7B09E906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0744C-2811-4318-B550-EC1564C5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A3AA5-1C47-46EC-B387-A4854143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C984A-7664-4784-A7AF-7069BAB9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0C128-C086-420F-B5B5-738B5ECC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E4B6-1593-4936-BF0C-EA430B62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99D-2C9C-47FC-A58D-69136B32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ACD6-5FD2-44AE-B24A-784AABCB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3B81-E493-49EB-9ACD-87F4B732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3C4-0B10-4BC8-B99B-D0F174F4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2DB-AA6D-46A1-B047-23F79CDF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D5AE-6704-4052-A055-F337E20873C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C1FB-B841-4AF7-950B-8DD0766CFBF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E128-146F-45E9-A57E-0C488436931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Emile%20Pandolfi%20-%20What%20kind%20of%20fool%20am%20I%20%20cut%20%20pps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708560" y="3078000"/>
            <a:ext cx="572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EL CÍRCULO DEL OD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587700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ú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milio Pandol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What kind of fool am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3480" y="19886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Tú trabajas mucho, estás cansado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 y necesitas de una buena noche de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sueño. Voy a cambiar las sábanas de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tu cama por otras bien limpias y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perfumadas, para que descanses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con tranquilidad. Mañana te sentirás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mejor"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089080" y="3357720"/>
            <a:ext cx="3059280" cy="30956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549360"/>
            <a:ext cx="7273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22600" y="692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81640" y="831960"/>
            <a:ext cx="569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Verdana"/>
              </a:rPr>
              <a:t>Luego lo bendijo y abandonó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Verdana"/>
              </a:rPr>
              <a:t>habitación, dejándolo solo 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330066"/>
                </a:solidFill>
                <a:latin typeface="Verdana"/>
              </a:rPr>
              <a:t>sus pensamiento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3006720" cy="3024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4920" y="260280"/>
            <a:ext cx="727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En ese momento, se interrumpió el CÍRCULO DEL ODIO, porque chocó con la TOLERANCIA, el PERDÓN y el A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22600" y="692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6000" y="765000"/>
            <a:ext cx="727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332000" y="3284640"/>
            <a:ext cx="4707000" cy="3127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549360"/>
            <a:ext cx="7273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22600" y="692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6200" y="260280"/>
            <a:ext cx="72741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Si has ingresado en un CÍRCULO DE ODIO, acuérdate que con tolerancia, y disposición al perdón y sobre todo, con amor, puedes romper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340000" y="3068640"/>
            <a:ext cx="2660760" cy="34290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10540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Verdana"/>
              </a:rPr>
              <a:t>Por favor, pasa este mensaje a</a:t>
            </a:r>
            <a:br>
              <a:rPr sz="2800"/>
            </a:br>
            <a:r>
              <a:rPr b="1" lang="es-ES" sz="2800" spc="-1" strike="noStrike">
                <a:solidFill>
                  <a:srgbClr val="330066"/>
                </a:solidFill>
                <a:latin typeface="Verdana"/>
              </a:rPr>
              <a:t>12,600 ó a 73,500 personas más. No</a:t>
            </a:r>
            <a:br>
              <a:rPr sz="2800"/>
            </a:br>
            <a:r>
              <a:rPr b="1" lang="es-ES" sz="2800" spc="-1" strike="noStrike">
                <a:solidFill>
                  <a:srgbClr val="330066"/>
                </a:solidFill>
                <a:latin typeface="Verdana"/>
              </a:rPr>
              <a:t>hay ninguna recompensa por enviarlo</a:t>
            </a:r>
            <a:br>
              <a:rPr sz="2800"/>
            </a:br>
            <a:r>
              <a:rPr b="1" lang="es-ES" sz="2800" spc="-1" strike="noStrike">
                <a:solidFill>
                  <a:srgbClr val="330066"/>
                </a:solidFill>
                <a:latin typeface="Verdana"/>
              </a:rPr>
              <a:t>…… o castigo por no hacerlo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619280" y="2727360"/>
            <a:ext cx="4495680" cy="343836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Verdana"/>
                <a:ea typeface="Times New Roman"/>
              </a:rPr>
              <a:t>Pero quizá lo reciba alguien que lo ponga en práctica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47640" y="1998720"/>
            <a:ext cx="5264280" cy="3951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1989000"/>
            <a:ext cx="727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22600" y="692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6200" y="260280"/>
            <a:ext cx="72741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17800" y="325440"/>
            <a:ext cx="5516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Verdana"/>
              </a:rPr>
              <a:t>Podríamos comenz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Verdana"/>
              </a:rPr>
              <a:t>nosotros.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Verdana"/>
              </a:rPr>
              <a:t>¿O 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042920" y="3049560"/>
            <a:ext cx="5184720" cy="34624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6781680" cy="15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0066"/>
                </a:solidFill>
                <a:latin typeface="Verdana"/>
              </a:rPr>
              <a:t>El dueño de una empresa gritó al administrador, porque estaba enojado en ese momento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58920" y="3105000"/>
            <a:ext cx="4751280" cy="31654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wedge/>
    <p:sndAc>
      <p:stSnd>
        <p:snd r:embed="rId2" name="Emile%20Pandolfi%20-%20What%20kind%20of%20fool%20am%20I%20%20cut%20%20pp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863640"/>
            <a:ext cx="727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0066"/>
                </a:solidFill>
                <a:latin typeface="Verdana"/>
              </a:rPr>
              <a:t>El administrador llegó a su casa y gritó a su esposa, acusándola de gastar  demasiado, al verla con un vestido nuevo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460600" y="3049560"/>
            <a:ext cx="2290680" cy="34750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La esposa gritó a la empleada porque rompió un plato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700360" y="1719360"/>
            <a:ext cx="2932200" cy="4411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La empleada dio un puntapié al perro porque la hizo tropeza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556000" y="1719360"/>
            <a:ext cx="3227400" cy="4411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549360"/>
            <a:ext cx="7273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0240" y="692280"/>
            <a:ext cx="626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El perro salió corriendo y mordió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una señora que pasaba por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vereda, porque obstaculizaba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salida por la pu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390680" y="3284640"/>
            <a:ext cx="4621320" cy="30924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549360"/>
            <a:ext cx="7273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9680" y="692280"/>
            <a:ext cx="6051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Esa señora fue al hospital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vacunarse contra la rabia y gri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al joven médico porque le dol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cuando le aplicó la vacu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626000" y="3141720"/>
            <a:ext cx="2251080" cy="33829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El joven médico llegó a su casa y gritó a su madre, porque la comida no era de su agrado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476360" y="2314440"/>
            <a:ext cx="5327640" cy="35593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Verdana"/>
              </a:rPr>
              <a:t>La madre le acarició los cabellos diciéndole: Hijo querido, mañana te haré tu comida favorita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68360" y="1733400"/>
            <a:ext cx="3534120" cy="438156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04:50:17Z</dcterms:created>
  <dc:creator>Nurisk</dc:creator>
  <dc:description/>
  <dc:language>en-US</dc:language>
  <cp:lastModifiedBy>RAMON</cp:lastModifiedBy>
  <dcterms:modified xsi:type="dcterms:W3CDTF">2006-11-05T07:30:40Z</dcterms:modified>
  <cp:revision>8</cp:revision>
  <dc:subject/>
  <dc:title>El circulo del odio</dc:title>
</cp:coreProperties>
</file>