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3.jpeg" ContentType="image/jpeg"/>
  <Override PartName="/ppt/media/image1.jpeg" ContentType="image/jpeg"/>
  <Override PartName="/ppt/media/image2.jpeg" ContentType="image/jpeg"/>
  <Override PartName="/ppt/media/Emile%20Pandolfi%20-%20What%20kind%20of%20fool%20am%20I%20%20cut%20%20pps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756-93C8-4E2C-A0F6-9AF1A842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D2B-F978-4354-960B-66412451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511-87F9-4252-8092-9B0386AE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37B-65B2-4912-9E2E-CEE2D759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D43A-7776-4D55-B239-498BF27B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D4A3-6EF5-4238-8CE8-F864DE75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6596-BFA3-429A-9B6F-A8369979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1DD3-F9DA-420C-BAE6-6FD2E7D0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308-3879-4ED8-86CF-19710F3B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A0CB-3952-4BC9-94B8-5D4EDB0A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F92B-56D8-4F96-AD54-36DCCB3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DAD-286E-45A4-AC9C-99CDDAAE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8E42-E631-4BD0-A2F4-9E1086E0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555A-98F2-4713-B164-598D7248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F704-9C1C-4284-8B4A-43D4EE78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C7FA-1F93-4559-8733-5EDC43FD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7DBC-DD47-4ED5-AF3A-AE5EEC30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40CF-43C6-4C02-B403-C80236D7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F7CA-2FFA-4EA3-A198-2E18D00B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225E-7C0C-487E-8C66-06F60463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287C-8E91-46D3-B5EF-144EC727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C67F-5C56-4BEF-9635-8D540A70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2C6-222E-416F-8111-AB7A559A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6C2C-554A-4E26-8992-DBD065AF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DB18-6D53-4074-B30C-3801AC7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5489-70E2-4DD0-A7B9-8FDD2758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CC85-9B80-4DDE-9458-86D98A86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A928-0859-4A4B-B6BD-EE59B4D9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962F-B6B6-4D1B-B17B-2652E434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2F1C-B11A-44CC-8D2B-DFAA1C6A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400-CF31-48BF-8785-45CF563C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F7E-9BB3-420B-AD99-2522C7E7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C41-4D0A-495F-A625-9D27A88E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E67-30D1-4D23-A592-7D0C79FF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641-E28B-47EF-84B0-2545E7AF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F23-CE2E-4245-85B5-D30AE92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DB11-D596-4B83-92EA-1251DED8800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0F26-67D3-46AF-A2B8-C7C55E6F06D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33F8-D484-4CB2-B51E-A0A838FBA4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mile%20Pandolfi%20-%20What%20kind%20of%20fool%20am%20I%20%20cut%20%20pp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08560" y="3078000"/>
            <a:ext cx="572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L CÍRCULO DEL O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58770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milio Pandol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What kind of fool am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3480" y="1988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Tú trabajas mucho, estás cansado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 y necesitas de una buena noche de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sueño. Voy a cambiar las sábanas de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tu cama por otras bien limpias y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perfumadas, para que descanses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con tranquilidad. Mañana te sentirás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mejor"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089080" y="3357720"/>
            <a:ext cx="3059280" cy="309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49360"/>
            <a:ext cx="727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22600" y="6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81640" y="831960"/>
            <a:ext cx="56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Luego lo bendijo y abandonó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habitación, dejándolo solo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sus pensamiento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3006720" cy="3024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4920" y="260280"/>
            <a:ext cx="727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En ese momento, se interrumpió el CÍRCULO DEL ODIO, porque chocó con la TOLERANCIA, el PERDÓN y el A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22600" y="6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00" y="765000"/>
            <a:ext cx="727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4707000" cy="312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49360"/>
            <a:ext cx="727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22600" y="6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200" y="260280"/>
            <a:ext cx="7274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Si has ingresado en un CÍRCULO DE ODIO, acuérdate que con tolerancia, y disposición al perdón y sobre todo, con amor, puedes rompe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266076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10540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Por favor, pasa este mensaje a</a:t>
            </a:r>
            <a:br>
              <a:rPr sz="2800"/>
            </a:b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12,600 ó a 73,500 personas más. No</a:t>
            </a:r>
            <a:br>
              <a:rPr sz="2800"/>
            </a:b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hay ninguna recompensa por enviarlo</a:t>
            </a:r>
            <a:br>
              <a:rPr sz="2800"/>
            </a:b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…… o castigo por no hacerlo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19280" y="2727360"/>
            <a:ext cx="4495680" cy="34383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Verdana"/>
                <a:ea typeface="Times New Roman"/>
              </a:rPr>
              <a:t>Pero quizá lo reciba alguien que lo ponga en práctica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47640" y="1998720"/>
            <a:ext cx="5264280" cy="3951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989000"/>
            <a:ext cx="727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22600" y="6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200" y="260280"/>
            <a:ext cx="7274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7800" y="325440"/>
            <a:ext cx="551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Podríamos comen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nosotros.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¿O 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42920" y="3049560"/>
            <a:ext cx="5184720" cy="3462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678168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Verdana"/>
              </a:rPr>
              <a:t>El dueño de una empresa gritó al administrador, porque estaba enojado en ese momento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58920" y="3105000"/>
            <a:ext cx="4751280" cy="31654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  <p:sndAc>
      <p:stSnd>
        <p:snd r:embed="rId2" name="Emile%20Pandolfi%20-%20What%20kind%20of%20fool%20am%20I%20%20cut%20%20pp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863640"/>
            <a:ext cx="727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Verdana"/>
              </a:rPr>
              <a:t>El administrador llegó a su casa y gritó a su esposa, acusándola de gastar  demasiado, al verla con un vestido nuev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60600" y="3049560"/>
            <a:ext cx="2290680" cy="3475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La esposa gritó a la empleada porque rompió un plato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00360" y="1719360"/>
            <a:ext cx="2932200" cy="441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La empleada dio un puntapié al perro porque la hizo tropeza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56000" y="1719360"/>
            <a:ext cx="3227400" cy="441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49360"/>
            <a:ext cx="727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240" y="692280"/>
            <a:ext cx="626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El perro salió corriendo y mordió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una señora que pasaba por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vereda, porque obstaculizaba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salida por la 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390680" y="3284640"/>
            <a:ext cx="4621320" cy="30924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549360"/>
            <a:ext cx="727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9680" y="692280"/>
            <a:ext cx="6051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Esa señora fue al hospital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vacunarse contra la rabia y gri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al joven médico porque le dol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cuando le aplicó la vacu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26000" y="3141720"/>
            <a:ext cx="2251080" cy="3382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El joven médico llegó a su casa y gritó a su madre, porque la comida no era de su agrado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76360" y="2314440"/>
            <a:ext cx="5327640" cy="3559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La madre le acarició los cabellos diciéndole: Hijo querido, mañana te haré tu comida favorita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68360" y="1733400"/>
            <a:ext cx="3534120" cy="43815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04:50:17Z</dcterms:created>
  <dc:creator>Nurisk</dc:creator>
  <dc:description/>
  <dc:language>en-US</dc:language>
  <cp:lastModifiedBy>RAMON</cp:lastModifiedBy>
  <dcterms:modified xsi:type="dcterms:W3CDTF">2006-11-05T07:30:40Z</dcterms:modified>
  <cp:revision>8</cp:revision>
  <dc:subject/>
  <dc:title>El circulo del odio</dc:title>
</cp:coreProperties>
</file>