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La%20seva%20marew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chimes.wav" ContentType="audio/x-wav"/>
  <Override PartName="/ppt/media/PLUG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AA8E-F04A-49EC-8A6A-CD366D32224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DFE4-1D25-4723-AA4F-F72CB9C9C51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6617-10E1-4C08-8719-DB1AF33A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1ECA-6232-48EC-844C-FDDCEAE7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41DB-0174-4C64-9E68-271510CE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B759-7916-4FC8-B834-8EBAA464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4122-2315-482D-93F4-78AD606B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BD71-A6A4-49D2-BE45-9BE46E25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FA00-8429-4A0C-8BBA-330C9E64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E5A3-AEF5-44BD-80AF-716551A4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F97-34E7-4990-90EC-31574A78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6D8-027A-467A-81C7-59472809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2D2B-44FF-41EB-A6C3-FA09025F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4037-913C-4219-A5D9-D9670DBD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622486D-B4D2-423B-B0A7-D3EC3DA8E267}" type="datetime10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16:4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8BC8-5C38-4006-B941-F22F3CC4A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La%20seva%20marew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chimes.wav"/><Relationship Id="rId10" Type="http://schemas.openxmlformats.org/officeDocument/2006/relationships/audio" Target="../media/PLUGIN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9 Imagen" descr="resized_Arbel78w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7"/>
          <p:cNvSpPr/>
          <p:nvPr/>
        </p:nvSpPr>
        <p:spPr>
          <a:xfrm>
            <a:off x="7328880" y="160200"/>
            <a:ext cx="1599480" cy="627480"/>
          </a:xfrm>
          <a:prstGeom prst="rect">
            <a:avLst/>
          </a:prstGeom>
          <a:solidFill>
            <a:srgbClr val="ddeaac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Galile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71280" y="55440"/>
            <a:ext cx="6357960" cy="1007640"/>
          </a:xfrm>
          <a:prstGeom prst="rect">
            <a:avLst/>
          </a:prstGeom>
          <a:solidFill>
            <a:srgbClr val="00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Aquest epigrama de Casablancas pot insinuar els revolts del cam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9 Imagen" descr="resized_Arbel78w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7"/>
          <p:cNvSpPr/>
          <p:nvPr/>
        </p:nvSpPr>
        <p:spPr>
          <a:xfrm>
            <a:off x="7400520" y="214200"/>
            <a:ext cx="1599480" cy="627480"/>
          </a:xfrm>
          <a:prstGeom prst="rect">
            <a:avLst/>
          </a:prstGeom>
          <a:solidFill>
            <a:srgbClr val="ddeaac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Galile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571680" y="1106640"/>
            <a:ext cx="701172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1b61a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DOMING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1b61a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94400" y="27273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b3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0" y="3357720"/>
            <a:ext cx="914400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db32d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db32d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214280" y="5786280"/>
            <a:ext cx="7012080" cy="765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eaa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deaa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WordArt 8"/>
          <p:cNvSpPr txBox="1"/>
          <p:nvPr/>
        </p:nvSpPr>
        <p:spPr>
          <a:xfrm>
            <a:off x="1143000" y="110664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DOMINGO 1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94400" y="27147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WordArt 11"/>
          <p:cNvSpPr txBox="1"/>
          <p:nvPr/>
        </p:nvSpPr>
        <p:spPr>
          <a:xfrm>
            <a:off x="500040" y="3357720"/>
            <a:ext cx="824400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1b61a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1b61a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WordArt 12"/>
          <p:cNvSpPr txBox="1"/>
          <p:nvPr/>
        </p:nvSpPr>
        <p:spPr>
          <a:xfrm>
            <a:off x="1143000" y="57150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42920" y="4786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2d050"/>
                </a:solidFill>
                <a:latin typeface="Arial"/>
              </a:rPr>
              <a:t>HIJO, TODO LO MÍO ES TU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142920" y="4857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3"/>
                </a:solidFill>
                <a:latin typeface="Arial"/>
              </a:rPr>
              <a:t>HIJO, TODO LO MÍO ES TU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71280" y="0"/>
            <a:ext cx="6429600" cy="1007640"/>
          </a:xfrm>
          <a:prstGeom prst="rect">
            <a:avLst/>
          </a:prstGeom>
          <a:solidFill>
            <a:srgbClr val="00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a madre de Jesús” de T. L. de Victoria, evoca la gran acogedor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4" name="La%20seva%20mare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21" dur="1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23" dur="8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25" dur="1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27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29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762120" y="228600"/>
            <a:ext cx="7786440" cy="649476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ro el Señor le contestó: "Marta, Marta, andas inquieta y nerviosa con tantas cosas; sólo una es necesaria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071880" y="33480"/>
            <a:ext cx="428616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a sola cosa es necesari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4 Imagen" descr="ppsdespakis.jpg"/>
          <p:cNvPicPr/>
          <p:nvPr/>
        </p:nvPicPr>
        <p:blipFill>
          <a:blip r:embed="rId2"/>
          <a:stretch/>
        </p:blipFill>
        <p:spPr>
          <a:xfrm>
            <a:off x="2928960" y="1428840"/>
            <a:ext cx="6215040" cy="5397480"/>
          </a:xfrm>
          <a:prstGeom prst="rect">
            <a:avLst/>
          </a:prstGeom>
          <a:ln w="0">
            <a:noFill/>
          </a:ln>
        </p:spPr>
      </p:pic>
      <p:pic>
        <p:nvPicPr>
          <p:cNvPr id="92" name="5 Imagen" descr="pps10114_3390_50445964.jpg"/>
          <p:cNvPicPr/>
          <p:nvPr/>
        </p:nvPicPr>
        <p:blipFill>
          <a:blip r:embed="rId3"/>
          <a:stretch/>
        </p:blipFill>
        <p:spPr>
          <a:xfrm>
            <a:off x="2928960" y="1460520"/>
            <a:ext cx="6215040" cy="5397480"/>
          </a:xfrm>
          <a:prstGeom prst="rect">
            <a:avLst/>
          </a:prstGeom>
          <a:ln w="0">
            <a:noFill/>
          </a:ln>
        </p:spPr>
      </p:pic>
      <p:pic>
        <p:nvPicPr>
          <p:cNvPr id="93" name="6 Imagen" descr="ppsrefRuanen.jpg"/>
          <p:cNvPicPr/>
          <p:nvPr/>
        </p:nvPicPr>
        <p:blipFill>
          <a:blip r:embed="rId4"/>
          <a:stretch/>
        </p:blipFill>
        <p:spPr>
          <a:xfrm>
            <a:off x="2928960" y="1428840"/>
            <a:ext cx="6215040" cy="5397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71280" y="71280"/>
            <a:ext cx="2928960" cy="61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Dios no os preguntará la dimensión de vuestra casa, sino cuanta gente acogéi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en e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685800" y="304920"/>
            <a:ext cx="7858080" cy="618876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ría ha escogido la parte mejor, y no se la quitarán."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4 Imagen" descr="Imagen3.jp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142920" y="5391000"/>
            <a:ext cx="58006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¿Quién hay en vuestro horizon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42920" y="142920"/>
            <a:ext cx="714384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os quiere que Cristo esté en vosotros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2a lectu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928800" y="1071720"/>
            <a:ext cx="7286400" cy="423720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a-ES" sz="4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Arial"/>
              </a:rPr>
              <a:t>Haz, Señor, que este verano nos demos cuenta de tu paso por nuestra propia cas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714240" y="5929200"/>
            <a:ext cx="813780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720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6 Marcador de fecha"/>
          <p:cNvSpPr/>
          <p:nvPr/>
        </p:nvSpPr>
        <p:spPr>
          <a:xfrm>
            <a:off x="71280" y="71280"/>
            <a:ext cx="3714840" cy="785880"/>
          </a:xfrm>
          <a:prstGeom prst="rect">
            <a:avLst/>
          </a:prstGeom>
          <a:solidFill>
            <a:srgbClr val="74350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09 de julio de 2010</a:t>
            </a:r>
            <a:br>
              <a:rPr sz="2400"/>
            </a:br>
            <a:fld id="{70A4E155-5A09-4F53-8A5B-4E8552493382}" type="datetime10">
              <a:rPr b="0" lang="ca-ES" sz="2400" spc="-1" strike="noStrike">
                <a:solidFill>
                  <a:srgbClr val="ffffff"/>
                </a:solidFill>
                <a:latin typeface="Arial"/>
                <a:ea typeface="Arial"/>
              </a:rPr>
              <a:t>16:4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0040" y="571680"/>
            <a:ext cx="8143920" cy="1464480"/>
          </a:xfrm>
          <a:prstGeom prst="rect">
            <a:avLst/>
          </a:prstGeom>
          <a:solidFill>
            <a:srgbClr val="b0ac00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s-ES" sz="3000" spc="-1" strike="noStrike">
                <a:solidFill>
                  <a:srgbClr val="ffff00"/>
                </a:solidFill>
                <a:latin typeface="Arial"/>
                <a:ea typeface="Arial"/>
              </a:rPr>
              <a:t>CAMINO de CONVERSIÓN  Lc 9,51   a  13,21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00040" y="2441520"/>
            <a:ext cx="8072640" cy="3934440"/>
          </a:xfrm>
          <a:prstGeom prst="rect">
            <a:avLst/>
          </a:prstGeom>
          <a:solidFill>
            <a:srgbClr val="ffffb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ara CONVERTIRNOS no sólo debemos acoger a los hermanos como el buen samaritano, sino ACOGER también a Dios como Marta y Marí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5 Imagen" descr="BetaniaBigw.jpg"/>
          <p:cNvPicPr/>
          <p:nvPr/>
        </p:nvPicPr>
        <p:blipFill>
          <a:blip r:embed="rId2"/>
          <a:stretch/>
        </p:blipFill>
        <p:spPr>
          <a:xfrm>
            <a:off x="-2571840" y="71280"/>
            <a:ext cx="13930560" cy="6686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3505320" y="71280"/>
            <a:ext cx="5138640" cy="550800"/>
          </a:xfrm>
          <a:prstGeom prst="rect">
            <a:avLst/>
          </a:prstGeom>
          <a:solidFill>
            <a:srgbClr val="08160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 Unicode MS"/>
              </a:rPr>
              <a:t>Pueblo de Marta y Mar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14200" y="6084720"/>
            <a:ext cx="8472600" cy="627480"/>
          </a:xfrm>
          <a:prstGeom prst="rect">
            <a:avLst/>
          </a:prstGeom>
          <a:solidFill>
            <a:srgbClr val="0d230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 Unicode MS"/>
              </a:rPr>
              <a:t>Escuchamos la Palabra de Jesús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8 Flecha izquierda"/>
          <p:cNvSpPr/>
          <p:nvPr/>
        </p:nvSpPr>
        <p:spPr>
          <a:xfrm rot="19054200">
            <a:off x="5197320" y="1545840"/>
            <a:ext cx="3434040" cy="85716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os de un monaste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445 0.00208 L -0.2717 0.00208 E">
                                      <p:cBhvr>
                                        <p:cTn id="56" dur="1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380880"/>
            <a:ext cx="7786440" cy="558036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c 10, 38-42 En aquel tiempo, entró Jesús en una aldea, y una mujer llamada Marta lo recibió en su casa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14200" y="6143760"/>
            <a:ext cx="678672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Muros de casas antiguas del pueb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6 Imagen" descr="SB Casab (portal).jpg"/>
          <p:cNvPicPr/>
          <p:nvPr/>
        </p:nvPicPr>
        <p:blipFill>
          <a:blip r:embed="rId2"/>
          <a:stretch/>
        </p:blipFill>
        <p:spPr>
          <a:xfrm>
            <a:off x="833400" y="1428840"/>
            <a:ext cx="7310520" cy="4500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42920" y="142920"/>
            <a:ext cx="721512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unque sea verano, Yo deseo entrar en vuestra c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571920" y="5500800"/>
            <a:ext cx="5429160" cy="122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¿Dejarás que pase de largo? </a:t>
            </a: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(1a lectur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0" y="214200"/>
            <a:ext cx="9144000" cy="617472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sta tenía una hermana llamada María, que, sentada a los pies del Señor, escuchaba su palabra. Y Marta se multiplicaba para dar abasto con el servicio; 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4 Imagen" descr="marta-i-mariaw.jpg"/>
          <p:cNvPicPr/>
          <p:nvPr/>
        </p:nvPicPr>
        <p:blipFill>
          <a:blip r:embed="rId2"/>
          <a:stretch/>
        </p:blipFill>
        <p:spPr>
          <a:xfrm>
            <a:off x="1405080" y="0"/>
            <a:ext cx="7596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2428920" y="104760"/>
            <a:ext cx="557208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Vivís agitados, o queréis escuchar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1280" y="71280"/>
            <a:ext cx="228600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Estéis donde estéis, si no dañáis al prójimo, Yo estoy con vosotros </a:t>
            </a: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(salmo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304920" y="152280"/>
            <a:ext cx="8501040" cy="649476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sta que se paró y dijo: "Señor, ¿no te importa que mi hermana me haya dejado sola con el servicio? Dile que me eche una mano.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4" descr="C:\Documents and Settings\st benet\Mis documentos\Mis imágenes\poblescases\menjars\resized_menjar8.jpg"/>
          <p:cNvPicPr/>
          <p:nvPr/>
        </p:nvPicPr>
        <p:blipFill>
          <a:blip r:embed="rId2"/>
          <a:stretch/>
        </p:blipFill>
        <p:spPr>
          <a:xfrm>
            <a:off x="0" y="1442880"/>
            <a:ext cx="8305920" cy="54151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6500880" y="100080"/>
            <a:ext cx="2500200" cy="436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¿Vivís sirviendo a los demá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 a los propios gust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42920" y="214200"/>
            <a:ext cx="600084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 hagáis “vacaciones” de valores esenci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Usuario</cp:lastModifiedBy>
  <dcterms:modified xsi:type="dcterms:W3CDTF">2010-07-13T10:08:33Z</dcterms:modified>
  <cp:revision>354</cp:revision>
  <dc:subject>stbenet@benedictinescat.com</dc:subject>
  <dc:title>evangelio</dc:title>
</cp:coreProperties>
</file>