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La%20seva%20mare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chimes.wav" ContentType="audio/x-wav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AE84-27E3-4E27-9B7A-4ABA3DA1A2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D70-119F-4EEA-B247-27198F6955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654-A681-44F1-8F8B-1363F070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17C-D794-43A4-89CB-27C51EA7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55B-C183-4159-BED3-1811959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BD3-6BEF-4142-A6F3-57ABA6E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401-2303-4634-981E-1EF41DB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88D-2BCA-455E-B985-92E4F27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6BD-EFC3-4BBB-B502-BDA4834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A26-554E-4B95-A26F-2722649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63E-739B-4054-BA0D-0FAEC676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350-2749-45F6-90A3-DF5C281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55D-F8C7-43CA-88C2-9B618652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898-1FD8-48D9-A5E5-492286B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56C77F6-61FB-4244-B756-0B70944ED3C6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07: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695-5EE0-49B9-9B95-724593A82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%20seva%20mare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642960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 madre de Jesús” de T. L. de Victoria, evoca la gran acoged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La%20seva%20mar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62120" y="228600"/>
            <a:ext cx="778644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 Señor le contestó: "Marta, Marta, andas inquieta y nerviosa con tantas cosas; sólo una es necesari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71880" y="33480"/>
            <a:ext cx="42861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a sola cosa es necesari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ppsdespakis.jpg"/>
          <p:cNvPicPr/>
          <p:nvPr/>
        </p:nvPicPr>
        <p:blipFill>
          <a:blip r:embed="rId2"/>
          <a:stretch/>
        </p:blipFill>
        <p:spPr>
          <a:xfrm>
            <a:off x="2928960" y="1428840"/>
            <a:ext cx="6215040" cy="5397480"/>
          </a:xfrm>
          <a:prstGeom prst="rect">
            <a:avLst/>
          </a:prstGeom>
          <a:ln w="0">
            <a:noFill/>
          </a:ln>
        </p:spPr>
      </p:pic>
      <p:pic>
        <p:nvPicPr>
          <p:cNvPr id="92" name="5 Imagen" descr="pps10114_3390_50445964.jpg"/>
          <p:cNvPicPr/>
          <p:nvPr/>
        </p:nvPicPr>
        <p:blipFill>
          <a:blip r:embed="rId3"/>
          <a:stretch/>
        </p:blipFill>
        <p:spPr>
          <a:xfrm>
            <a:off x="2928960" y="1460520"/>
            <a:ext cx="6215040" cy="5397480"/>
          </a:xfrm>
          <a:prstGeom prst="rect">
            <a:avLst/>
          </a:prstGeom>
          <a:ln w="0">
            <a:noFill/>
          </a:ln>
        </p:spPr>
      </p:pic>
      <p:pic>
        <p:nvPicPr>
          <p:cNvPr id="93" name="6 Imagen" descr="ppsrefRuanen.jpg"/>
          <p:cNvPicPr/>
          <p:nvPr/>
        </p:nvPicPr>
        <p:blipFill>
          <a:blip r:embed="rId4"/>
          <a:stretch/>
        </p:blipFill>
        <p:spPr>
          <a:xfrm>
            <a:off x="2928960" y="1428840"/>
            <a:ext cx="6215040" cy="5397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1280" y="71280"/>
            <a:ext cx="292896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ios no os preguntará la dimensión de vuestra casa, sino cuanta gente acogé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n 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685800" y="304920"/>
            <a:ext cx="785808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ha escogido la parte mejor, y no se la quitarán.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Imagen3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42920" y="5391000"/>
            <a:ext cx="58006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Quién hay en vuestro horizon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2920" y="142920"/>
            <a:ext cx="71438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os quiere que Cristo esté en vosotro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28800" y="1071720"/>
            <a:ext cx="7286400" cy="4237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Haz, Señor, que este verano nos demos cuenta de tu paso por nuestra propia cas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6 Marcador de fecha"/>
          <p:cNvSpPr/>
          <p:nvPr/>
        </p:nvSpPr>
        <p:spPr>
          <a:xfrm>
            <a:off x="71280" y="71280"/>
            <a:ext cx="3714840" cy="78588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09 de julio de 2010</a:t>
            </a:r>
            <a:br>
              <a:rPr sz="2400"/>
            </a:br>
            <a:fld id="{13BBFEE0-3779-4316-AA35-F0B23F40EC66}" type="datetime10"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07:23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0040" y="571680"/>
            <a:ext cx="814392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0040" y="2441520"/>
            <a:ext cx="8072640" cy="393444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VERTIRNOS no sólo debemos acoger a los hermanos como el buen samaritano, sino ACOGER también a Dios como Marta y Mar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5 Imagen" descr="BetaniaBigw.jpg"/>
          <p:cNvPicPr/>
          <p:nvPr/>
        </p:nvPicPr>
        <p:blipFill>
          <a:blip r:embed="rId2"/>
          <a:stretch/>
        </p:blipFill>
        <p:spPr>
          <a:xfrm>
            <a:off x="-2571840" y="71280"/>
            <a:ext cx="13930560" cy="668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505320" y="71280"/>
            <a:ext cx="513864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Pueblo de Marta y Ma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4200" y="6084720"/>
            <a:ext cx="8472600" cy="627480"/>
          </a:xfrm>
          <a:prstGeom prst="rect">
            <a:avLst/>
          </a:prstGeom>
          <a:solidFill>
            <a:srgbClr val="0d230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</a:rPr>
              <a:t>Escuchamos la Palabra de Jesús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8 Flecha izquierda"/>
          <p:cNvSpPr/>
          <p:nvPr/>
        </p:nvSpPr>
        <p:spPr>
          <a:xfrm rot="19054200">
            <a:off x="5197320" y="1545840"/>
            <a:ext cx="3434040" cy="85716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s de un mona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445 0.00208 L -0.2717 0.00208 E">
                                      <p:cBhvr>
                                        <p:cTn id="56" dur="1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380880"/>
            <a:ext cx="778644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0, 38-42 En aquel tiempo, entró Jesús en una aldea, y una mujer llamada Marta lo recibió en su cas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14200" y="6143760"/>
            <a:ext cx="67867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uros de casas antiguas del pueb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6 Imagen" descr="SB Casab (portal).jpg"/>
          <p:cNvPicPr/>
          <p:nvPr/>
        </p:nvPicPr>
        <p:blipFill>
          <a:blip r:embed="rId2"/>
          <a:stretch/>
        </p:blipFill>
        <p:spPr>
          <a:xfrm>
            <a:off x="833400" y="1428840"/>
            <a:ext cx="7310520" cy="45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2920" y="142920"/>
            <a:ext cx="721512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sea verano, Yo deseo entrar en vuestra c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571920" y="5500800"/>
            <a:ext cx="542916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Dejarás que pase de largo?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214200"/>
            <a:ext cx="9144000" cy="617472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a tenía una hermana llamada María, que, sentada a los pies del Señor, escuchaba su palabra. Y Marta se multiplicaba para dar abasto con el servicio;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marta-i-mariaw.jpg"/>
          <p:cNvPicPr/>
          <p:nvPr/>
        </p:nvPicPr>
        <p:blipFill>
          <a:blip r:embed="rId2"/>
          <a:stretch/>
        </p:blipFill>
        <p:spPr>
          <a:xfrm>
            <a:off x="1405080" y="0"/>
            <a:ext cx="7596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428920" y="104760"/>
            <a:ext cx="557208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Vivís agitados, o queréis escuchar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1280" y="71280"/>
            <a:ext cx="22860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stéis donde estéis, si no dañáis al prójimo, Yo estoy con vosotros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04920" y="152280"/>
            <a:ext cx="850104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sta que se paró y dijo: "Señor, ¿no te importa que mi hermana me haya dejado sola con el servicio? Dile que me eche una man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4" descr="C:\Documents and Settings\st benet\Mis documentos\Mis imágenes\poblescases\menjars\resized_menjar8.jpg"/>
          <p:cNvPicPr/>
          <p:nvPr/>
        </p:nvPicPr>
        <p:blipFill>
          <a:blip r:embed="rId2"/>
          <a:stretch/>
        </p:blipFill>
        <p:spPr>
          <a:xfrm>
            <a:off x="0" y="1442880"/>
            <a:ext cx="8305920" cy="5415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500880" y="100080"/>
            <a:ext cx="250020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Vivís sirviendo a los demá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a los propios gus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2920" y="214200"/>
            <a:ext cx="60008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hagáis “vacaciones” de valores esenc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13T10:08:33Z</dcterms:modified>
  <cp:revision>354</cp:revision>
  <dc:subject>stbenet@benedictinescat.com</dc:subject>
  <dc:title>evangelio</dc:title>
</cp:coreProperties>
</file>