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E25-6392-40F8-874E-E6F3FD9A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1B0-9973-410A-99FD-4A0D83DE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0CC-72F2-4354-94BD-69FF5119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BC7-23A3-4F29-BC67-7BA61D02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3E2-3887-47F9-9111-49206207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E9E-CC31-47A0-BA86-9B9DE81B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D56-2D00-492B-8547-A3B08D1B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DD0-BFE0-4890-A16E-8813B7CE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23C-4422-4A4D-A7A5-2C38661D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112-94CD-4FCC-A215-9DEF6D6A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3B4-F811-4AB2-82F2-B0F1E8FA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397-DEAE-4439-BEE8-AA8F9A70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6E11-FA7F-4838-BE78-8C14AE66E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628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 Black"/>
              </a:rPr>
              <a:t>HUMORÍSTICAS DEL MAEST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45813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Boda múlt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1197000"/>
            <a:ext cx="763272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i="1" lang="es-AR" sz="2800" spc="-1" strike="noStrike">
                <a:solidFill>
                  <a:srgbClr val="000000"/>
                </a:solidFill>
                <a:latin typeface="Arial Black"/>
              </a:rPr>
              <a:t>AMERICAN AIRLINES”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AR" sz="2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Black"/>
              </a:rPr>
              <a:t>4 VECES AL DÍA,</a:t>
            </a:r>
            <a:r>
              <a:rPr b="0" lang="es-A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000000"/>
                </a:solidFill>
                <a:latin typeface="Arial Black"/>
              </a:rPr>
              <a:t>7 DÍAS A LA SEMANA</a:t>
            </a:r>
            <a:r>
              <a:rPr b="0" lang="es-AR" sz="28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 Black"/>
              </a:rPr>
              <a:t>LOS 365 DÍAS DEL AÑO</a:t>
            </a: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5000" spc="-1" strike="noStrike" u="sng">
                <a:solidFill>
                  <a:srgbClr val="000000"/>
                </a:solidFill>
                <a:uFillTx/>
                <a:latin typeface="Arial Black"/>
              </a:rPr>
              <a:t>TODAS LAS RUTAS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941720"/>
            <a:ext cx="82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58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75600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a familia celebraba la boda múltiple, de sus tres hijas. En un momento de la preciosa y emotiva fiesta, las hijas se acercaron a la madre a despedirse, para partir en sus viajes de boda a diferentes lugares. La madre pidió a sus hijas que la llamaran al día siguiente para contarle, lo más discretamente posible, sobre el desempeño sexual de sus maridos, utilizando el lema de algún anuncio comer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074600"/>
            <a:ext cx="309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 primer llamado que recibió la madre fue el de la hija mayor, que sólo le dijo: “NESCAFÉ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41880" y="981000"/>
            <a:ext cx="3065400" cy="468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94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0" y="1037520"/>
            <a:ext cx="352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 señora quedó confundida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sta que más tarde vio un anuncio de NESCAFÉ que decía: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2798640" cy="417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755640" y="5300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"SATISFACCIÓN HASTA LA ÚLTIMA GOTA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88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1200600"/>
            <a:ext cx="36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co después recibió el llamado de la hija segunda, que le dijo entusiasmada: “COLCHONES ROS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7559" t="0" r="17323" b="0"/>
          <a:stretch/>
        </p:blipFill>
        <p:spPr>
          <a:xfrm>
            <a:off x="5148360" y="1413000"/>
            <a:ext cx="3012840" cy="367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2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978480"/>
            <a:ext cx="316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La mamá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buscó la publicidad de Colchones Ro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y leyó complacida:</a:t>
            </a:r>
            <a:r>
              <a:rPr b="0" lang="es-A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52293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"VIVE LA VIDA CON TU KING SIZE, extra grande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2944800" cy="38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8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8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1204200"/>
            <a:ext cx="352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r último, y recién una semana después, llamó su hija menor y casi sin voz le susurró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AMERICAN AIRLINE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3422880" cy="460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84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1908720"/>
            <a:ext cx="40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 mamá buscó frenéticamente un anuncio de AMERICAN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16360" y="1709640"/>
            <a:ext cx="3743280" cy="3326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8631" t="0" r="0" b="7542"/>
          <a:stretch/>
        </p:blipFill>
        <p:spPr>
          <a:xfrm>
            <a:off x="2195640" y="2205000"/>
            <a:ext cx="4752720" cy="3894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472120" y="692280"/>
            <a:ext cx="40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Black"/>
              </a:rPr>
              <a:t>y antes de desmayars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Black"/>
              </a:rPr>
              <a:t>ley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4:30:45Z</dcterms:created>
  <dc:creator> </dc:creator>
  <dc:description> </dc:description>
  <cp:keywords/>
  <dc:language>en-US</dc:language>
  <cp:lastModifiedBy>Bj</cp:lastModifiedBy>
  <dcterms:modified xsi:type="dcterms:W3CDTF">2007-01-27T18:00:47Z</dcterms:modified>
  <cp:revision>24</cp:revision>
  <dc:subject> </dc:subject>
  <dc:title>Diapositiva 1</dc:title>
</cp:coreProperties>
</file>