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DB5-D6D9-4CA3-A258-674530F8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D23-C433-4AE6-A927-43310C53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03F-4C1C-409C-9053-E2C262C3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050-04D8-4443-BCA8-7F604632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F9C-1676-4889-B813-E6F9BDD8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10B-2575-4D82-8938-95597814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2F7-4240-4FE7-8FEB-7571EE3E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8C8-58B1-464A-B245-DFD5656C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746-6EEE-4CAA-B646-89C763D3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BB2-DFC9-4DA3-B9BA-F8139810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A15-53F5-41C4-9003-D8AD1B63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062-0F38-4275-9488-C44D22AD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82F7-B7B8-4662-BD3C-B1AC0A368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628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 Black"/>
              </a:rPr>
              <a:t>HUMORÍSTICAS DEL MAEST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45813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 Black"/>
              </a:rPr>
              <a:t>Boda múlt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1197000"/>
            <a:ext cx="763272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i="1" lang="es-AR" sz="2800" spc="-1" strike="noStrike">
                <a:solidFill>
                  <a:srgbClr val="000000"/>
                </a:solidFill>
                <a:latin typeface="Arial Black"/>
              </a:rPr>
              <a:t>AMERICAN AIRLINES”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AR" sz="2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Black"/>
              </a:rPr>
              <a:t>4 VECES AL DÍA,</a:t>
            </a:r>
            <a:r>
              <a:rPr b="0" lang="es-A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000000"/>
                </a:solidFill>
                <a:latin typeface="Arial Black"/>
              </a:rPr>
              <a:t>7 DÍAS A LA SEMANA</a:t>
            </a:r>
            <a:r>
              <a:rPr b="0" lang="es-AR" sz="28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 Black"/>
              </a:rPr>
              <a:t>LOS 365 DÍAS DEL AÑO</a:t>
            </a: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5000" spc="-1" strike="noStrike" u="sng">
                <a:solidFill>
                  <a:srgbClr val="000000"/>
                </a:solidFill>
                <a:uFillTx/>
                <a:latin typeface="Arial Black"/>
              </a:rPr>
              <a:t>TODAS LAS RUTAS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941720"/>
            <a:ext cx="82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58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75600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a familia celebraba la boda múltiple, de sus tres hijas. En un momento de la preciosa y emotiva fiesta, las hijas se acercaron a la madre a despedirse, para partir en sus viajes de boda a diferentes lugares. La madre pidió a sus hijas que la llamaran al día siguiente para contarle, lo más discretamente posible, sobre el desempeño sexual de sus maridos, utilizando el lema de algún anuncio comer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074600"/>
            <a:ext cx="309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 primer llamado que recibió la madre fue el de la hija mayor, que sólo le dijo: “NESCAFÉ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41880" y="981000"/>
            <a:ext cx="3065400" cy="468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94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0" y="1037520"/>
            <a:ext cx="352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a señora quedó confundida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sta que más tarde vio un anuncio de NESCAFÉ que decía: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2798640" cy="417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755640" y="5300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"SATISFACCIÓN HASTA LA ÚLTIMA GOTA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88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6920" y="1200600"/>
            <a:ext cx="36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co después recibió el llamado de la hija segunda, que le dijo entusiasmada: “COLCHONES ROS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7559" t="0" r="17323" b="0"/>
          <a:stretch/>
        </p:blipFill>
        <p:spPr>
          <a:xfrm>
            <a:off x="5148360" y="1413000"/>
            <a:ext cx="3012840" cy="367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2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978480"/>
            <a:ext cx="316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La mamá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buscó la publicidad de Colchones Ro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y leyó complacida:</a:t>
            </a:r>
            <a:r>
              <a:rPr b="0" lang="es-A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522936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"VIVE LA VIDA CON TU KING SIZE, extra grande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2944800" cy="38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8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8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1204200"/>
            <a:ext cx="352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r último, y recién una semana después, llamó su hija menor y casi sin voz le susurró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AMERICAN AIRLINES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3422880" cy="460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84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1908720"/>
            <a:ext cx="40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 mamá buscó frenéticamente un anuncio de AMERICAN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16360" y="1709640"/>
            <a:ext cx="3743280" cy="3326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8631" t="0" r="0" b="7542"/>
          <a:stretch/>
        </p:blipFill>
        <p:spPr>
          <a:xfrm>
            <a:off x="2195640" y="2205000"/>
            <a:ext cx="4752720" cy="3894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472120" y="692280"/>
            <a:ext cx="40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Black"/>
              </a:rPr>
              <a:t>y antes de desmayars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Black"/>
              </a:rPr>
              <a:t>ley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4:30:45Z</dcterms:created>
  <dc:creator> </dc:creator>
  <dc:description> </dc:description>
  <cp:keywords/>
  <dc:language>en-US</dc:language>
  <cp:lastModifiedBy>Bj</cp:lastModifiedBy>
  <dcterms:modified xsi:type="dcterms:W3CDTF">2007-01-27T18:00:47Z</dcterms:modified>
  <cp:revision>24</cp:revision>
  <dc:subject> </dc:subject>
  <dc:title>Diapositiva 1</dc:title>
</cp:coreProperties>
</file>