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1C8-7641-4C2A-B055-82AFCF32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9FC-80F7-4005-BB4F-41513E8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AF3-354D-4D8C-8204-A13FE68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396-4CE9-40D2-8066-F1292649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C529-250F-4103-BDDC-435CE7C6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F29-7380-4438-A634-62F338A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0F8-4097-44D8-848C-34FE47B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694-1EEC-43AE-BB4B-46BBD1C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830-F6DB-4909-8F10-02AB269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F397-F2D1-4A75-8A49-69BA2915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6C1D-DC59-4B79-A164-824E92C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D06-E082-4AFE-BDB3-68C20FFD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F314-BDE1-44BF-80C3-D407523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AB16-0EAB-43D6-9477-29E6018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460-07ED-48D5-BAC4-30BF13C8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3D0C-8674-4855-A89D-705F59F0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9C8-3021-4D5C-A9A5-3E41811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CED-2494-44AE-9086-CED314D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B0A-AA3C-4540-B297-71D0FBA8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1E9-7AA5-49D1-A7A4-703DCCB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A14-BB02-4301-A704-6621D0F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369-7416-426B-B22B-9B813D71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CB5-81F0-42BD-8408-841722C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0EB-EC79-42D2-B81B-AC0395E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032-EF6C-484F-AF35-0E2301AC624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ED6-50C2-45D3-940C-7C5D583AE4F2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iapositiva8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iapositiva8"/>
          <p:cNvPicPr/>
          <p:nvPr/>
        </p:nvPicPr>
        <p:blipFill>
          <a:blip r:embed="rId2"/>
          <a:stretch/>
        </p:blipFill>
        <p:spPr>
          <a:xfrm>
            <a:off x="281160" y="208080"/>
            <a:ext cx="8654760" cy="6441840"/>
          </a:xfrm>
          <a:prstGeom prst="rect">
            <a:avLst/>
          </a:prstGeom>
          <a:ln w="0">
            <a:noFill/>
          </a:ln>
        </p:spPr>
      </p:pic>
      <p:grpSp>
        <p:nvGrpSpPr>
          <p:cNvPr id="84" name="Rectangle 3"/>
          <p:cNvGrpSpPr/>
          <p:nvPr/>
        </p:nvGrpSpPr>
        <p:grpSpPr>
          <a:xfrm>
            <a:off x="-79200" y="-79200"/>
            <a:ext cx="9308880" cy="7022880"/>
            <a:chOff x="-79200" y="-79200"/>
            <a:chExt cx="9308880" cy="7022880"/>
          </a:xfrm>
        </p:grpSpPr>
        <p:pic>
          <p:nvPicPr>
            <p:cNvPr id="85" name="Rectangle 3" descr=""/>
            <p:cNvPicPr/>
            <p:nvPr/>
          </p:nvPicPr>
          <p:blipFill>
            <a:blip r:embed="rId3"/>
            <a:stretch/>
          </p:blipFill>
          <p:spPr>
            <a:xfrm>
              <a:off x="-79200" y="-79200"/>
              <a:ext cx="9308880" cy="70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03-11-11 Relajacion.wav" descr=""/>
          <p:cNvPicPr/>
          <p:nvPr/>
        </p:nvPicPr>
        <p:blipFill>
          <a:blip r:embed="rId4"/>
          <a:stretch/>
        </p:blipFill>
        <p:spPr>
          <a:xfrm>
            <a:off x="50004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9" descr=""/>
          <p:cNvPicPr/>
          <p:nvPr/>
        </p:nvPicPr>
        <p:blipFill>
          <a:blip r:embed="rId5"/>
          <a:stretch/>
        </p:blipFill>
        <p:spPr>
          <a:xfrm>
            <a:off x="281160" y="3938760"/>
            <a:ext cx="86803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Motion origin="layout" path="M 3.61111E-006 -2.96296E-006 C 0.06892 -2.96296E-006 0.125 0.02454 0.125 0.05672 C 0.125 0.0882 0.06892 0.11551 3.61111E-006 0.11551 C -0.0691 0.11551 -0.125 0.0882 -0.125 0.05672 C -0.125 0.02454 -0.0691 -2.96296000000008E-006 0.00989 0.0132 E">
                                      <p:cBhvr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Rectángulo"/>
          <p:cNvSpPr/>
          <p:nvPr/>
        </p:nvSpPr>
        <p:spPr>
          <a:xfrm>
            <a:off x="0" y="50004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Ninguna es igual a otra, talladas en bloques únic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sin ladrillos, madera ni argama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"Construidas por Dios", dicen los sacerdo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a vida en Lalibela no ha cambiado en siglos, la g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sigue yendo a misa cada día envuelta en tún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y turbantes de algodón blanco para cantar  y rez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sde las paredes de roca, decoradas con rotunda sencillez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miran  las decenas de santos, ángeles  y  vírgenes de pi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tostada y expresión ingenua pintados por artistas antigu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Pero en cuanto los ojos se habitúan a la penumb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scubren los maravillosos murales policrom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 las paredes representando escenas  de la Bibl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214200" y="187200"/>
            <a:ext cx="8715600" cy="645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4"/>
          <a:stretch/>
        </p:blipFill>
        <p:spPr>
          <a:xfrm>
            <a:off x="214200" y="190440"/>
            <a:ext cx="8715600" cy="645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5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6"/>
          <a:stretch/>
        </p:blipFill>
        <p:spPr>
          <a:xfrm>
            <a:off x="214200" y="162000"/>
            <a:ext cx="8715600" cy="648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3"/>
          <a:stretch/>
        </p:blipFill>
        <p:spPr>
          <a:xfrm>
            <a:off x="285840" y="28584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4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5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1 Rectángulo"/>
          <p:cNvSpPr/>
          <p:nvPr/>
        </p:nvSpPr>
        <p:spPr>
          <a:xfrm>
            <a:off x="428760" y="928800"/>
            <a:ext cx="8286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l cristianismo llegó a Etiopía en el siglo 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 hoy sobrevive en su forma ortodoxa.</a:t>
            </a: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Los templarios no participaron en la constr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de estas iglesias; existen pruebas de que fu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obra exclusiva de la civilización etíope med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l 60% de la población lo profesa y como ocurría en 188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n plena tolerancia con el Islam del 30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 ese es el otro milag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286080" y="5715000"/>
            <a:ext cx="2643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ndalus"/>
              </a:rPr>
              <a:t>FI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4000"/>
            </a:br>
            <a:br>
              <a:rPr sz="7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1.66667E-006 8.67052E-007 C 0.06892 8.67052E-007 0.125 0.02844 0.125 0.06381 C 0.125 0.09896 0.06892 0.12786 1.66667E-006 0.12786 C -0.0691 0.12786 -0.125 0.09896 -0.125 0.06381 C -0.125 0.02844 -0.0691 8.67052E-007 1.66667E-006 8.67052E-007 Z">
                                      <p:cBhvr>
                                        <p:cTn id="249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"/>
          <p:cNvSpPr/>
          <p:nvPr/>
        </p:nvSpPr>
        <p:spPr>
          <a:xfrm>
            <a:off x="500040" y="78588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Muchas  Civilizaciones Antiguas nos dejaron un legado en forma de impresionantes constru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que todavía nos impresionan por su majestuo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y enormes dimen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MUCHAS  PASAN  CASI  DESAPERCIB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A LO LARGO DE TODO 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Las iglesias de los cristianos coptos en  Lalibela,  Etiopía – África, del siglo XII, que fueron constr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excavando la roca de la montaña  forman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conjunto de construcciones monolíticas de arquitectura impresion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28760" y="285840"/>
            <a:ext cx="8353440" cy="6215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Documents and Settings\Elena Zanescu\My Documents\Zz nou in lucru   partial pt nov\MATER   gata pt pps\Mater red Grad Hon Noh\Pt red grad Hon O tropic   n   1\Diapozitiv19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C:\Documents and Settings\Elena Zanescu\My Documents\Zz nou in lucru   partial pt nov\MATER   gata pt pps\Mater red Grad Hon Noh\Pt red grad Hon O tropic   n   1\Diapozitiv2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C:\Documents and Settings\Elena Zanescu\My Documents\Zz nou in lucru   partial pt nov\MATER   gata pt pps\Mater red Grad Hon Noh\Prezentare2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5" name="7 CuadroTexto"/>
          <p:cNvSpPr/>
          <p:nvPr/>
        </p:nvSpPr>
        <p:spPr>
          <a:xfrm>
            <a:off x="214200" y="6215040"/>
            <a:ext cx="871560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nstantia"/>
              </a:rPr>
              <a:t>Lalibela - Etiopía</a:t>
            </a:r>
            <a:r>
              <a:rPr b="1" i="1" lang="en-US" sz="2300" spc="-1" strike="noStrike">
                <a:solidFill>
                  <a:srgbClr val="ffffff"/>
                </a:solidFill>
                <a:latin typeface="Constantia"/>
              </a:rPr>
              <a:t>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C:\Documents and Settings\Elena Zanescu\My Documents\Zz nou in lucru   partial pt nov\MATER   gata pt pps\Mater red Grad Hon Noh\Pt red grad Hon O tropic   n   1\Diapozitiv10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Documents and Settings\Elena Zanescu\My Documents\Zz nou in lucru   partial pt nov\MATER   gata pt pps\Mater red Grad Hon Noh\Pt red grad Hon O tropic   n   1\Diapozitiv2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9" name="7 CuadroTexto"/>
          <p:cNvSpPr/>
          <p:nvPr/>
        </p:nvSpPr>
        <p:spPr>
          <a:xfrm>
            <a:off x="285840" y="6215040"/>
            <a:ext cx="8643960" cy="429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nstantia"/>
              </a:rPr>
              <a:t>Misteriosa  y enigmática Etiopía </a:t>
            </a:r>
            <a:r>
              <a:rPr b="1" i="1" lang="en-US" sz="2200" spc="-1" strike="noStrike">
                <a:solidFill>
                  <a:srgbClr val="ffffff"/>
                </a:solidFill>
                <a:latin typeface="Constantia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428760" y="428760"/>
            <a:ext cx="8501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libela es un milagro. La tradición dice que los ángeles ayudaron al  Rey Lalibela soberano de ese país de 1181 a 122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a cincelar esas maravillas esculpidas en pied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Un pueblo perdido en las tierras altas al norte de Etiopía alberga uno de los conjuntos arquitectónicos más bel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del mundo: una docena de iglesias talladas en roca viva en bloques únicos bajo el nivel del terreno, cincel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toneladas de piedra volcánica hasta lograr que brotaran monolíticas catedrales en profundas zanj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o verdaderamente milagroso es que Lalibela  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permanecido incomunicada hasta hace pocas déc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Sus templos siguen en activo como el primer d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acogiendo inmutables los ritos, plegarias y salmod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tal y como se desarrollaban en la época de Lalibela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428760" y="857160"/>
            <a:ext cx="8286480" cy="55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doce iglesias fueron excavadas bajo la superficie de la tierra, llegando en algunos casos a alcanzar los 15 metros de altura. Rodeadas por patios y zanjas, túneles y pasadizos que las conectan entre sí , entre un edificio y el próx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iglesias son tesoros en Etiopía c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grandes pirámides lo son en Egip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 ciudad de Lalibela, emplazada entre escarpados barrancos de más de 2.500 metros, es una verdadera deli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Las iglesias talladas en roca de Lalibela, Etiopí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fueron declaradas Patrimonio de la Human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por la Unesco en 197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214200" y="268200"/>
            <a:ext cx="8715600" cy="637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4"/>
          <a:stretch/>
        </p:blipFill>
        <p:spPr>
          <a:xfrm>
            <a:off x="214200" y="266760"/>
            <a:ext cx="8715600" cy="6377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4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5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6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00080" y="214200"/>
            <a:ext cx="6929640" cy="64296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9:10:13Z</dcterms:created>
  <dc:creator/>
  <dc:description/>
  <dc:language>en-US</dc:language>
  <cp:lastModifiedBy/>
  <dcterms:modified xsi:type="dcterms:W3CDTF">2013-11-30T07:26:41Z</dcterms:modified>
  <cp:revision>4</cp:revision>
  <dc:subject/>
  <dc:title>Diapositiva 1</dc:title>
</cp:coreProperties>
</file>