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565-B933-4E23-8741-05B62DFE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CC2-2AC7-4F71-92F7-9CF89E69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7C8-D845-4B4E-89B2-FBBB577B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F0E-1785-4943-AA89-CA0C5415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3926-09A2-46FA-80AC-13B70497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EDBE-AC08-46AB-A5E3-0D004AC3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5AE4-CEE6-4E1E-8BD1-65F93019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2ED5-9A44-42F7-8C7F-D0457FF5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9432-F46A-49C1-8C94-23A4A33C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D057-AFC1-482E-829A-A13C6E4F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C43C-622B-41EC-A5C0-5A456D73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C16-B1E7-4EF0-B9FF-11AF642C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7E82-34D2-4013-964E-F37F7BFF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CA8C-58C0-4738-809E-565648CE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AC5E-B139-4A02-A931-08A90C51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0C5F-917B-4891-8A36-4F2066CC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FE6B-5F29-4DA3-B23D-1A898AAF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5C4-3AFB-455F-92A4-49C52E2C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736-77CD-432D-A5B7-8C4DD619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275-2BF6-4469-8A80-B55DDADE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899-373B-4177-90C8-15C202EC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A51-26A0-440F-9939-251C5A7F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D4D-2A40-4B81-A63E-30E8F4C7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DB0-428A-4757-8515-BB8B58B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78EC-E8E7-4A9A-8283-0EBC47BF721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06AD-5A7A-4817-B0CB-516A78245F61}" type="slidenum"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iapositiva8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Diapositiva8"/>
          <p:cNvPicPr/>
          <p:nvPr/>
        </p:nvPicPr>
        <p:blipFill>
          <a:blip r:embed="rId2"/>
          <a:stretch/>
        </p:blipFill>
        <p:spPr>
          <a:xfrm>
            <a:off x="281160" y="208080"/>
            <a:ext cx="8654760" cy="6441840"/>
          </a:xfrm>
          <a:prstGeom prst="rect">
            <a:avLst/>
          </a:prstGeom>
          <a:ln w="0">
            <a:noFill/>
          </a:ln>
        </p:spPr>
      </p:pic>
      <p:grpSp>
        <p:nvGrpSpPr>
          <p:cNvPr id="84" name="Rectangle 3"/>
          <p:cNvGrpSpPr/>
          <p:nvPr/>
        </p:nvGrpSpPr>
        <p:grpSpPr>
          <a:xfrm>
            <a:off x="-79200" y="-79200"/>
            <a:ext cx="9308880" cy="7022880"/>
            <a:chOff x="-79200" y="-79200"/>
            <a:chExt cx="9308880" cy="7022880"/>
          </a:xfrm>
        </p:grpSpPr>
        <p:pic>
          <p:nvPicPr>
            <p:cNvPr id="85" name="Rectangle 3" descr=""/>
            <p:cNvPicPr/>
            <p:nvPr/>
          </p:nvPicPr>
          <p:blipFill>
            <a:blip r:embed="rId3"/>
            <a:stretch/>
          </p:blipFill>
          <p:spPr>
            <a:xfrm>
              <a:off x="-79200" y="-79200"/>
              <a:ext cx="9308880" cy="70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03-11-11 Relajacion.wav" descr=""/>
          <p:cNvPicPr/>
          <p:nvPr/>
        </p:nvPicPr>
        <p:blipFill>
          <a:blip r:embed="rId4"/>
          <a:stretch/>
        </p:blipFill>
        <p:spPr>
          <a:xfrm>
            <a:off x="500040" y="6143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9" descr=""/>
          <p:cNvPicPr/>
          <p:nvPr/>
        </p:nvPicPr>
        <p:blipFill>
          <a:blip r:embed="rId5"/>
          <a:stretch/>
        </p:blipFill>
        <p:spPr>
          <a:xfrm>
            <a:off x="281160" y="3938760"/>
            <a:ext cx="8680320" cy="19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2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animMotion origin="layout" path="M 3.61111E-006 -2.96296E-006 C 0.06892 -2.96296E-006 0.125 0.02454 0.125 0.05672 C 0.125 0.0882 0.06892 0.11551 3.61111E-006 0.11551 C -0.0691 0.11551 -0.125 0.0882 -0.125 0.05672 C -0.125 0.02454 -0.0691 -2.96296000000008E-006 0.00989 0.0132 E">
                                      <p:cBhvr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4 Rectángulo"/>
          <p:cNvSpPr/>
          <p:nvPr/>
        </p:nvSpPr>
        <p:spPr>
          <a:xfrm>
            <a:off x="0" y="50004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Ninguna es igual a otra, talladas en bloques único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sin ladrillos, madera ni argamas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"Construidas por Dios", dicen los sacerdo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a vida en Lalibela no ha cambiado en siglos, la g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sigue yendo a misa cada día envuelta en tún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y turbantes de algodón blanco para cantar  y rez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Desde las paredes de roca, decoradas con rotunda sencillez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miran  las decenas de santos, ángeles  y  vírgenes de pi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tostada y expresión ingenua pintados por artistas antigu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Pero en cuanto los ojos se habitúan a la penumb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descubren los maravillosos murales policroma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onstantia"/>
              </a:rPr>
              <a:t>de las paredes representando escenas  de la Bibl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C:\Documents and Settings\Elena Zanescu\My Documents\Zz nou in lucru   partial pt nov\MATER   gata pt pps\Mater red Grad Hon Noh\Pt red grad Hon O tropic   n   1\Diapozitiv18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Documents and Settings\Elena Zanescu\My Documents\Zz nou in lucru   partial pt nov\MATER   gata pt pps\Mater red Grad Hon Noh\Pt red Hon kooh   n   2\Diapozitiv21.JPG"/>
          <p:cNvPicPr/>
          <p:nvPr/>
        </p:nvPicPr>
        <p:blipFill>
          <a:blip r:embed="rId3"/>
          <a:stretch/>
        </p:blipFill>
        <p:spPr>
          <a:xfrm>
            <a:off x="214200" y="187200"/>
            <a:ext cx="8715600" cy="6456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Elena Zanescu\My Documents\Zz nou in lucru   partial pt nov\MATER   gata pt pps\Mater red Grad Hon Noh\Pt red Hon kooh   n   2\Diapozitiv12.JPG"/>
          <p:cNvPicPr/>
          <p:nvPr/>
        </p:nvPicPr>
        <p:blipFill>
          <a:blip r:embed="rId4"/>
          <a:stretch/>
        </p:blipFill>
        <p:spPr>
          <a:xfrm>
            <a:off x="214200" y="190440"/>
            <a:ext cx="8715600" cy="645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Elena Zanescu\My Documents\Zz nou in lucru   partial pt nov\MATER   gata pt pps\Mater red Grad Hon Noh\Pt red Hon kooh   n   2\Diapozitiv9.JPG"/>
          <p:cNvPicPr/>
          <p:nvPr/>
        </p:nvPicPr>
        <p:blipFill>
          <a:blip r:embed="rId5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C:\Documents and Settings\Elena Zanescu\My Documents\Zz nou in lucru   partial pt nov\MATER   gata pt pps\Mater red Grad Hon Noh\Pt red grad Hon O tropic   n   1\Diapozitiv5.JPG"/>
          <p:cNvPicPr/>
          <p:nvPr/>
        </p:nvPicPr>
        <p:blipFill>
          <a:blip r:embed="rId6"/>
          <a:stretch/>
        </p:blipFill>
        <p:spPr>
          <a:xfrm>
            <a:off x="214200" y="162000"/>
            <a:ext cx="8715600" cy="6481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4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Elena Zanescu\My Documents\Zz nou in lucru   partial pt nov\MATER   gata pt pps\Mater red Grad Hon Noh\Pt red Hon kooh   n   2\Diapozitiv21.JPG"/>
          <p:cNvPicPr/>
          <p:nvPr/>
        </p:nvPicPr>
        <p:blipFill>
          <a:blip r:embed="rId2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Elena Zanescu\My Documents\Zz nou in lucru   partial pt nov\MATER   gata pt pps\Mater red Grad Hon Noh\Pt red Hon kooh   n   2\Diapozitiv12.JPG"/>
          <p:cNvPicPr/>
          <p:nvPr/>
        </p:nvPicPr>
        <p:blipFill>
          <a:blip r:embed="rId3"/>
          <a:stretch/>
        </p:blipFill>
        <p:spPr>
          <a:xfrm>
            <a:off x="285840" y="285840"/>
            <a:ext cx="8643960" cy="6357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Documents and Settings\Elena Zanescu\My Documents\Zz nou in lucru   partial pt nov\MATER   gata pt pps\Mater red Grad Hon Noh\Pt red Hon kooh   n   2\Diapozitiv9.JPG"/>
          <p:cNvPicPr/>
          <p:nvPr/>
        </p:nvPicPr>
        <p:blipFill>
          <a:blip r:embed="rId4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" descr="C:\Documents and Settings\Elena Zanescu\My Documents\Zz nou in lucru   partial pt nov\MATER   gata pt pps\Mater red Grad Hon Noh\Pt red grad Hon O tropic   n   1\Diapozitiv5.JPG"/>
          <p:cNvPicPr/>
          <p:nvPr/>
        </p:nvPicPr>
        <p:blipFill>
          <a:blip r:embed="rId5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6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7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1 Rectángulo"/>
          <p:cNvSpPr/>
          <p:nvPr/>
        </p:nvSpPr>
        <p:spPr>
          <a:xfrm>
            <a:off x="428760" y="928800"/>
            <a:ext cx="8286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El cristianismo llegó a Etiopía en el siglo I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y hoy sobrevive en su forma ortodoxa.</a:t>
            </a:r>
            <a:r>
              <a:rPr b="1" i="1" lang="en-US" sz="2200" spc="-1" strike="noStrike">
                <a:solidFill>
                  <a:srgbClr val="10253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0253f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0253f"/>
                </a:solidFill>
                <a:latin typeface="Constantia"/>
              </a:rPr>
              <a:t>Los templarios no participaron en la constr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0253f"/>
                </a:solidFill>
                <a:latin typeface="Constantia"/>
              </a:rPr>
              <a:t> </a:t>
            </a:r>
            <a:r>
              <a:rPr b="1" i="1" lang="en-US" sz="2200" spc="-1" strike="noStrike">
                <a:solidFill>
                  <a:srgbClr val="10253f"/>
                </a:solidFill>
                <a:latin typeface="Constantia"/>
              </a:rPr>
              <a:t>de estas iglesias; existen pruebas de que fuer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0253f"/>
                </a:solidFill>
                <a:latin typeface="Constantia"/>
              </a:rPr>
              <a:t>obra exclusiva de la civilización etíope med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El 60% de la población lo profesa y como ocurría en 188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en plena tolerancia con el Islam del 30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Y ese es el otro milag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14200" y="142920"/>
            <a:ext cx="8715600" cy="648000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57120" y="357120"/>
            <a:ext cx="8353440" cy="6167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286080" y="5715000"/>
            <a:ext cx="2643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  <a:ea typeface="Andalus"/>
              </a:rPr>
              <a:t>FI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4000"/>
            </a:br>
            <a:br>
              <a:rPr sz="7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1.66667E-006 8.67052E-007 C 0.06892 8.67052E-007 0.125 0.02844 0.125 0.06381 C 0.125 0.09896 0.06892 0.12786 1.66667E-006 0.12786 C -0.0691 0.12786 -0.125 0.09896 -0.125 0.06381 C -0.125 0.02844 -0.0691 8.67052E-007 1.66667E-006 8.67052E-007 Z">
                                      <p:cBhvr>
                                        <p:cTn id="249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Rectángulo"/>
          <p:cNvSpPr/>
          <p:nvPr/>
        </p:nvSpPr>
        <p:spPr>
          <a:xfrm>
            <a:off x="500040" y="78588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 </a:t>
            </a: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Muchas  Civilizaciones Antiguas nos dejaron un legado en forma de impresionantes constru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que todavía nos impresionan por su majestuos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y enormes dimens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MUCHAS  PASAN  CASI  DESAPERCIB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A LO LARGO DE TODO EL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Las iglesias de los cristianos coptos en  Lalibela,  Etiopía – África, del siglo XII, que fueron constru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excavando la roca de la montaña  forman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 </a:t>
            </a:r>
            <a:r>
              <a:rPr b="1" i="1" lang="es-AR" sz="2400" spc="-1" strike="noStrike">
                <a:solidFill>
                  <a:srgbClr val="10253f"/>
                </a:solidFill>
                <a:latin typeface="Constantia"/>
              </a:rPr>
              <a:t>conjunto de construcciones monolíticas de arquitectura impresiona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14200" y="142920"/>
            <a:ext cx="8715600" cy="648000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28760" y="285840"/>
            <a:ext cx="8353440" cy="6215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C:\Documents and Settings\Elena Zanescu\My Documents\Zz nou in lucru   partial pt nov\MATER   gata pt pps\Mater red Grad Hon Noh\Pt red grad Hon O tropic   n   1\Diapozitiv19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" descr="C:\Documents and Settings\Elena Zanescu\My Documents\Zz nou in lucru   partial pt nov\MATER   gata pt pps\Mater red Grad Hon Noh\Pt red grad Hon O tropic   n   1\Diapozitiv2.JPG"/>
          <p:cNvPicPr/>
          <p:nvPr/>
        </p:nvPicPr>
        <p:blipFill>
          <a:blip r:embed="rId3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C:\Documents and Settings\Elena Zanescu\My Documents\Zz nou in lucru   partial pt nov\MATER   gata pt pps\Mater red Grad Hon Noh\Prezentare2.jpg"/>
          <p:cNvPicPr/>
          <p:nvPr/>
        </p:nvPicPr>
        <p:blipFill>
          <a:blip r:embed="rId4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95" name="7 CuadroTexto"/>
          <p:cNvSpPr/>
          <p:nvPr/>
        </p:nvSpPr>
        <p:spPr>
          <a:xfrm>
            <a:off x="214200" y="6215040"/>
            <a:ext cx="871560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Constantia"/>
              </a:rPr>
              <a:t>Lalibela - Etiopía</a:t>
            </a:r>
            <a:r>
              <a:rPr b="1" i="1" lang="en-US" sz="2300" spc="-1" strike="noStrike">
                <a:solidFill>
                  <a:srgbClr val="ffffff"/>
                </a:solidFill>
                <a:latin typeface="Constantia"/>
              </a:rPr>
              <a:t>!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C:\Documents and Settings\Elena Zanescu\My Documents\Zz nou in lucru   partial pt nov\MATER   gata pt pps\Mater red Grad Hon Noh\Pt red grad Hon O tropic   n   1\Diapozitiv10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C:\Documents and Settings\Elena Zanescu\My Documents\Zz nou in lucru   partial pt nov\MATER   gata pt pps\Mater red Grad Hon Noh\Pt red grad Hon O tropic   n   1\Diapozitiv2.JPG"/>
          <p:cNvPicPr/>
          <p:nvPr/>
        </p:nvPicPr>
        <p:blipFill>
          <a:blip r:embed="rId3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99" name="7 CuadroTexto"/>
          <p:cNvSpPr/>
          <p:nvPr/>
        </p:nvSpPr>
        <p:spPr>
          <a:xfrm>
            <a:off x="285840" y="6215040"/>
            <a:ext cx="8643960" cy="429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onstantia"/>
              </a:rPr>
              <a:t>Misteriosa  y enigmática Etiopía </a:t>
            </a:r>
            <a:r>
              <a:rPr b="1" i="1" lang="en-US" sz="2200" spc="-1" strike="noStrike">
                <a:solidFill>
                  <a:srgbClr val="ffffff"/>
                </a:solidFill>
                <a:latin typeface="Constantia"/>
              </a:rPr>
              <a:t>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 Rectángulo"/>
          <p:cNvSpPr/>
          <p:nvPr/>
        </p:nvSpPr>
        <p:spPr>
          <a:xfrm>
            <a:off x="428760" y="428760"/>
            <a:ext cx="85010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Lalibela es un milagro. La tradición dice que los ángeles ayudaron al  Rey Lalibela soberano de ese país de 1181 a 122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a cincelar esas maravillas esculpidas en pied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Un pueblo perdido en las tierras altas al norte de Etiopía alberga uno de los conjuntos arquitectónicos más bell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del mundo: una docena de iglesias talladas en roca viva en bloques únicos bajo el nivel del terreno, cincelan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toneladas de piedra volcánica hasta lograr que brotaran monolíticas catedrales en profundas zanj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Lo verdaderamente milagroso es que Lalibela  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permanecido incomunicada hasta hace pocas décad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Sus templos siguen en activo como el primer dí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acogiendo inmutables los ritos, plegarias y salmod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tal y como se desarrollaban en la época de Lalibela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14200" y="142920"/>
            <a:ext cx="8715600" cy="648000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57120" y="357120"/>
            <a:ext cx="8353440" cy="6167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Elena Zanescu\My Documents\Zz nou in lucru   partial pt nov\MATER   gata pt pps\Mater red Grad Hon Noh\Pt red Hon kooh   n   2\Diapozitiv21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Elena Zanescu\My Documents\Zz nou in lucru   partial pt nov\MATER   gata pt pps\Mater red Grad Hon Noh\Pt red Hon kooh   n   2\Diapozitiv9.JPG"/>
          <p:cNvPicPr/>
          <p:nvPr/>
        </p:nvPicPr>
        <p:blipFill>
          <a:blip r:embed="rId3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" descr="C:\Documents and Settings\Elena Zanescu\My Documents\Zz nou in lucru   partial pt nov\MATER   gata pt pps\Mater red Grad Hon Noh\Pt red grad Hon O tropic   n   1\Diapozitiv5.JPG"/>
          <p:cNvPicPr/>
          <p:nvPr/>
        </p:nvPicPr>
        <p:blipFill>
          <a:blip r:embed="rId4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Rectángulo"/>
          <p:cNvSpPr/>
          <p:nvPr/>
        </p:nvSpPr>
        <p:spPr>
          <a:xfrm>
            <a:off x="428760" y="857160"/>
            <a:ext cx="8286480" cy="55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Las doce iglesias fueron excavadas bajo la superficie de la tierra, llegando en algunos casos a alcanzar los 15 metros de altura. Rodeadas por patios y zanjas, túneles y pasadizos que las conectan entre sí , entre un edificio y el próxim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Las iglesias son tesoros en Etiopía co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las grandes pirámides lo son en Egip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La ciudad de Lalibela, emplazada entre escarpados barrancos de más de 2.500 metros, es una verdadera deli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500" spc="-1" strike="noStrike">
                <a:solidFill>
                  <a:srgbClr val="17375e"/>
                </a:solidFill>
                <a:latin typeface="Constantia"/>
              </a:rPr>
              <a:t>Las iglesias talladas en roca de Lalibela, Etiopía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17375e"/>
                </a:solidFill>
                <a:latin typeface="Constantia"/>
              </a:rPr>
              <a:t> </a:t>
            </a:r>
            <a:r>
              <a:rPr b="1" lang="es-AR" sz="2500" spc="-1" strike="noStrike">
                <a:solidFill>
                  <a:srgbClr val="17375e"/>
                </a:solidFill>
                <a:latin typeface="Constantia"/>
              </a:rPr>
              <a:t>fueron declaradas Patrimonio de la Humanida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17375e"/>
                </a:solidFill>
                <a:latin typeface="Constantia"/>
              </a:rPr>
              <a:t>por la Unesco en 197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4200" y="142920"/>
            <a:ext cx="8715600" cy="648000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57120" y="357120"/>
            <a:ext cx="8353440" cy="6167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C:\Documents and Settings\Elena Zanescu\My Documents\Zz nou in lucru   partial pt nov\MATER   gata pt pps\Mater red Grad Hon Noh\Pt red grad Hon O tropic   n   1\Diapozitiv18.JPG"/>
          <p:cNvPicPr/>
          <p:nvPr/>
        </p:nvPicPr>
        <p:blipFill>
          <a:blip r:embed="rId2"/>
          <a:stretch/>
        </p:blipFill>
        <p:spPr>
          <a:xfrm>
            <a:off x="214200" y="268200"/>
            <a:ext cx="8715600" cy="637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Elena Zanescu\My Documents\Zz nou in lucru   partial pt nov\MATER   gata pt pps\Mater red Grad Hon Noh\Pt red Hon kooh   n   2\Diapozitiv21.JPG"/>
          <p:cNvPicPr/>
          <p:nvPr/>
        </p:nvPicPr>
        <p:blipFill>
          <a:blip r:embed="rId3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" descr="C:\Documents and Settings\Elena Zanescu\My Documents\Zz nou in lucru   partial pt nov\MATER   gata pt pps\Mater red Grad Hon Noh\Pt red grad Hon O tropic   n   1\Diapozitiv5.JPG"/>
          <p:cNvPicPr/>
          <p:nvPr/>
        </p:nvPicPr>
        <p:blipFill>
          <a:blip r:embed="rId4"/>
          <a:stretch/>
        </p:blipFill>
        <p:spPr>
          <a:xfrm>
            <a:off x="214200" y="266760"/>
            <a:ext cx="8715600" cy="6377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C:\Documents and Settings\Elena Zanescu\My Documents\Zz nou in lucru   partial pt nov\MATER   gata pt pps\Mater red Grad Hon Noh\Pt red grad Hon O tropic   n   1\Diapozitiv18.JPG"/>
          <p:cNvPicPr/>
          <p:nvPr/>
        </p:nvPicPr>
        <p:blipFill>
          <a:blip r:embed="rId2"/>
          <a:stretch/>
        </p:blipFill>
        <p:spPr>
          <a:xfrm>
            <a:off x="1214280" y="357120"/>
            <a:ext cx="6500880" cy="6143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Elena Zanescu\My Documents\Zz nou in lucru   partial pt nov\MATER   gata pt pps\Mater red Grad Hon Noh\Pt red Hon kooh   n   2\Diapozitiv21.JPG"/>
          <p:cNvPicPr/>
          <p:nvPr/>
        </p:nvPicPr>
        <p:blipFill>
          <a:blip r:embed="rId3"/>
          <a:stretch/>
        </p:blipFill>
        <p:spPr>
          <a:xfrm>
            <a:off x="1214280" y="357120"/>
            <a:ext cx="6500880" cy="6143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Documents and Settings\Elena Zanescu\My Documents\Zz nou in lucru   partial pt nov\MATER   gata pt pps\Mater red Grad Hon Noh\Pt red Hon kooh   n   2\Diapozitiv12.JPG"/>
          <p:cNvPicPr/>
          <p:nvPr/>
        </p:nvPicPr>
        <p:blipFill>
          <a:blip r:embed="rId4"/>
          <a:stretch/>
        </p:blipFill>
        <p:spPr>
          <a:xfrm>
            <a:off x="1214280" y="357120"/>
            <a:ext cx="6500880" cy="614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Elena Zanescu\My Documents\Zz nou in lucru   partial pt nov\MATER   gata pt pps\Mater red Grad Hon Noh\Pt red Hon kooh   n   2\Diapozitiv9.JPG"/>
          <p:cNvPicPr/>
          <p:nvPr/>
        </p:nvPicPr>
        <p:blipFill>
          <a:blip r:embed="rId5"/>
          <a:stretch/>
        </p:blipFill>
        <p:spPr>
          <a:xfrm>
            <a:off x="1214280" y="357120"/>
            <a:ext cx="6500880" cy="614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C:\Documents and Settings\Elena Zanescu\My Documents\Zz nou in lucru   partial pt nov\MATER   gata pt pps\Mater red Grad Hon Noh\Pt red grad Hon O tropic   n   1\Diapozitiv5.JPG"/>
          <p:cNvPicPr/>
          <p:nvPr/>
        </p:nvPicPr>
        <p:blipFill>
          <a:blip r:embed="rId6"/>
          <a:stretch/>
        </p:blipFill>
        <p:spPr>
          <a:xfrm>
            <a:off x="1214280" y="357120"/>
            <a:ext cx="6500880" cy="61437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00080" y="214200"/>
            <a:ext cx="6929640" cy="6429600"/>
          </a:xfrm>
          <a:prstGeom prst="rect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3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4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9:10:13Z</dcterms:created>
  <dc:creator/>
  <dc:description/>
  <dc:language>en-US</dc:language>
  <cp:lastModifiedBy/>
  <dcterms:modified xsi:type="dcterms:W3CDTF">2013-11-30T07:26:41Z</dcterms:modified>
  <cp:revision>4</cp:revision>
  <dc:subject/>
  <dc:title>Diapositiva 1</dc:title>
</cp:coreProperties>
</file>