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0.jpeg" ContentType="image/jpeg"/>
  <Override PartName="/ppt/media/image9.jpeg" ContentType="image/jpeg"/>
  <Override PartName="/ppt/media/image8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3.jpeg" ContentType="image/jpeg"/>
  <Override PartName="/ppt/media/image20.gif" ContentType="image/gif"/>
  <Override PartName="/ppt/media/image4.png" ContentType="image/png"/>
  <Override PartName="/ppt/media/image24.gif" ContentType="image/gif"/>
  <Override PartName="/ppt/media/drumroll.wav" ContentType="audio/x-wav"/>
  <Override PartName="/ppt/media/image16.png" ContentType="image/png"/>
  <Override PartName="/ppt/media/image22.png" ContentType="image/png"/>
  <Override PartName="/ppt/media/image18.jpeg" ContentType="image/jpeg"/>
  <Override PartName="/ppt/media/image15.jpeg" ContentType="image/jpeg"/>
  <Override PartName="/ppt/media/image14.png" ContentType="image/png"/>
  <Override PartName="/ppt/media/image19.gif" ContentType="image/gif"/>
  <Override PartName="/ppt/media/image21.gif" ContentType="image/gif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2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AD9A-A4E2-4670-936A-7BE0BF7C74C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6469-88BF-4C03-9D8D-D7BD79C9F9A1}" type="slidenum">
              <a:rPr b="0" lang="es-ES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1ACA-4AD3-4986-B8F6-1FBCEE5295A5}" type="slidenum">
              <a:rPr b="0" lang="es-ES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2C4C-383E-42D0-8224-2D92CB1D3205}" type="slidenum">
              <a:rPr b="0" lang="es-ES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535C-AD46-4375-9076-508A894519B4}" type="slidenum">
              <a:rPr b="0" lang="es-ES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5B80-79A2-4D23-9CEC-88F2637295AE}" type="slidenum">
              <a:rPr b="0" lang="es-ES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6475-672E-458F-8F4B-D3EDA69FB5EB}" type="slidenum">
              <a:rPr b="0" lang="es-ES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8C67-FDE2-4D23-BA0A-07E4D6244520}" type="slidenum">
              <a:rPr b="0" lang="es-ES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276B5-320D-4D9B-8911-AD8A05FDB3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31572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92113-C3F0-4F6D-991D-78A2CDD0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7720" y="31572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0081C-E00D-47C3-BAA0-3AA460A4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31572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31E70-34BC-4DBF-ADCE-277DBC269B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31572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7720" y="31572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31572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31572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837720" y="315720"/>
            <a:ext cx="762012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31572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31572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34BE7-C17B-431A-9C7B-63B735FF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31572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31572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31572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31572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1572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31572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97135-F9EE-4024-A90B-C63FF91B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31572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9C36C-4678-4DF6-8EF9-E5C96973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31572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7B730-4F68-4DF0-A122-9540FFB01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837720" y="315720"/>
            <a:ext cx="762012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C9986-B720-47D8-AF76-1C60BD99A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31572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57EE7-B875-47E1-8DEA-B293D847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1572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E8D47-7DB3-4913-9BAA-6002FED7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31572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983E6-894F-4DC8-81CF-3A259E62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 flipH="1" rot="6480000">
            <a:off x="729720" y="1488600"/>
            <a:ext cx="901800" cy="901800"/>
          </a:xfrm>
          <a:prstGeom prst="rtTriangle">
            <a:avLst/>
          </a:prstGeom>
          <a:noFill/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7720" y="31572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6666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9D48-F84A-4726-B6DF-FC27E651B5D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8"/>
          <p:cNvGrpSpPr/>
          <p:nvPr/>
        </p:nvGrpSpPr>
        <p:grpSpPr>
          <a:xfrm>
            <a:off x="3583440" y="929160"/>
            <a:ext cx="5415480" cy="5886720"/>
            <a:chOff x="3583440" y="929160"/>
            <a:chExt cx="5415480" cy="5886720"/>
          </a:xfrm>
        </p:grpSpPr>
        <p:sp>
          <p:nvSpPr>
            <p:cNvPr id="6" name="AutoShape 9"/>
            <p:cNvSpPr/>
            <p:nvPr/>
          </p:nvSpPr>
          <p:spPr>
            <a:xfrm flipH="1" rot="13500000">
              <a:off x="6698520" y="539100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" name="AutoShape 10"/>
            <p:cNvSpPr/>
            <p:nvPr/>
          </p:nvSpPr>
          <p:spPr>
            <a:xfrm rot="16200000">
              <a:off x="7108560" y="465840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" name="AutoShape 11"/>
            <p:cNvSpPr/>
            <p:nvPr/>
          </p:nvSpPr>
          <p:spPr>
            <a:xfrm>
              <a:off x="7483320" y="353664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" name="AutoShape 12"/>
            <p:cNvSpPr/>
            <p:nvPr/>
          </p:nvSpPr>
          <p:spPr>
            <a:xfrm rot="13500000">
              <a:off x="3995640" y="441252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" name="AutoShape 13"/>
            <p:cNvSpPr/>
            <p:nvPr/>
          </p:nvSpPr>
          <p:spPr>
            <a:xfrm flipH="1" rot="8100000">
              <a:off x="5536800" y="335088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11" name="Group 14"/>
            <p:cNvGrpSpPr/>
            <p:nvPr/>
          </p:nvGrpSpPr>
          <p:grpSpPr>
            <a:xfrm>
              <a:off x="6589440" y="2856960"/>
              <a:ext cx="638280" cy="1902240"/>
              <a:chOff x="6589440" y="2856960"/>
              <a:chExt cx="638280" cy="1902240"/>
            </a:xfrm>
          </p:grpSpPr>
          <p:sp>
            <p:nvSpPr>
              <p:cNvPr id="12" name="Line 15"/>
              <p:cNvSpPr/>
              <p:nvPr/>
            </p:nvSpPr>
            <p:spPr>
              <a:xfrm>
                <a:off x="7224480" y="2873160"/>
                <a:ext cx="0" cy="12445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3" name="Line 16"/>
              <p:cNvSpPr/>
              <p:nvPr/>
            </p:nvSpPr>
            <p:spPr>
              <a:xfrm>
                <a:off x="6595920" y="3489120"/>
                <a:ext cx="0" cy="12700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4" name="Line 17"/>
              <p:cNvSpPr/>
              <p:nvPr/>
            </p:nvSpPr>
            <p:spPr>
              <a:xfrm flipV="1">
                <a:off x="6595920" y="4120560"/>
                <a:ext cx="631800" cy="63180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5" name="Line 18"/>
              <p:cNvSpPr/>
              <p:nvPr/>
            </p:nvSpPr>
            <p:spPr>
              <a:xfrm flipV="1">
                <a:off x="6589440" y="2856960"/>
                <a:ext cx="638280" cy="638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16" name="AutoShape 19"/>
            <p:cNvSpPr/>
            <p:nvPr/>
          </p:nvSpPr>
          <p:spPr>
            <a:xfrm rot="18900000">
              <a:off x="6595560" y="134136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aphicFrame>
        <p:nvGraphicFramePr>
          <p:cNvPr id="17" name="Object 20"/>
          <p:cNvGraphicFramePr/>
          <p:nvPr/>
        </p:nvGraphicFramePr>
        <p:xfrm>
          <a:off x="324000" y="333360"/>
          <a:ext cx="934920" cy="89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" name="Object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333360"/>
                    <a:ext cx="934920" cy="8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3961440" y="1000800"/>
            <a:ext cx="5415480" cy="5886720"/>
            <a:chOff x="3961440" y="1000800"/>
            <a:chExt cx="5415480" cy="5886720"/>
          </a:xfrm>
        </p:grpSpPr>
        <p:sp>
          <p:nvSpPr>
            <p:cNvPr id="56" name="AutoShape 3"/>
            <p:cNvSpPr/>
            <p:nvPr/>
          </p:nvSpPr>
          <p:spPr>
            <a:xfrm flipH="1" rot="13500000">
              <a:off x="7076520" y="54626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7" name="AutoShape 4"/>
            <p:cNvSpPr/>
            <p:nvPr/>
          </p:nvSpPr>
          <p:spPr>
            <a:xfrm rot="16200000">
              <a:off x="7486560" y="47300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8" name="AutoShape 5"/>
            <p:cNvSpPr/>
            <p:nvPr/>
          </p:nvSpPr>
          <p:spPr>
            <a:xfrm>
              <a:off x="7861320" y="36082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9" name="AutoShape 6"/>
            <p:cNvSpPr/>
            <p:nvPr/>
          </p:nvSpPr>
          <p:spPr>
            <a:xfrm rot="13500000">
              <a:off x="4373640" y="44841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0" name="AutoShape 7"/>
            <p:cNvSpPr/>
            <p:nvPr/>
          </p:nvSpPr>
          <p:spPr>
            <a:xfrm flipH="1" rot="8100000">
              <a:off x="5914800" y="34225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61" name="Group 8"/>
            <p:cNvGrpSpPr/>
            <p:nvPr/>
          </p:nvGrpSpPr>
          <p:grpSpPr>
            <a:xfrm>
              <a:off x="6967440" y="2928600"/>
              <a:ext cx="638280" cy="1902240"/>
              <a:chOff x="6967440" y="2928600"/>
              <a:chExt cx="638280" cy="1902240"/>
            </a:xfrm>
          </p:grpSpPr>
          <p:sp>
            <p:nvSpPr>
              <p:cNvPr id="62" name="Line 9"/>
              <p:cNvSpPr/>
              <p:nvPr/>
            </p:nvSpPr>
            <p:spPr>
              <a:xfrm>
                <a:off x="7602480" y="2944800"/>
                <a:ext cx="0" cy="12445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63" name="Line 10"/>
              <p:cNvSpPr/>
              <p:nvPr/>
            </p:nvSpPr>
            <p:spPr>
              <a:xfrm>
                <a:off x="6973920" y="3560760"/>
                <a:ext cx="0" cy="12700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64" name="Line 11"/>
              <p:cNvSpPr/>
              <p:nvPr/>
            </p:nvSpPr>
            <p:spPr>
              <a:xfrm flipV="1">
                <a:off x="6973920" y="4192200"/>
                <a:ext cx="631800" cy="63180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65" name="Line 12"/>
              <p:cNvSpPr/>
              <p:nvPr/>
            </p:nvSpPr>
            <p:spPr>
              <a:xfrm flipV="1">
                <a:off x="6967440" y="2928600"/>
                <a:ext cx="638280" cy="638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66" name="AutoShape 13"/>
            <p:cNvSpPr/>
            <p:nvPr/>
          </p:nvSpPr>
          <p:spPr>
            <a:xfrm rot="18900000">
              <a:off x="6973560" y="14130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7" name="Group 15"/>
          <p:cNvGrpSpPr/>
          <p:nvPr/>
        </p:nvGrpSpPr>
        <p:grpSpPr>
          <a:xfrm>
            <a:off x="3344760" y="2457360"/>
            <a:ext cx="5450040" cy="4683960"/>
            <a:chOff x="3344760" y="2457360"/>
            <a:chExt cx="5450040" cy="4683960"/>
          </a:xfrm>
        </p:grpSpPr>
        <p:sp>
          <p:nvSpPr>
            <p:cNvPr id="68" name="AutoShape 16"/>
            <p:cNvSpPr/>
            <p:nvPr/>
          </p:nvSpPr>
          <p:spPr>
            <a:xfrm>
              <a:off x="7512120" y="3355920"/>
              <a:ext cx="1282680" cy="128268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9" name="Freeform 33"/>
            <p:cNvSpPr/>
            <p:nvPr/>
          </p:nvSpPr>
          <p:spPr>
            <a:xfrm>
              <a:off x="6446880" y="3071880"/>
              <a:ext cx="639720" cy="1892160"/>
            </a:xfrm>
            <a:custGeom>
              <a:avLst/>
              <a:gdLst>
                <a:gd name="textAreaLeft" fmla="*/ 0 w 639720"/>
                <a:gd name="textAreaRight" fmla="*/ 640080 w 639720"/>
                <a:gd name="textAreaTop" fmla="*/ 0 h 1892160"/>
                <a:gd name="textAreaBottom" fmla="*/ 1892520 h 1892160"/>
              </a:gdLst>
              <a:ahLst/>
              <a:rect l="textAreaLeft" t="textAreaTop" r="textAreaRight" b="textAreaBottom"/>
              <a:pathLst>
                <a:path w="403" h="1192">
                  <a:moveTo>
                    <a:pt x="399" y="0"/>
                  </a:moveTo>
                  <a:lnTo>
                    <a:pt x="0" y="399"/>
                  </a:lnTo>
                  <a:lnTo>
                    <a:pt x="0" y="1191"/>
                  </a:lnTo>
                  <a:lnTo>
                    <a:pt x="402" y="789"/>
                  </a:lnTo>
                  <a:lnTo>
                    <a:pt x="399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0" name="AutoShape 18"/>
            <p:cNvSpPr/>
            <p:nvPr/>
          </p:nvSpPr>
          <p:spPr>
            <a:xfrm rot="18900000">
              <a:off x="4011120" y="4175280"/>
              <a:ext cx="1990800" cy="19904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1" name="AutoShape 19"/>
            <p:cNvSpPr/>
            <p:nvPr/>
          </p:nvSpPr>
          <p:spPr>
            <a:xfrm flipH="1" rot="13500000">
              <a:off x="6050520" y="6052680"/>
              <a:ext cx="901800" cy="90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2" name="AutoShape 20"/>
            <p:cNvSpPr/>
            <p:nvPr/>
          </p:nvSpPr>
          <p:spPr>
            <a:xfrm rot="16200000">
              <a:off x="7021440" y="4646520"/>
              <a:ext cx="1362240" cy="1352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3" name="AutoShape 21"/>
            <p:cNvSpPr/>
            <p:nvPr/>
          </p:nvSpPr>
          <p:spPr>
            <a:xfrm rot="10800000">
              <a:off x="3344760" y="2457360"/>
              <a:ext cx="1990800" cy="1990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4" name="AutoShape 22"/>
            <p:cNvSpPr/>
            <p:nvPr/>
          </p:nvSpPr>
          <p:spPr>
            <a:xfrm flipH="1" rot="8100000">
              <a:off x="5412240" y="4289040"/>
              <a:ext cx="901800" cy="90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75" name="Rectangle 39"/>
          <p:cNvSpPr/>
          <p:nvPr/>
        </p:nvSpPr>
        <p:spPr>
          <a:xfrm>
            <a:off x="6588000" y="5181480"/>
            <a:ext cx="2556000" cy="38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graphicFrame>
        <p:nvGraphicFramePr>
          <p:cNvPr id="76" name="Object 30"/>
          <p:cNvGraphicFramePr/>
          <p:nvPr/>
        </p:nvGraphicFramePr>
        <p:xfrm>
          <a:off x="324000" y="333360"/>
          <a:ext cx="1008000" cy="96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Object 3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333360"/>
                    <a:ext cx="100800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31572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6666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png"/><Relationship Id="rId5" Type="http://schemas.openxmlformats.org/officeDocument/2006/relationships/image" Target="../media/image21.gif"/><Relationship Id="rId6" Type="http://schemas.openxmlformats.org/officeDocument/2006/relationships/image" Target="../media/image23.gif"/><Relationship Id="rId7" Type="http://schemas.openxmlformats.org/officeDocument/2006/relationships/image" Target="../media/image21.gif"/><Relationship Id="rId8" Type="http://schemas.openxmlformats.org/officeDocument/2006/relationships/image" Target="../media/image24.gif"/><Relationship Id="rId9" Type="http://schemas.openxmlformats.org/officeDocument/2006/relationships/audio" Target="../media/drumroll.wav"/><Relationship Id="rId10" Type="http://schemas.openxmlformats.org/officeDocument/2006/relationships/audio" Target="../media/drumroll.wav"/><Relationship Id="rId11" Type="http://schemas.openxmlformats.org/officeDocument/2006/relationships/audio" Target="../media/drumroll.wav"/><Relationship Id="rId12" Type="http://schemas.openxmlformats.org/officeDocument/2006/relationships/audio" Target="../media/drumroll.wav"/><Relationship Id="rId13" Type="http://schemas.openxmlformats.org/officeDocument/2006/relationships/audio" Target="../media/drumroll.wav"/><Relationship Id="rId14" Type="http://schemas.openxmlformats.org/officeDocument/2006/relationships/audio" Target="../media/drumroll.wav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hyperlink" Target="http://wwwils.nlm.nih.gov/medlineplus/spanish/ency/article/003174.htm" TargetMode="External"/><Relationship Id="rId4" Type="http://schemas.openxmlformats.org/officeDocument/2006/relationships/hyperlink" Target="http://wwwils.nlm.nih.gov/medlineplus/spanish/ency/article/003190.htm" TargetMode="External"/><Relationship Id="rId5" Type="http://schemas.openxmlformats.org/officeDocument/2006/relationships/image" Target="../media/image16.png"/><Relationship Id="rId6" Type="http://schemas.openxmlformats.org/officeDocument/2006/relationships/hyperlink" Target="http://wwwils.nlm.nih.gov/medlineplus/spanish/ency/article/003206.htm" TargetMode="External"/><Relationship Id="rId7" Type="http://schemas.openxmlformats.org/officeDocument/2006/relationships/hyperlink" Target="http://wwwils.nlm.nih.gov/medlineplus/spanish/ency/article/003206.htm" TargetMode="External"/><Relationship Id="rId8" Type="http://schemas.openxmlformats.org/officeDocument/2006/relationships/image" Target="../media/image16.png"/><Relationship Id="rId9" Type="http://schemas.openxmlformats.org/officeDocument/2006/relationships/hyperlink" Target="http://wwwils.nlm.nih.gov/medlineplus/spanish/ency/article/003029.htm" TargetMode="External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hyperlink" Target="http://wwwils.nlm.nih.gov/medlineplus/spanish/ency/article/003115.htm" TargetMode="External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hyperlink" Target="http://wwwils.nlm.nih.gov/medlineplus/spanish/ency/article/003093.htm" TargetMode="External"/><Relationship Id="rId16" Type="http://schemas.openxmlformats.org/officeDocument/2006/relationships/image" Target="../media/image16.png"/><Relationship Id="rId17" Type="http://schemas.openxmlformats.org/officeDocument/2006/relationships/hyperlink" Target="http://wwwils.nlm.nih.gov/medlineplus/spanish/ency/article/003198.htm" TargetMode="External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hyperlink" Target="http://wwwils.nlm.nih.gov/medlineplus/spanish/ency/article/003213.htm" TargetMode="External"/><Relationship Id="rId21" Type="http://schemas.openxmlformats.org/officeDocument/2006/relationships/hyperlink" Target="http://wwwils.nlm.nih.gov/medlineplus/spanish/ency/article/003088.htm" TargetMode="External"/><Relationship Id="rId22" Type="http://schemas.openxmlformats.org/officeDocument/2006/relationships/image" Target="../media/image16.png"/><Relationship Id="rId23" Type="http://schemas.openxmlformats.org/officeDocument/2006/relationships/hyperlink" Target="http://wwwils.nlm.nih.gov/medlineplus/spanish/ency/article/003208.htm" TargetMode="External"/><Relationship Id="rId24" Type="http://schemas.openxmlformats.org/officeDocument/2006/relationships/hyperlink" Target="http://wwwils.nlm.nih.gov/medlineplus/spanish/ency/article/003088.htm" TargetMode="External"/><Relationship Id="rId25" Type="http://schemas.openxmlformats.org/officeDocument/2006/relationships/image" Target="../media/image16.png"/><Relationship Id="rId2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png"/><Relationship Id="rId5" Type="http://schemas.openxmlformats.org/officeDocument/2006/relationships/image" Target="../media/image21.gif"/><Relationship Id="rId6" Type="http://schemas.openxmlformats.org/officeDocument/2006/relationships/image" Target="../media/image23.gif"/><Relationship Id="rId7" Type="http://schemas.openxmlformats.org/officeDocument/2006/relationships/image" Target="../media/image21.gif"/><Relationship Id="rId8" Type="http://schemas.openxmlformats.org/officeDocument/2006/relationships/audio" Target="../media/drumroll.wav"/><Relationship Id="rId9" Type="http://schemas.openxmlformats.org/officeDocument/2006/relationships/audio" Target="../media/drumroll.wav"/><Relationship Id="rId10" Type="http://schemas.openxmlformats.org/officeDocument/2006/relationships/audio" Target="../media/drumroll.wav"/><Relationship Id="rId11" Type="http://schemas.openxmlformats.org/officeDocument/2006/relationships/audio" Target="../media/drumroll.wav"/><Relationship Id="rId12" Type="http://schemas.openxmlformats.org/officeDocument/2006/relationships/audio" Target="../media/drumroll.wav"/><Relationship Id="rId13" Type="http://schemas.openxmlformats.org/officeDocument/2006/relationships/audio" Target="../media/drumroll.wav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06560" y="4508280"/>
            <a:ext cx="7237440" cy="71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8f8f8"/>
                </a:solidFill>
                <a:latin typeface="Arial"/>
              </a:rPr>
              <a:t>¿ CONOCES TUS VALORES?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Text Box 35"/>
          <p:cNvSpPr/>
          <p:nvPr/>
        </p:nvSpPr>
        <p:spPr>
          <a:xfrm>
            <a:off x="324000" y="2060640"/>
            <a:ext cx="669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cc00"/>
                </a:solidFill>
                <a:latin typeface="Verdana"/>
              </a:rPr>
              <a:t>HABLEMOS del                           COLESTEROL 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cc00"/>
                </a:solidFill>
                <a:latin typeface="Verdana"/>
              </a:rPr>
              <a:t>y </a:t>
            </a:r>
            <a:br>
              <a:rPr sz="4000"/>
            </a:br>
            <a:r>
              <a:rPr b="1" lang="es-MX" sz="4000" spc="-1" strike="noStrike">
                <a:solidFill>
                  <a:srgbClr val="ffcc00"/>
                </a:solidFill>
                <a:latin typeface="Verdana"/>
              </a:rPr>
              <a:t>LOS TRIGLICERIDOS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4" name="Text Box 156"/>
          <p:cNvSpPr/>
          <p:nvPr/>
        </p:nvSpPr>
        <p:spPr>
          <a:xfrm>
            <a:off x="468360" y="595008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ffff"/>
                </a:solidFill>
                <a:latin typeface="Arial"/>
              </a:rPr>
              <a:t>En memoria de nuestros compañeros fallecidos en los últimos años por causas relacionadas de forma directa o indirecta con estos elementos</a:t>
            </a: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25" name="Picture 5" descr="Picture1.jpg"/>
          <p:cNvPicPr/>
          <p:nvPr/>
        </p:nvPicPr>
        <p:blipFill>
          <a:blip r:embed="rId1"/>
          <a:stretch/>
        </p:blipFill>
        <p:spPr>
          <a:xfrm>
            <a:off x="6357960" y="214200"/>
            <a:ext cx="2566800" cy="288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24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1572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¿QUÉ PUEDES HACER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2498760" y="1639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3641760" y="1868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8" name="Text Box 18"/>
          <p:cNvSpPr/>
          <p:nvPr/>
        </p:nvSpPr>
        <p:spPr>
          <a:xfrm>
            <a:off x="5470560" y="1792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9" name="Text Box 23"/>
          <p:cNvSpPr/>
          <p:nvPr/>
        </p:nvSpPr>
        <p:spPr>
          <a:xfrm>
            <a:off x="76320" y="152280"/>
            <a:ext cx="4267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0" name="Text Box 24"/>
          <p:cNvSpPr/>
          <p:nvPr/>
        </p:nvSpPr>
        <p:spPr>
          <a:xfrm>
            <a:off x="900000" y="2287440"/>
            <a:ext cx="6048360" cy="45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Bookman Old Style"/>
              </a:rPr>
              <a:t> </a:t>
            </a:r>
            <a:r>
              <a:rPr b="1" lang="es-MX" sz="2000" spc="-1" strike="noStrike">
                <a:solidFill>
                  <a:srgbClr val="ffcc00"/>
                </a:solidFill>
                <a:latin typeface="Verdana"/>
              </a:rPr>
              <a:t>C</a:t>
            </a:r>
            <a:r>
              <a:rPr b="1" lang="es-ES" sz="2000" spc="-1" strike="noStrike">
                <a:solidFill>
                  <a:srgbClr val="ffcc00"/>
                </a:solidFill>
                <a:latin typeface="Verdana"/>
              </a:rPr>
              <a:t>ONSUME FRUTAS</a:t>
            </a:r>
            <a:r>
              <a:rPr b="1" lang="es-ES" sz="2000" spc="-1" strike="noStrike">
                <a:solidFill>
                  <a:srgbClr val="f8f8f8"/>
                </a:solidFill>
                <a:latin typeface="Verdana"/>
              </a:rPr>
              <a:t> </a:t>
            </a:r>
            <a:r>
              <a:rPr b="1" lang="es-ES" sz="2000" spc="-1" strike="noStrike">
                <a:solidFill>
                  <a:srgbClr val="ffcc00"/>
                </a:solidFill>
                <a:latin typeface="Verdana"/>
              </a:rPr>
              <a:t>Y</a:t>
            </a:r>
            <a:r>
              <a:rPr b="1" lang="es-ES" sz="2000" spc="-1" strike="noStrike">
                <a:solidFill>
                  <a:srgbClr val="f8f8f8"/>
                </a:solidFill>
                <a:latin typeface="Verdana"/>
              </a:rPr>
              <a:t> </a:t>
            </a:r>
            <a:r>
              <a:rPr b="1" lang="es-ES" sz="2000" spc="-1" strike="noStrike">
                <a:solidFill>
                  <a:srgbClr val="ffcc00"/>
                </a:solidFill>
                <a:latin typeface="Verdana"/>
              </a:rPr>
              <a:t>VEGETALES: </a:t>
            </a:r>
            <a:r>
              <a:rPr b="1" lang="es-ES" sz="2000" spc="-1" strike="noStrike">
                <a:solidFill>
                  <a:srgbClr val="f8f8f8"/>
                </a:solidFill>
                <a:latin typeface="Verdana"/>
              </a:rPr>
              <a:t>En una cantidad adecuada   para proteger las arterias y el corazón</a:t>
            </a:r>
            <a:r>
              <a:rPr b="1" lang="es-MX" sz="2000" spc="-1" strike="noStrike">
                <a:solidFill>
                  <a:srgbClr val="f8f8f8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8f8f8"/>
                </a:solidFill>
                <a:latin typeface="Verdana"/>
              </a:rPr>
              <a:t> </a:t>
            </a:r>
            <a:r>
              <a:rPr b="1" lang="es-MX" sz="2000" spc="-1" strike="noStrike">
                <a:solidFill>
                  <a:srgbClr val="ffcc00"/>
                </a:solidFill>
                <a:latin typeface="Verdana"/>
              </a:rPr>
              <a:t>C</a:t>
            </a:r>
            <a:r>
              <a:rPr b="1" lang="es-ES" sz="2000" spc="-1" strike="noStrike">
                <a:solidFill>
                  <a:srgbClr val="ffcc00"/>
                </a:solidFill>
                <a:latin typeface="Verdana"/>
              </a:rPr>
              <a:t>ONSUME </a:t>
            </a:r>
            <a:r>
              <a:rPr b="1" lang="es-MX" sz="2000" spc="-1" strike="noStrike">
                <a:solidFill>
                  <a:srgbClr val="ffcc00"/>
                </a:solidFill>
                <a:latin typeface="Verdana"/>
              </a:rPr>
              <a:t>PESCADO:</a:t>
            </a:r>
            <a:r>
              <a:rPr b="1" lang="es-MX" sz="2000" spc="-1" strike="noStrike">
                <a:solidFill>
                  <a:srgbClr val="f8f8f8"/>
                </a:solidFill>
                <a:latin typeface="Verdana"/>
              </a:rPr>
              <a:t>  2 o 3 veces por semana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8f8f8"/>
                </a:solidFill>
                <a:latin typeface="Verdana"/>
              </a:rPr>
              <a:t> </a:t>
            </a:r>
            <a:r>
              <a:rPr b="1" lang="es-MX" sz="2000" spc="-1" strike="noStrike">
                <a:solidFill>
                  <a:srgbClr val="ffcc00"/>
                </a:solidFill>
                <a:latin typeface="Verdana"/>
              </a:rPr>
              <a:t>E</a:t>
            </a:r>
            <a:r>
              <a:rPr b="1" lang="es-ES" sz="2000" spc="-1" strike="noStrike">
                <a:solidFill>
                  <a:srgbClr val="ffcc00"/>
                </a:solidFill>
                <a:latin typeface="Verdana"/>
              </a:rPr>
              <a:t>VITA</a:t>
            </a:r>
            <a:r>
              <a:rPr b="1" lang="es-MX" sz="20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es-ES" sz="2000" spc="-1" strike="noStrike">
                <a:solidFill>
                  <a:srgbClr val="ffcc00"/>
                </a:solidFill>
                <a:latin typeface="Verdana"/>
              </a:rPr>
              <a:t> EL TABACO Y EL ALCOHOL</a:t>
            </a:r>
            <a:r>
              <a:rPr b="1" lang="es-MX" sz="2000" spc="-1" strike="noStrike">
                <a:solidFill>
                  <a:srgbClr val="ffcc00"/>
                </a:solidFill>
                <a:latin typeface="Verdana"/>
              </a:rPr>
              <a:t>: </a:t>
            </a:r>
            <a:r>
              <a:rPr b="1" lang="es-MX" sz="2000" spc="-1" strike="noStrike">
                <a:solidFill>
                  <a:srgbClr val="f8f8f8"/>
                </a:solidFill>
                <a:latin typeface="Verdana"/>
              </a:rPr>
              <a:t>Ya que </a:t>
            </a:r>
            <a:r>
              <a:rPr b="1" lang="es-ES" sz="2000" spc="-1" strike="noStrike">
                <a:solidFill>
                  <a:srgbClr val="f8f8f8"/>
                </a:solidFill>
                <a:latin typeface="Verdana"/>
              </a:rPr>
              <a:t> los mismos incrementa los niveles de  ambos elementos</a:t>
            </a:r>
            <a:r>
              <a:rPr b="1" lang="es-MX" sz="2000" spc="-1" strike="noStrike">
                <a:solidFill>
                  <a:srgbClr val="f8f8f8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8f8f8"/>
                </a:solidFill>
                <a:latin typeface="Verdana"/>
              </a:rPr>
              <a:t>  </a:t>
            </a:r>
            <a:r>
              <a:rPr b="1" lang="es-MX" sz="2000" spc="-1" strike="noStrike">
                <a:solidFill>
                  <a:srgbClr val="ffcc00"/>
                </a:solidFill>
                <a:latin typeface="Verdana"/>
              </a:rPr>
              <a:t>NO MEZCLES CARBOHIDRATOS: </a:t>
            </a:r>
            <a:r>
              <a:rPr b="1" lang="es-MX" sz="2000" spc="-1" strike="noStrike">
                <a:solidFill>
                  <a:srgbClr val="f8f8f8"/>
                </a:solidFill>
                <a:latin typeface="Verdana"/>
              </a:rPr>
              <a:t>Por ejemplo; No consumas pan con pastas, papas, arroz y/o granos, en una misma comida. </a:t>
            </a:r>
            <a:r>
              <a:rPr b="1" lang="es-MX" sz="1800" spc="-1" strike="noStrike">
                <a:solidFill>
                  <a:srgbClr val="66ffff"/>
                </a:solidFill>
                <a:latin typeface="Arial"/>
              </a:rPr>
              <a:t>CONSUME UNICAMENTE UN  TIPO DE  CARBOHIDRATO  EN  CADA COMIDA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ff3300"/>
              </a:buClr>
              <a:buSzPct val="12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1" name="Text Box 25"/>
          <p:cNvSpPr/>
          <p:nvPr/>
        </p:nvSpPr>
        <p:spPr>
          <a:xfrm>
            <a:off x="1228320" y="21337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2" name="Text Box 27"/>
          <p:cNvSpPr/>
          <p:nvPr/>
        </p:nvSpPr>
        <p:spPr>
          <a:xfrm>
            <a:off x="4788000" y="155736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Arial Black"/>
              </a:rPr>
              <a:t>POR TU SALUD…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93" name="Group 90"/>
          <p:cNvGrpSpPr/>
          <p:nvPr/>
        </p:nvGrpSpPr>
        <p:grpSpPr>
          <a:xfrm>
            <a:off x="7236000" y="3141720"/>
            <a:ext cx="1444320" cy="2448000"/>
            <a:chOff x="7236000" y="3141720"/>
            <a:chExt cx="1444320" cy="2448000"/>
          </a:xfrm>
        </p:grpSpPr>
        <p:grpSp>
          <p:nvGrpSpPr>
            <p:cNvPr id="194" name="Group 62"/>
            <p:cNvGrpSpPr/>
            <p:nvPr/>
          </p:nvGrpSpPr>
          <p:grpSpPr>
            <a:xfrm>
              <a:off x="7236000" y="4583160"/>
              <a:ext cx="1225440" cy="1006560"/>
              <a:chOff x="7236000" y="4583160"/>
              <a:chExt cx="1225440" cy="1006560"/>
            </a:xfrm>
          </p:grpSpPr>
          <p:sp>
            <p:nvSpPr>
              <p:cNvPr id="195" name="AutoShape 63"/>
              <p:cNvSpPr/>
              <p:nvPr/>
            </p:nvSpPr>
            <p:spPr>
              <a:xfrm>
                <a:off x="7236000" y="4583160"/>
                <a:ext cx="122544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96" name="AutoShape 64"/>
              <p:cNvSpPr/>
              <p:nvPr/>
            </p:nvSpPr>
            <p:spPr>
              <a:xfrm>
                <a:off x="7241400" y="4587840"/>
                <a:ext cx="1215000" cy="997200"/>
              </a:xfrm>
              <a:prstGeom prst="roundRect">
                <a:avLst>
                  <a:gd name="adj" fmla="val 12264"/>
                </a:avLst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grpSp>
            <p:nvGrpSpPr>
              <p:cNvPr id="197" name="Group 65"/>
              <p:cNvGrpSpPr/>
              <p:nvPr/>
            </p:nvGrpSpPr>
            <p:grpSpPr>
              <a:xfrm>
                <a:off x="7327080" y="4673160"/>
                <a:ext cx="1038240" cy="833400"/>
                <a:chOff x="7327080" y="4673160"/>
                <a:chExt cx="1038240" cy="833400"/>
              </a:xfrm>
            </p:grpSpPr>
            <p:grpSp>
              <p:nvGrpSpPr>
                <p:cNvPr id="198" name="Group 66"/>
                <p:cNvGrpSpPr/>
                <p:nvPr/>
              </p:nvGrpSpPr>
              <p:grpSpPr>
                <a:xfrm>
                  <a:off x="7525080" y="4869000"/>
                  <a:ext cx="647640" cy="328680"/>
                  <a:chOff x="7525080" y="4869000"/>
                  <a:chExt cx="647640" cy="328680"/>
                </a:xfrm>
              </p:grpSpPr>
              <p:grpSp>
                <p:nvGrpSpPr>
                  <p:cNvPr id="199" name="Group 67"/>
                  <p:cNvGrpSpPr/>
                  <p:nvPr/>
                </p:nvGrpSpPr>
                <p:grpSpPr>
                  <a:xfrm>
                    <a:off x="7525080" y="5122080"/>
                    <a:ext cx="647280" cy="75600"/>
                    <a:chOff x="7525080" y="5122080"/>
                    <a:chExt cx="647280" cy="75600"/>
                  </a:xfrm>
                </p:grpSpPr>
                <p:sp>
                  <p:nvSpPr>
                    <p:cNvPr id="200" name="Rectangle 68"/>
                    <p:cNvSpPr/>
                    <p:nvPr/>
                  </p:nvSpPr>
                  <p:spPr>
                    <a:xfrm>
                      <a:off x="7525080" y="5122080"/>
                      <a:ext cx="548280" cy="756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Rectangle 69"/>
                    <p:cNvSpPr/>
                    <p:nvPr/>
                  </p:nvSpPr>
                  <p:spPr>
                    <a:xfrm>
                      <a:off x="8082000" y="5123160"/>
                      <a:ext cx="35640" cy="741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" name="Rectangle 70"/>
                    <p:cNvSpPr/>
                    <p:nvPr/>
                  </p:nvSpPr>
                  <p:spPr>
                    <a:xfrm>
                      <a:off x="8133120" y="5123160"/>
                      <a:ext cx="39240" cy="741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3" name="Group 71"/>
                  <p:cNvGrpSpPr/>
                  <p:nvPr/>
                </p:nvGrpSpPr>
                <p:grpSpPr>
                  <a:xfrm>
                    <a:off x="7794000" y="4869000"/>
                    <a:ext cx="378720" cy="243720"/>
                    <a:chOff x="7794000" y="4869000"/>
                    <a:chExt cx="378720" cy="243720"/>
                  </a:xfrm>
                </p:grpSpPr>
                <p:sp>
                  <p:nvSpPr>
                    <p:cNvPr id="204" name="Freeform 72"/>
                    <p:cNvSpPr/>
                    <p:nvPr/>
                  </p:nvSpPr>
                  <p:spPr>
                    <a:xfrm>
                      <a:off x="7958160" y="4878360"/>
                      <a:ext cx="214560" cy="234000"/>
                    </a:xfrm>
                    <a:custGeom>
                      <a:avLst/>
                      <a:gdLst>
                        <a:gd name="textAreaLeft" fmla="*/ 0 w 214560"/>
                        <a:gd name="textAreaRight" fmla="*/ 214920 w 214560"/>
                        <a:gd name="textAreaTop" fmla="*/ 0 h 234000"/>
                        <a:gd name="textAreaBottom" fmla="*/ 234360 h 234000"/>
                      </a:gdLst>
                      <a:ahLst/>
                      <a:rect l="textAreaLeft" t="textAreaTop" r="textAreaRight" b="textAreaBottom"/>
                      <a:pathLst>
                        <a:path w="381" h="603">
                          <a:moveTo>
                            <a:pt x="0" y="0"/>
                          </a:moveTo>
                          <a:lnTo>
                            <a:pt x="15" y="3"/>
                          </a:lnTo>
                          <a:lnTo>
                            <a:pt x="35" y="8"/>
                          </a:lnTo>
                          <a:lnTo>
                            <a:pt x="52" y="14"/>
                          </a:lnTo>
                          <a:lnTo>
                            <a:pt x="68" y="22"/>
                          </a:lnTo>
                          <a:lnTo>
                            <a:pt x="82" y="32"/>
                          </a:lnTo>
                          <a:lnTo>
                            <a:pt x="96" y="44"/>
                          </a:lnTo>
                          <a:lnTo>
                            <a:pt x="107" y="55"/>
                          </a:lnTo>
                          <a:lnTo>
                            <a:pt x="116" y="68"/>
                          </a:lnTo>
                          <a:lnTo>
                            <a:pt x="126" y="85"/>
                          </a:lnTo>
                          <a:lnTo>
                            <a:pt x="132" y="100"/>
                          </a:lnTo>
                          <a:lnTo>
                            <a:pt x="139" y="116"/>
                          </a:lnTo>
                          <a:lnTo>
                            <a:pt x="145" y="136"/>
                          </a:lnTo>
                          <a:lnTo>
                            <a:pt x="146" y="152"/>
                          </a:lnTo>
                          <a:lnTo>
                            <a:pt x="148" y="166"/>
                          </a:lnTo>
                          <a:lnTo>
                            <a:pt x="148" y="181"/>
                          </a:lnTo>
                          <a:lnTo>
                            <a:pt x="148" y="190"/>
                          </a:lnTo>
                          <a:lnTo>
                            <a:pt x="147" y="202"/>
                          </a:lnTo>
                          <a:lnTo>
                            <a:pt x="215" y="202"/>
                          </a:lnTo>
                          <a:lnTo>
                            <a:pt x="231" y="202"/>
                          </a:lnTo>
                          <a:lnTo>
                            <a:pt x="247" y="205"/>
                          </a:lnTo>
                          <a:lnTo>
                            <a:pt x="260" y="210"/>
                          </a:lnTo>
                          <a:lnTo>
                            <a:pt x="277" y="217"/>
                          </a:lnTo>
                          <a:lnTo>
                            <a:pt x="297" y="226"/>
                          </a:lnTo>
                          <a:lnTo>
                            <a:pt x="311" y="235"/>
                          </a:lnTo>
                          <a:lnTo>
                            <a:pt x="324" y="247"/>
                          </a:lnTo>
                          <a:lnTo>
                            <a:pt x="337" y="263"/>
                          </a:lnTo>
                          <a:lnTo>
                            <a:pt x="353" y="278"/>
                          </a:lnTo>
                          <a:lnTo>
                            <a:pt x="363" y="295"/>
                          </a:lnTo>
                          <a:lnTo>
                            <a:pt x="369" y="312"/>
                          </a:lnTo>
                          <a:lnTo>
                            <a:pt x="375" y="331"/>
                          </a:lnTo>
                          <a:lnTo>
                            <a:pt x="378" y="344"/>
                          </a:lnTo>
                          <a:lnTo>
                            <a:pt x="380" y="357"/>
                          </a:lnTo>
                          <a:lnTo>
                            <a:pt x="381" y="377"/>
                          </a:lnTo>
                          <a:lnTo>
                            <a:pt x="381" y="603"/>
                          </a:lnTo>
                          <a:lnTo>
                            <a:pt x="317" y="603"/>
                          </a:lnTo>
                          <a:lnTo>
                            <a:pt x="317" y="378"/>
                          </a:lnTo>
                          <a:lnTo>
                            <a:pt x="316" y="364"/>
                          </a:lnTo>
                          <a:lnTo>
                            <a:pt x="314" y="351"/>
                          </a:lnTo>
                          <a:lnTo>
                            <a:pt x="311" y="340"/>
                          </a:lnTo>
                          <a:lnTo>
                            <a:pt x="309" y="331"/>
                          </a:lnTo>
                          <a:lnTo>
                            <a:pt x="301" y="317"/>
                          </a:lnTo>
                          <a:lnTo>
                            <a:pt x="293" y="308"/>
                          </a:lnTo>
                          <a:lnTo>
                            <a:pt x="289" y="301"/>
                          </a:lnTo>
                          <a:lnTo>
                            <a:pt x="276" y="292"/>
                          </a:lnTo>
                          <a:lnTo>
                            <a:pt x="267" y="286"/>
                          </a:lnTo>
                          <a:lnTo>
                            <a:pt x="259" y="280"/>
                          </a:lnTo>
                          <a:lnTo>
                            <a:pt x="250" y="276"/>
                          </a:lnTo>
                          <a:lnTo>
                            <a:pt x="241" y="275"/>
                          </a:lnTo>
                          <a:lnTo>
                            <a:pt x="227" y="272"/>
                          </a:lnTo>
                          <a:lnTo>
                            <a:pt x="217" y="270"/>
                          </a:lnTo>
                          <a:lnTo>
                            <a:pt x="55" y="270"/>
                          </a:lnTo>
                          <a:lnTo>
                            <a:pt x="65" y="258"/>
                          </a:lnTo>
                          <a:lnTo>
                            <a:pt x="72" y="246"/>
                          </a:lnTo>
                          <a:lnTo>
                            <a:pt x="78" y="238"/>
                          </a:lnTo>
                          <a:lnTo>
                            <a:pt x="82" y="227"/>
                          </a:lnTo>
                          <a:lnTo>
                            <a:pt x="88" y="214"/>
                          </a:lnTo>
                          <a:lnTo>
                            <a:pt x="90" y="198"/>
                          </a:lnTo>
                          <a:lnTo>
                            <a:pt x="91" y="183"/>
                          </a:lnTo>
                          <a:lnTo>
                            <a:pt x="91" y="169"/>
                          </a:lnTo>
                          <a:lnTo>
                            <a:pt x="88" y="152"/>
                          </a:lnTo>
                          <a:lnTo>
                            <a:pt x="83" y="136"/>
                          </a:lnTo>
                          <a:lnTo>
                            <a:pt x="79" y="122"/>
                          </a:lnTo>
                          <a:lnTo>
                            <a:pt x="71" y="110"/>
                          </a:lnTo>
                          <a:lnTo>
                            <a:pt x="59" y="96"/>
                          </a:lnTo>
                          <a:lnTo>
                            <a:pt x="46" y="83"/>
                          </a:lnTo>
                          <a:lnTo>
                            <a:pt x="35" y="77"/>
                          </a:lnTo>
                          <a:lnTo>
                            <a:pt x="22" y="71"/>
                          </a:lnTo>
                          <a:lnTo>
                            <a:pt x="9" y="68"/>
                          </a:lnTo>
                          <a:lnTo>
                            <a:pt x="0" y="6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Freeform 73"/>
                    <p:cNvSpPr/>
                    <p:nvPr/>
                  </p:nvSpPr>
                  <p:spPr>
                    <a:xfrm>
                      <a:off x="7794000" y="4869000"/>
                      <a:ext cx="325080" cy="243720"/>
                    </a:xfrm>
                    <a:custGeom>
                      <a:avLst/>
                      <a:gdLst>
                        <a:gd name="textAreaLeft" fmla="*/ 0 w 325080"/>
                        <a:gd name="textAreaRight" fmla="*/ 325440 w 325080"/>
                        <a:gd name="textAreaTop" fmla="*/ 0 h 243720"/>
                        <a:gd name="textAreaBottom" fmla="*/ 244080 h 243720"/>
                      </a:gdLst>
                      <a:ahLst/>
                      <a:rect l="textAreaLeft" t="textAreaTop" r="textAreaRight" b="textAreaBottom"/>
                      <a:pathLst>
                        <a:path w="576" h="627">
                          <a:moveTo>
                            <a:pt x="156" y="0"/>
                          </a:moveTo>
                          <a:lnTo>
                            <a:pt x="156" y="67"/>
                          </a:lnTo>
                          <a:lnTo>
                            <a:pt x="147" y="67"/>
                          </a:lnTo>
                          <a:lnTo>
                            <a:pt x="130" y="69"/>
                          </a:lnTo>
                          <a:lnTo>
                            <a:pt x="118" y="73"/>
                          </a:lnTo>
                          <a:lnTo>
                            <a:pt x="108" y="77"/>
                          </a:lnTo>
                          <a:lnTo>
                            <a:pt x="94" y="87"/>
                          </a:lnTo>
                          <a:lnTo>
                            <a:pt x="89" y="93"/>
                          </a:lnTo>
                          <a:lnTo>
                            <a:pt x="81" y="100"/>
                          </a:lnTo>
                          <a:lnTo>
                            <a:pt x="74" y="111"/>
                          </a:lnTo>
                          <a:lnTo>
                            <a:pt x="68" y="121"/>
                          </a:lnTo>
                          <a:lnTo>
                            <a:pt x="62" y="133"/>
                          </a:lnTo>
                          <a:lnTo>
                            <a:pt x="59" y="144"/>
                          </a:lnTo>
                          <a:lnTo>
                            <a:pt x="57" y="153"/>
                          </a:lnTo>
                          <a:lnTo>
                            <a:pt x="56" y="168"/>
                          </a:lnTo>
                          <a:lnTo>
                            <a:pt x="54" y="180"/>
                          </a:lnTo>
                          <a:lnTo>
                            <a:pt x="54" y="191"/>
                          </a:lnTo>
                          <a:lnTo>
                            <a:pt x="56" y="205"/>
                          </a:lnTo>
                          <a:lnTo>
                            <a:pt x="59" y="217"/>
                          </a:lnTo>
                          <a:lnTo>
                            <a:pt x="62" y="229"/>
                          </a:lnTo>
                          <a:lnTo>
                            <a:pt x="68" y="239"/>
                          </a:lnTo>
                          <a:lnTo>
                            <a:pt x="74" y="249"/>
                          </a:lnTo>
                          <a:lnTo>
                            <a:pt x="81" y="256"/>
                          </a:lnTo>
                          <a:lnTo>
                            <a:pt x="86" y="263"/>
                          </a:lnTo>
                          <a:lnTo>
                            <a:pt x="94" y="270"/>
                          </a:lnTo>
                          <a:lnTo>
                            <a:pt x="102" y="276"/>
                          </a:lnTo>
                          <a:lnTo>
                            <a:pt x="112" y="282"/>
                          </a:lnTo>
                          <a:lnTo>
                            <a:pt x="123" y="287"/>
                          </a:lnTo>
                          <a:lnTo>
                            <a:pt x="133" y="290"/>
                          </a:lnTo>
                          <a:lnTo>
                            <a:pt x="147" y="291"/>
                          </a:lnTo>
                          <a:lnTo>
                            <a:pt x="157" y="292"/>
                          </a:lnTo>
                          <a:lnTo>
                            <a:pt x="233" y="292"/>
                          </a:lnTo>
                          <a:lnTo>
                            <a:pt x="229" y="300"/>
                          </a:lnTo>
                          <a:lnTo>
                            <a:pt x="227" y="311"/>
                          </a:lnTo>
                          <a:lnTo>
                            <a:pt x="227" y="319"/>
                          </a:lnTo>
                          <a:lnTo>
                            <a:pt x="227" y="328"/>
                          </a:lnTo>
                          <a:lnTo>
                            <a:pt x="227" y="337"/>
                          </a:lnTo>
                          <a:lnTo>
                            <a:pt x="229" y="349"/>
                          </a:lnTo>
                          <a:lnTo>
                            <a:pt x="233" y="359"/>
                          </a:lnTo>
                          <a:lnTo>
                            <a:pt x="238" y="368"/>
                          </a:lnTo>
                          <a:lnTo>
                            <a:pt x="247" y="376"/>
                          </a:lnTo>
                          <a:lnTo>
                            <a:pt x="259" y="383"/>
                          </a:lnTo>
                          <a:lnTo>
                            <a:pt x="476" y="383"/>
                          </a:lnTo>
                          <a:lnTo>
                            <a:pt x="487" y="383"/>
                          </a:lnTo>
                          <a:lnTo>
                            <a:pt x="501" y="385"/>
                          </a:lnTo>
                          <a:lnTo>
                            <a:pt x="510" y="388"/>
                          </a:lnTo>
                          <a:lnTo>
                            <a:pt x="517" y="388"/>
                          </a:lnTo>
                          <a:lnTo>
                            <a:pt x="526" y="392"/>
                          </a:lnTo>
                          <a:lnTo>
                            <a:pt x="534" y="398"/>
                          </a:lnTo>
                          <a:lnTo>
                            <a:pt x="540" y="402"/>
                          </a:lnTo>
                          <a:lnTo>
                            <a:pt x="547" y="409"/>
                          </a:lnTo>
                          <a:lnTo>
                            <a:pt x="552" y="418"/>
                          </a:lnTo>
                          <a:lnTo>
                            <a:pt x="560" y="429"/>
                          </a:lnTo>
                          <a:lnTo>
                            <a:pt x="565" y="438"/>
                          </a:lnTo>
                          <a:lnTo>
                            <a:pt x="570" y="449"/>
                          </a:lnTo>
                          <a:lnTo>
                            <a:pt x="573" y="462"/>
                          </a:lnTo>
                          <a:lnTo>
                            <a:pt x="575" y="474"/>
                          </a:lnTo>
                          <a:lnTo>
                            <a:pt x="576" y="485"/>
                          </a:lnTo>
                          <a:lnTo>
                            <a:pt x="576" y="627"/>
                          </a:lnTo>
                          <a:lnTo>
                            <a:pt x="516" y="627"/>
                          </a:lnTo>
                          <a:lnTo>
                            <a:pt x="516" y="487"/>
                          </a:lnTo>
                          <a:lnTo>
                            <a:pt x="515" y="478"/>
                          </a:lnTo>
                          <a:lnTo>
                            <a:pt x="514" y="467"/>
                          </a:lnTo>
                          <a:lnTo>
                            <a:pt x="510" y="462"/>
                          </a:lnTo>
                          <a:lnTo>
                            <a:pt x="506" y="458"/>
                          </a:lnTo>
                          <a:lnTo>
                            <a:pt x="500" y="454"/>
                          </a:lnTo>
                          <a:lnTo>
                            <a:pt x="494" y="450"/>
                          </a:lnTo>
                          <a:lnTo>
                            <a:pt x="487" y="449"/>
                          </a:lnTo>
                          <a:lnTo>
                            <a:pt x="481" y="448"/>
                          </a:lnTo>
                          <a:lnTo>
                            <a:pt x="477" y="448"/>
                          </a:lnTo>
                          <a:lnTo>
                            <a:pt x="268" y="448"/>
                          </a:lnTo>
                          <a:lnTo>
                            <a:pt x="253" y="448"/>
                          </a:lnTo>
                          <a:lnTo>
                            <a:pt x="231" y="444"/>
                          </a:lnTo>
                          <a:lnTo>
                            <a:pt x="225" y="438"/>
                          </a:lnTo>
                          <a:lnTo>
                            <a:pt x="212" y="432"/>
                          </a:lnTo>
                          <a:lnTo>
                            <a:pt x="201" y="422"/>
                          </a:lnTo>
                          <a:lnTo>
                            <a:pt x="197" y="417"/>
                          </a:lnTo>
                          <a:lnTo>
                            <a:pt x="190" y="409"/>
                          </a:lnTo>
                          <a:lnTo>
                            <a:pt x="186" y="401"/>
                          </a:lnTo>
                          <a:lnTo>
                            <a:pt x="182" y="390"/>
                          </a:lnTo>
                          <a:lnTo>
                            <a:pt x="178" y="379"/>
                          </a:lnTo>
                          <a:lnTo>
                            <a:pt x="176" y="368"/>
                          </a:lnTo>
                          <a:lnTo>
                            <a:pt x="172" y="359"/>
                          </a:lnTo>
                          <a:lnTo>
                            <a:pt x="160" y="359"/>
                          </a:lnTo>
                          <a:lnTo>
                            <a:pt x="149" y="359"/>
                          </a:lnTo>
                          <a:lnTo>
                            <a:pt x="137" y="359"/>
                          </a:lnTo>
                          <a:lnTo>
                            <a:pt x="125" y="359"/>
                          </a:lnTo>
                          <a:lnTo>
                            <a:pt x="113" y="355"/>
                          </a:lnTo>
                          <a:lnTo>
                            <a:pt x="102" y="351"/>
                          </a:lnTo>
                          <a:lnTo>
                            <a:pt x="90" y="345"/>
                          </a:lnTo>
                          <a:lnTo>
                            <a:pt x="81" y="340"/>
                          </a:lnTo>
                          <a:lnTo>
                            <a:pt x="73" y="335"/>
                          </a:lnTo>
                          <a:lnTo>
                            <a:pt x="64" y="328"/>
                          </a:lnTo>
                          <a:lnTo>
                            <a:pt x="54" y="319"/>
                          </a:lnTo>
                          <a:lnTo>
                            <a:pt x="44" y="308"/>
                          </a:lnTo>
                          <a:lnTo>
                            <a:pt x="36" y="299"/>
                          </a:lnTo>
                          <a:lnTo>
                            <a:pt x="30" y="290"/>
                          </a:lnTo>
                          <a:lnTo>
                            <a:pt x="24" y="278"/>
                          </a:lnTo>
                          <a:lnTo>
                            <a:pt x="18" y="267"/>
                          </a:lnTo>
                          <a:lnTo>
                            <a:pt x="16" y="259"/>
                          </a:lnTo>
                          <a:lnTo>
                            <a:pt x="10" y="249"/>
                          </a:lnTo>
                          <a:lnTo>
                            <a:pt x="6" y="234"/>
                          </a:lnTo>
                          <a:lnTo>
                            <a:pt x="4" y="223"/>
                          </a:lnTo>
                          <a:lnTo>
                            <a:pt x="2" y="213"/>
                          </a:lnTo>
                          <a:lnTo>
                            <a:pt x="1" y="201"/>
                          </a:lnTo>
                          <a:lnTo>
                            <a:pt x="0" y="190"/>
                          </a:lnTo>
                          <a:lnTo>
                            <a:pt x="0" y="178"/>
                          </a:lnTo>
                          <a:lnTo>
                            <a:pt x="1" y="164"/>
                          </a:lnTo>
                          <a:lnTo>
                            <a:pt x="2" y="149"/>
                          </a:lnTo>
                          <a:lnTo>
                            <a:pt x="5" y="137"/>
                          </a:lnTo>
                          <a:lnTo>
                            <a:pt x="8" y="124"/>
                          </a:lnTo>
                          <a:lnTo>
                            <a:pt x="10" y="113"/>
                          </a:lnTo>
                          <a:lnTo>
                            <a:pt x="17" y="100"/>
                          </a:lnTo>
                          <a:lnTo>
                            <a:pt x="24" y="85"/>
                          </a:lnTo>
                          <a:lnTo>
                            <a:pt x="30" y="72"/>
                          </a:lnTo>
                          <a:lnTo>
                            <a:pt x="37" y="61"/>
                          </a:lnTo>
                          <a:lnTo>
                            <a:pt x="46" y="51"/>
                          </a:lnTo>
                          <a:lnTo>
                            <a:pt x="59" y="39"/>
                          </a:lnTo>
                          <a:lnTo>
                            <a:pt x="68" y="32"/>
                          </a:lnTo>
                          <a:lnTo>
                            <a:pt x="77" y="24"/>
                          </a:lnTo>
                          <a:lnTo>
                            <a:pt x="88" y="19"/>
                          </a:lnTo>
                          <a:lnTo>
                            <a:pt x="97" y="14"/>
                          </a:lnTo>
                          <a:lnTo>
                            <a:pt x="112" y="7"/>
                          </a:lnTo>
                          <a:lnTo>
                            <a:pt x="124" y="4"/>
                          </a:lnTo>
                          <a:lnTo>
                            <a:pt x="139" y="2"/>
                          </a:lnTo>
                          <a:lnTo>
                            <a:pt x="156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06" name="Group 74"/>
                <p:cNvGrpSpPr/>
                <p:nvPr/>
              </p:nvGrpSpPr>
              <p:grpSpPr>
                <a:xfrm>
                  <a:off x="7327080" y="4673160"/>
                  <a:ext cx="1038240" cy="833400"/>
                  <a:chOff x="7327080" y="4673160"/>
                  <a:chExt cx="1038240" cy="833400"/>
                </a:xfrm>
              </p:grpSpPr>
              <p:sp>
                <p:nvSpPr>
                  <p:cNvPr id="207" name="Line 75"/>
                  <p:cNvSpPr/>
                  <p:nvPr/>
                </p:nvSpPr>
                <p:spPr>
                  <a:xfrm>
                    <a:off x="7501680" y="4797720"/>
                    <a:ext cx="708120" cy="567360"/>
                  </a:xfrm>
                  <a:prstGeom prst="line">
                    <a:avLst/>
                  </a:prstGeom>
                  <a:ln w="712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8f8f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Oval 76"/>
                  <p:cNvSpPr/>
                  <p:nvPr/>
                </p:nvSpPr>
                <p:spPr>
                  <a:xfrm>
                    <a:off x="7327080" y="4673160"/>
                    <a:ext cx="1038240" cy="833400"/>
                  </a:xfrm>
                  <a:prstGeom prst="ellipse">
                    <a:avLst/>
                  </a:prstGeom>
                  <a:noFill/>
                  <a:ln w="712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8f8f8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9" name="Group 88"/>
            <p:cNvGrpSpPr/>
            <p:nvPr/>
          </p:nvGrpSpPr>
          <p:grpSpPr>
            <a:xfrm>
              <a:off x="7715520" y="3141720"/>
              <a:ext cx="964800" cy="1126080"/>
              <a:chOff x="7715520" y="3141720"/>
              <a:chExt cx="964800" cy="1126080"/>
            </a:xfrm>
          </p:grpSpPr>
          <p:grpSp>
            <p:nvGrpSpPr>
              <p:cNvPr id="210" name="Group 77"/>
              <p:cNvGrpSpPr/>
              <p:nvPr/>
            </p:nvGrpSpPr>
            <p:grpSpPr>
              <a:xfrm>
                <a:off x="7812000" y="3141720"/>
                <a:ext cx="868320" cy="1111320"/>
                <a:chOff x="7812000" y="3141720"/>
                <a:chExt cx="868320" cy="1111320"/>
              </a:xfrm>
            </p:grpSpPr>
            <p:sp>
              <p:nvSpPr>
                <p:cNvPr id="211" name="AutoShape 78"/>
                <p:cNvSpPr/>
                <p:nvPr/>
              </p:nvSpPr>
              <p:spPr>
                <a:xfrm>
                  <a:off x="7812000" y="3141720"/>
                  <a:ext cx="868320" cy="111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79"/>
                <p:cNvSpPr/>
                <p:nvPr/>
              </p:nvSpPr>
              <p:spPr>
                <a:xfrm>
                  <a:off x="7812000" y="3341880"/>
                  <a:ext cx="844920" cy="898200"/>
                </a:xfrm>
                <a:custGeom>
                  <a:avLst/>
                  <a:gdLst>
                    <a:gd name="textAreaLeft" fmla="*/ 0 w 844920"/>
                    <a:gd name="textAreaRight" fmla="*/ 845280 w 844920"/>
                    <a:gd name="textAreaTop" fmla="*/ 0 h 898200"/>
                    <a:gd name="textAreaBottom" fmla="*/ 898560 h 898200"/>
                  </a:gdLst>
                  <a:ahLst/>
                  <a:rect l="textAreaLeft" t="textAreaTop" r="textAreaRight" b="textAreaBottom"/>
                  <a:pathLst>
                    <a:path w="1500" h="1541">
                      <a:moveTo>
                        <a:pt x="1345" y="211"/>
                      </a:moveTo>
                      <a:lnTo>
                        <a:pt x="1337" y="211"/>
                      </a:lnTo>
                      <a:lnTo>
                        <a:pt x="1330" y="211"/>
                      </a:lnTo>
                      <a:lnTo>
                        <a:pt x="1322" y="211"/>
                      </a:lnTo>
                      <a:lnTo>
                        <a:pt x="1314" y="211"/>
                      </a:lnTo>
                      <a:lnTo>
                        <a:pt x="1308" y="211"/>
                      </a:lnTo>
                      <a:lnTo>
                        <a:pt x="1301" y="210"/>
                      </a:lnTo>
                      <a:lnTo>
                        <a:pt x="1293" y="210"/>
                      </a:lnTo>
                      <a:lnTo>
                        <a:pt x="1287" y="208"/>
                      </a:lnTo>
                      <a:lnTo>
                        <a:pt x="1283" y="217"/>
                      </a:lnTo>
                      <a:lnTo>
                        <a:pt x="1280" y="226"/>
                      </a:lnTo>
                      <a:lnTo>
                        <a:pt x="1274" y="231"/>
                      </a:lnTo>
                      <a:lnTo>
                        <a:pt x="1266" y="236"/>
                      </a:lnTo>
                      <a:lnTo>
                        <a:pt x="1256" y="241"/>
                      </a:lnTo>
                      <a:lnTo>
                        <a:pt x="1245" y="243"/>
                      </a:lnTo>
                      <a:lnTo>
                        <a:pt x="1235" y="245"/>
                      </a:lnTo>
                      <a:lnTo>
                        <a:pt x="1222" y="247"/>
                      </a:lnTo>
                      <a:lnTo>
                        <a:pt x="1200" y="247"/>
                      </a:lnTo>
                      <a:lnTo>
                        <a:pt x="1179" y="243"/>
                      </a:lnTo>
                      <a:lnTo>
                        <a:pt x="1162" y="236"/>
                      </a:lnTo>
                      <a:lnTo>
                        <a:pt x="1146" y="226"/>
                      </a:lnTo>
                      <a:lnTo>
                        <a:pt x="1133" y="215"/>
                      </a:lnTo>
                      <a:lnTo>
                        <a:pt x="1125" y="203"/>
                      </a:lnTo>
                      <a:lnTo>
                        <a:pt x="1119" y="188"/>
                      </a:lnTo>
                      <a:lnTo>
                        <a:pt x="1117" y="174"/>
                      </a:lnTo>
                      <a:lnTo>
                        <a:pt x="1121" y="148"/>
                      </a:lnTo>
                      <a:lnTo>
                        <a:pt x="1127" y="130"/>
                      </a:lnTo>
                      <a:lnTo>
                        <a:pt x="1125" y="116"/>
                      </a:lnTo>
                      <a:lnTo>
                        <a:pt x="1110" y="107"/>
                      </a:lnTo>
                      <a:lnTo>
                        <a:pt x="1087" y="102"/>
                      </a:lnTo>
                      <a:lnTo>
                        <a:pt x="1054" y="93"/>
                      </a:lnTo>
                      <a:lnTo>
                        <a:pt x="1017" y="86"/>
                      </a:lnTo>
                      <a:lnTo>
                        <a:pt x="973" y="76"/>
                      </a:lnTo>
                      <a:lnTo>
                        <a:pt x="924" y="67"/>
                      </a:lnTo>
                      <a:lnTo>
                        <a:pt x="872" y="56"/>
                      </a:lnTo>
                      <a:lnTo>
                        <a:pt x="816" y="46"/>
                      </a:lnTo>
                      <a:lnTo>
                        <a:pt x="758" y="37"/>
                      </a:lnTo>
                      <a:lnTo>
                        <a:pt x="701" y="28"/>
                      </a:lnTo>
                      <a:lnTo>
                        <a:pt x="641" y="19"/>
                      </a:lnTo>
                      <a:lnTo>
                        <a:pt x="583" y="12"/>
                      </a:lnTo>
                      <a:lnTo>
                        <a:pt x="525" y="7"/>
                      </a:lnTo>
                      <a:lnTo>
                        <a:pt x="469" y="3"/>
                      </a:lnTo>
                      <a:lnTo>
                        <a:pt x="417" y="0"/>
                      </a:lnTo>
                      <a:lnTo>
                        <a:pt x="369" y="2"/>
                      </a:lnTo>
                      <a:lnTo>
                        <a:pt x="326" y="3"/>
                      </a:lnTo>
                      <a:lnTo>
                        <a:pt x="318" y="46"/>
                      </a:lnTo>
                      <a:lnTo>
                        <a:pt x="307" y="102"/>
                      </a:lnTo>
                      <a:lnTo>
                        <a:pt x="293" y="159"/>
                      </a:lnTo>
                      <a:lnTo>
                        <a:pt x="280" y="206"/>
                      </a:lnTo>
                      <a:lnTo>
                        <a:pt x="253" y="222"/>
                      </a:lnTo>
                      <a:lnTo>
                        <a:pt x="235" y="238"/>
                      </a:lnTo>
                      <a:lnTo>
                        <a:pt x="226" y="252"/>
                      </a:lnTo>
                      <a:lnTo>
                        <a:pt x="224" y="263"/>
                      </a:lnTo>
                      <a:lnTo>
                        <a:pt x="226" y="271"/>
                      </a:lnTo>
                      <a:lnTo>
                        <a:pt x="232" y="278"/>
                      </a:lnTo>
                      <a:lnTo>
                        <a:pt x="245" y="285"/>
                      </a:lnTo>
                      <a:lnTo>
                        <a:pt x="266" y="287"/>
                      </a:lnTo>
                      <a:lnTo>
                        <a:pt x="245" y="301"/>
                      </a:lnTo>
                      <a:lnTo>
                        <a:pt x="232" y="321"/>
                      </a:lnTo>
                      <a:lnTo>
                        <a:pt x="228" y="345"/>
                      </a:lnTo>
                      <a:lnTo>
                        <a:pt x="237" y="372"/>
                      </a:lnTo>
                      <a:lnTo>
                        <a:pt x="245" y="393"/>
                      </a:lnTo>
                      <a:lnTo>
                        <a:pt x="247" y="414"/>
                      </a:lnTo>
                      <a:lnTo>
                        <a:pt x="243" y="432"/>
                      </a:lnTo>
                      <a:lnTo>
                        <a:pt x="235" y="448"/>
                      </a:lnTo>
                      <a:lnTo>
                        <a:pt x="222" y="462"/>
                      </a:lnTo>
                      <a:lnTo>
                        <a:pt x="208" y="474"/>
                      </a:lnTo>
                      <a:lnTo>
                        <a:pt x="191" y="481"/>
                      </a:lnTo>
                      <a:lnTo>
                        <a:pt x="172" y="486"/>
                      </a:lnTo>
                      <a:lnTo>
                        <a:pt x="0" y="1386"/>
                      </a:lnTo>
                      <a:lnTo>
                        <a:pt x="33" y="1407"/>
                      </a:lnTo>
                      <a:lnTo>
                        <a:pt x="71" y="1428"/>
                      </a:lnTo>
                      <a:lnTo>
                        <a:pt x="116" y="1446"/>
                      </a:lnTo>
                      <a:lnTo>
                        <a:pt x="162" y="1463"/>
                      </a:lnTo>
                      <a:lnTo>
                        <a:pt x="210" y="1477"/>
                      </a:lnTo>
                      <a:lnTo>
                        <a:pt x="262" y="1491"/>
                      </a:lnTo>
                      <a:lnTo>
                        <a:pt x="317" y="1504"/>
                      </a:lnTo>
                      <a:lnTo>
                        <a:pt x="372" y="1514"/>
                      </a:lnTo>
                      <a:lnTo>
                        <a:pt x="427" y="1523"/>
                      </a:lnTo>
                      <a:lnTo>
                        <a:pt x="482" y="1530"/>
                      </a:lnTo>
                      <a:lnTo>
                        <a:pt x="538" y="1536"/>
                      </a:lnTo>
                      <a:lnTo>
                        <a:pt x="592" y="1539"/>
                      </a:lnTo>
                      <a:lnTo>
                        <a:pt x="645" y="1541"/>
                      </a:lnTo>
                      <a:lnTo>
                        <a:pt x="695" y="1541"/>
                      </a:lnTo>
                      <a:lnTo>
                        <a:pt x="741" y="1539"/>
                      </a:lnTo>
                      <a:lnTo>
                        <a:pt x="785" y="1536"/>
                      </a:lnTo>
                      <a:lnTo>
                        <a:pt x="884" y="1320"/>
                      </a:lnTo>
                      <a:lnTo>
                        <a:pt x="930" y="1218"/>
                      </a:lnTo>
                      <a:lnTo>
                        <a:pt x="942" y="1192"/>
                      </a:lnTo>
                      <a:lnTo>
                        <a:pt x="973" y="1125"/>
                      </a:lnTo>
                      <a:lnTo>
                        <a:pt x="1017" y="1028"/>
                      </a:lnTo>
                      <a:lnTo>
                        <a:pt x="1067" y="913"/>
                      </a:lnTo>
                      <a:lnTo>
                        <a:pt x="1119" y="799"/>
                      </a:lnTo>
                      <a:lnTo>
                        <a:pt x="1168" y="693"/>
                      </a:lnTo>
                      <a:lnTo>
                        <a:pt x="1204" y="612"/>
                      </a:lnTo>
                      <a:lnTo>
                        <a:pt x="1224" y="568"/>
                      </a:lnTo>
                      <a:lnTo>
                        <a:pt x="1235" y="548"/>
                      </a:lnTo>
                      <a:lnTo>
                        <a:pt x="1247" y="534"/>
                      </a:lnTo>
                      <a:lnTo>
                        <a:pt x="1260" y="523"/>
                      </a:lnTo>
                      <a:lnTo>
                        <a:pt x="1274" y="516"/>
                      </a:lnTo>
                      <a:lnTo>
                        <a:pt x="1287" y="513"/>
                      </a:lnTo>
                      <a:lnTo>
                        <a:pt x="1301" y="511"/>
                      </a:lnTo>
                      <a:lnTo>
                        <a:pt x="1312" y="513"/>
                      </a:lnTo>
                      <a:lnTo>
                        <a:pt x="1322" y="516"/>
                      </a:lnTo>
                      <a:lnTo>
                        <a:pt x="1339" y="527"/>
                      </a:lnTo>
                      <a:lnTo>
                        <a:pt x="1357" y="545"/>
                      </a:lnTo>
                      <a:lnTo>
                        <a:pt x="1363" y="571"/>
                      </a:lnTo>
                      <a:lnTo>
                        <a:pt x="1355" y="606"/>
                      </a:lnTo>
                      <a:lnTo>
                        <a:pt x="1339" y="643"/>
                      </a:lnTo>
                      <a:lnTo>
                        <a:pt x="1314" y="705"/>
                      </a:lnTo>
                      <a:lnTo>
                        <a:pt x="1281" y="784"/>
                      </a:lnTo>
                      <a:lnTo>
                        <a:pt x="1247" y="873"/>
                      </a:lnTo>
                      <a:lnTo>
                        <a:pt x="1210" y="961"/>
                      </a:lnTo>
                      <a:lnTo>
                        <a:pt x="1175" y="1042"/>
                      </a:lnTo>
                      <a:lnTo>
                        <a:pt x="1148" y="1109"/>
                      </a:lnTo>
                      <a:lnTo>
                        <a:pt x="1129" y="1151"/>
                      </a:lnTo>
                      <a:lnTo>
                        <a:pt x="1121" y="1167"/>
                      </a:lnTo>
                      <a:lnTo>
                        <a:pt x="1112" y="1185"/>
                      </a:lnTo>
                      <a:lnTo>
                        <a:pt x="1102" y="1202"/>
                      </a:lnTo>
                      <a:lnTo>
                        <a:pt x="1090" y="1220"/>
                      </a:lnTo>
                      <a:lnTo>
                        <a:pt x="1079" y="1238"/>
                      </a:lnTo>
                      <a:lnTo>
                        <a:pt x="1067" y="1252"/>
                      </a:lnTo>
                      <a:lnTo>
                        <a:pt x="1054" y="1264"/>
                      </a:lnTo>
                      <a:lnTo>
                        <a:pt x="1040" y="1271"/>
                      </a:lnTo>
                      <a:lnTo>
                        <a:pt x="1029" y="1273"/>
                      </a:lnTo>
                      <a:lnTo>
                        <a:pt x="1015" y="1273"/>
                      </a:lnTo>
                      <a:lnTo>
                        <a:pt x="1002" y="1271"/>
                      </a:lnTo>
                      <a:lnTo>
                        <a:pt x="986" y="1268"/>
                      </a:lnTo>
                      <a:lnTo>
                        <a:pt x="973" y="1260"/>
                      </a:lnTo>
                      <a:lnTo>
                        <a:pt x="957" y="1250"/>
                      </a:lnTo>
                      <a:lnTo>
                        <a:pt x="944" y="1236"/>
                      </a:lnTo>
                      <a:lnTo>
                        <a:pt x="930" y="1218"/>
                      </a:lnTo>
                      <a:lnTo>
                        <a:pt x="884" y="1320"/>
                      </a:lnTo>
                      <a:lnTo>
                        <a:pt x="899" y="1340"/>
                      </a:lnTo>
                      <a:lnTo>
                        <a:pt x="919" y="1357"/>
                      </a:lnTo>
                      <a:lnTo>
                        <a:pt x="938" y="1370"/>
                      </a:lnTo>
                      <a:lnTo>
                        <a:pt x="959" y="1380"/>
                      </a:lnTo>
                      <a:lnTo>
                        <a:pt x="980" y="1387"/>
                      </a:lnTo>
                      <a:lnTo>
                        <a:pt x="1000" y="1391"/>
                      </a:lnTo>
                      <a:lnTo>
                        <a:pt x="1019" y="1393"/>
                      </a:lnTo>
                      <a:lnTo>
                        <a:pt x="1034" y="1393"/>
                      </a:lnTo>
                      <a:lnTo>
                        <a:pt x="1071" y="1387"/>
                      </a:lnTo>
                      <a:lnTo>
                        <a:pt x="1104" y="1373"/>
                      </a:lnTo>
                      <a:lnTo>
                        <a:pt x="1135" y="1350"/>
                      </a:lnTo>
                      <a:lnTo>
                        <a:pt x="1162" y="1324"/>
                      </a:lnTo>
                      <a:lnTo>
                        <a:pt x="1187" y="1292"/>
                      </a:lnTo>
                      <a:lnTo>
                        <a:pt x="1208" y="1259"/>
                      </a:lnTo>
                      <a:lnTo>
                        <a:pt x="1227" y="1225"/>
                      </a:lnTo>
                      <a:lnTo>
                        <a:pt x="1243" y="1192"/>
                      </a:lnTo>
                      <a:lnTo>
                        <a:pt x="1264" y="1141"/>
                      </a:lnTo>
                      <a:lnTo>
                        <a:pt x="1297" y="1065"/>
                      </a:lnTo>
                      <a:lnTo>
                        <a:pt x="1334" y="977"/>
                      </a:lnTo>
                      <a:lnTo>
                        <a:pt x="1374" y="880"/>
                      </a:lnTo>
                      <a:lnTo>
                        <a:pt x="1413" y="786"/>
                      </a:lnTo>
                      <a:lnTo>
                        <a:pt x="1447" y="703"/>
                      </a:lnTo>
                      <a:lnTo>
                        <a:pt x="1474" y="638"/>
                      </a:lnTo>
                      <a:lnTo>
                        <a:pt x="1490" y="601"/>
                      </a:lnTo>
                      <a:lnTo>
                        <a:pt x="1500" y="550"/>
                      </a:lnTo>
                      <a:lnTo>
                        <a:pt x="1494" y="504"/>
                      </a:lnTo>
                      <a:lnTo>
                        <a:pt x="1474" y="462"/>
                      </a:lnTo>
                      <a:lnTo>
                        <a:pt x="1446" y="427"/>
                      </a:lnTo>
                      <a:lnTo>
                        <a:pt x="1407" y="400"/>
                      </a:lnTo>
                      <a:lnTo>
                        <a:pt x="1363" y="382"/>
                      </a:lnTo>
                      <a:lnTo>
                        <a:pt x="1316" y="377"/>
                      </a:lnTo>
                      <a:lnTo>
                        <a:pt x="1270" y="384"/>
                      </a:lnTo>
                      <a:lnTo>
                        <a:pt x="1283" y="360"/>
                      </a:lnTo>
                      <a:lnTo>
                        <a:pt x="1297" y="331"/>
                      </a:lnTo>
                      <a:lnTo>
                        <a:pt x="1308" y="307"/>
                      </a:lnTo>
                      <a:lnTo>
                        <a:pt x="1318" y="285"/>
                      </a:lnTo>
                      <a:lnTo>
                        <a:pt x="1345" y="2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80"/>
                <p:cNvSpPr/>
                <p:nvPr/>
              </p:nvSpPr>
              <p:spPr>
                <a:xfrm>
                  <a:off x="7967520" y="3532320"/>
                  <a:ext cx="196920" cy="604080"/>
                </a:xfrm>
                <a:custGeom>
                  <a:avLst/>
                  <a:gdLst>
                    <a:gd name="textAreaLeft" fmla="*/ 0 w 196920"/>
                    <a:gd name="textAreaRight" fmla="*/ 197280 w 196920"/>
                    <a:gd name="textAreaTop" fmla="*/ 0 h 604080"/>
                    <a:gd name="textAreaBottom" fmla="*/ 604440 h 604080"/>
                  </a:gdLst>
                  <a:ahLst/>
                  <a:rect l="textAreaLeft" t="textAreaTop" r="textAreaRight" b="textAreaBottom"/>
                  <a:pathLst>
                    <a:path w="349" h="1037">
                      <a:moveTo>
                        <a:pt x="73" y="1037"/>
                      </a:moveTo>
                      <a:lnTo>
                        <a:pt x="66" y="1037"/>
                      </a:lnTo>
                      <a:lnTo>
                        <a:pt x="58" y="1037"/>
                      </a:lnTo>
                      <a:lnTo>
                        <a:pt x="48" y="1037"/>
                      </a:lnTo>
                      <a:lnTo>
                        <a:pt x="37" y="1035"/>
                      </a:lnTo>
                      <a:lnTo>
                        <a:pt x="25" y="1031"/>
                      </a:lnTo>
                      <a:lnTo>
                        <a:pt x="15" y="1028"/>
                      </a:lnTo>
                      <a:lnTo>
                        <a:pt x="8" y="1023"/>
                      </a:lnTo>
                      <a:lnTo>
                        <a:pt x="0" y="1017"/>
                      </a:lnTo>
                      <a:lnTo>
                        <a:pt x="10" y="980"/>
                      </a:lnTo>
                      <a:lnTo>
                        <a:pt x="35" y="882"/>
                      </a:lnTo>
                      <a:lnTo>
                        <a:pt x="71" y="742"/>
                      </a:lnTo>
                      <a:lnTo>
                        <a:pt x="112" y="582"/>
                      </a:lnTo>
                      <a:lnTo>
                        <a:pt x="154" y="418"/>
                      </a:lnTo>
                      <a:lnTo>
                        <a:pt x="193" y="273"/>
                      </a:lnTo>
                      <a:lnTo>
                        <a:pt x="220" y="166"/>
                      </a:lnTo>
                      <a:lnTo>
                        <a:pt x="233" y="116"/>
                      </a:lnTo>
                      <a:lnTo>
                        <a:pt x="237" y="101"/>
                      </a:lnTo>
                      <a:lnTo>
                        <a:pt x="239" y="86"/>
                      </a:lnTo>
                      <a:lnTo>
                        <a:pt x="237" y="71"/>
                      </a:lnTo>
                      <a:lnTo>
                        <a:pt x="233" y="58"/>
                      </a:lnTo>
                      <a:lnTo>
                        <a:pt x="226" y="48"/>
                      </a:lnTo>
                      <a:lnTo>
                        <a:pt x="212" y="39"/>
                      </a:lnTo>
                      <a:lnTo>
                        <a:pt x="197" y="37"/>
                      </a:lnTo>
                      <a:lnTo>
                        <a:pt x="174" y="39"/>
                      </a:lnTo>
                      <a:lnTo>
                        <a:pt x="181" y="25"/>
                      </a:lnTo>
                      <a:lnTo>
                        <a:pt x="191" y="14"/>
                      </a:lnTo>
                      <a:lnTo>
                        <a:pt x="205" y="7"/>
                      </a:lnTo>
                      <a:lnTo>
                        <a:pt x="222" y="4"/>
                      </a:lnTo>
                      <a:lnTo>
                        <a:pt x="239" y="0"/>
                      </a:lnTo>
                      <a:lnTo>
                        <a:pt x="257" y="0"/>
                      </a:lnTo>
                      <a:lnTo>
                        <a:pt x="276" y="2"/>
                      </a:lnTo>
                      <a:lnTo>
                        <a:pt x="293" y="5"/>
                      </a:lnTo>
                      <a:lnTo>
                        <a:pt x="309" y="11"/>
                      </a:lnTo>
                      <a:lnTo>
                        <a:pt x="324" y="18"/>
                      </a:lnTo>
                      <a:lnTo>
                        <a:pt x="336" y="26"/>
                      </a:lnTo>
                      <a:lnTo>
                        <a:pt x="344" y="37"/>
                      </a:lnTo>
                      <a:lnTo>
                        <a:pt x="347" y="53"/>
                      </a:lnTo>
                      <a:lnTo>
                        <a:pt x="349" y="72"/>
                      </a:lnTo>
                      <a:lnTo>
                        <a:pt x="345" y="95"/>
                      </a:lnTo>
                      <a:lnTo>
                        <a:pt x="338" y="123"/>
                      </a:lnTo>
                      <a:lnTo>
                        <a:pt x="322" y="178"/>
                      </a:lnTo>
                      <a:lnTo>
                        <a:pt x="289" y="289"/>
                      </a:lnTo>
                      <a:lnTo>
                        <a:pt x="247" y="437"/>
                      </a:lnTo>
                      <a:lnTo>
                        <a:pt x="199" y="601"/>
                      </a:lnTo>
                      <a:lnTo>
                        <a:pt x="152" y="763"/>
                      </a:lnTo>
                      <a:lnTo>
                        <a:pt x="112" y="903"/>
                      </a:lnTo>
                      <a:lnTo>
                        <a:pt x="85" y="1000"/>
                      </a:lnTo>
                      <a:lnTo>
                        <a:pt x="73" y="1037"/>
                      </a:lnTo>
                      <a:close/>
                    </a:path>
                  </a:pathLst>
                </a:custGeom>
                <a:solidFill>
                  <a:srgbClr val="f2cc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81"/>
                <p:cNvSpPr/>
                <p:nvPr/>
              </p:nvSpPr>
              <p:spPr>
                <a:xfrm>
                  <a:off x="8114760" y="3546360"/>
                  <a:ext cx="192240" cy="629640"/>
                </a:xfrm>
                <a:custGeom>
                  <a:avLst/>
                  <a:gdLst>
                    <a:gd name="textAreaLeft" fmla="*/ 0 w 192240"/>
                    <a:gd name="textAreaRight" fmla="*/ 192600 w 192240"/>
                    <a:gd name="textAreaTop" fmla="*/ 0 h 629640"/>
                    <a:gd name="textAreaBottom" fmla="*/ 630000 h 629640"/>
                  </a:gdLst>
                  <a:ahLst/>
                  <a:rect l="textAreaLeft" t="textAreaTop" r="textAreaRight" b="textAreaBottom"/>
                  <a:pathLst>
                    <a:path w="342" h="1079">
                      <a:moveTo>
                        <a:pt x="62" y="1075"/>
                      </a:moveTo>
                      <a:lnTo>
                        <a:pt x="54" y="1077"/>
                      </a:lnTo>
                      <a:lnTo>
                        <a:pt x="47" y="1079"/>
                      </a:lnTo>
                      <a:lnTo>
                        <a:pt x="37" y="1077"/>
                      </a:lnTo>
                      <a:lnTo>
                        <a:pt x="29" y="1077"/>
                      </a:lnTo>
                      <a:lnTo>
                        <a:pt x="20" y="1073"/>
                      </a:lnTo>
                      <a:lnTo>
                        <a:pt x="12" y="1072"/>
                      </a:lnTo>
                      <a:lnTo>
                        <a:pt x="6" y="1066"/>
                      </a:lnTo>
                      <a:lnTo>
                        <a:pt x="0" y="1063"/>
                      </a:lnTo>
                      <a:lnTo>
                        <a:pt x="12" y="1026"/>
                      </a:lnTo>
                      <a:lnTo>
                        <a:pt x="41" y="927"/>
                      </a:lnTo>
                      <a:lnTo>
                        <a:pt x="83" y="788"/>
                      </a:lnTo>
                      <a:lnTo>
                        <a:pt x="134" y="626"/>
                      </a:lnTo>
                      <a:lnTo>
                        <a:pt x="184" y="462"/>
                      </a:lnTo>
                      <a:lnTo>
                        <a:pt x="228" y="312"/>
                      </a:lnTo>
                      <a:lnTo>
                        <a:pt x="263" y="199"/>
                      </a:lnTo>
                      <a:lnTo>
                        <a:pt x="280" y="143"/>
                      </a:lnTo>
                      <a:lnTo>
                        <a:pt x="286" y="116"/>
                      </a:lnTo>
                      <a:lnTo>
                        <a:pt x="288" y="93"/>
                      </a:lnTo>
                      <a:lnTo>
                        <a:pt x="286" y="74"/>
                      </a:lnTo>
                      <a:lnTo>
                        <a:pt x="278" y="56"/>
                      </a:lnTo>
                      <a:lnTo>
                        <a:pt x="267" y="42"/>
                      </a:lnTo>
                      <a:lnTo>
                        <a:pt x="247" y="33"/>
                      </a:lnTo>
                      <a:lnTo>
                        <a:pt x="224" y="28"/>
                      </a:lnTo>
                      <a:lnTo>
                        <a:pt x="193" y="28"/>
                      </a:lnTo>
                      <a:lnTo>
                        <a:pt x="207" y="16"/>
                      </a:lnTo>
                      <a:lnTo>
                        <a:pt x="222" y="7"/>
                      </a:lnTo>
                      <a:lnTo>
                        <a:pt x="242" y="1"/>
                      </a:lnTo>
                      <a:lnTo>
                        <a:pt x="259" y="0"/>
                      </a:lnTo>
                      <a:lnTo>
                        <a:pt x="276" y="0"/>
                      </a:lnTo>
                      <a:lnTo>
                        <a:pt x="294" y="1"/>
                      </a:lnTo>
                      <a:lnTo>
                        <a:pt x="305" y="5"/>
                      </a:lnTo>
                      <a:lnTo>
                        <a:pt x="315" y="9"/>
                      </a:lnTo>
                      <a:lnTo>
                        <a:pt x="334" y="26"/>
                      </a:lnTo>
                      <a:lnTo>
                        <a:pt x="342" y="54"/>
                      </a:lnTo>
                      <a:lnTo>
                        <a:pt x="340" y="93"/>
                      </a:lnTo>
                      <a:lnTo>
                        <a:pt x="327" y="143"/>
                      </a:lnTo>
                      <a:lnTo>
                        <a:pt x="309" y="204"/>
                      </a:lnTo>
                      <a:lnTo>
                        <a:pt x="276" y="319"/>
                      </a:lnTo>
                      <a:lnTo>
                        <a:pt x="234" y="470"/>
                      </a:lnTo>
                      <a:lnTo>
                        <a:pt x="186" y="636"/>
                      </a:lnTo>
                      <a:lnTo>
                        <a:pt x="139" y="800"/>
                      </a:lnTo>
                      <a:lnTo>
                        <a:pt x="101" y="939"/>
                      </a:lnTo>
                      <a:lnTo>
                        <a:pt x="72" y="1038"/>
                      </a:lnTo>
                      <a:lnTo>
                        <a:pt x="62" y="1075"/>
                      </a:lnTo>
                      <a:close/>
                    </a:path>
                  </a:pathLst>
                </a:custGeom>
                <a:solidFill>
                  <a:srgbClr val="f2cc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82"/>
                <p:cNvSpPr/>
                <p:nvPr/>
              </p:nvSpPr>
              <p:spPr>
                <a:xfrm>
                  <a:off x="8211960" y="3601080"/>
                  <a:ext cx="223920" cy="588960"/>
                </a:xfrm>
                <a:custGeom>
                  <a:avLst/>
                  <a:gdLst>
                    <a:gd name="textAreaLeft" fmla="*/ 0 w 223920"/>
                    <a:gd name="textAreaRight" fmla="*/ 224280 w 223920"/>
                    <a:gd name="textAreaTop" fmla="*/ 0 h 588960"/>
                    <a:gd name="textAreaBottom" fmla="*/ 589320 h 588960"/>
                  </a:gdLst>
                  <a:ahLst/>
                  <a:rect l="textAreaLeft" t="textAreaTop" r="textAreaRight" b="textAreaBottom"/>
                  <a:pathLst>
                    <a:path w="398" h="1010">
                      <a:moveTo>
                        <a:pt x="344" y="12"/>
                      </a:moveTo>
                      <a:lnTo>
                        <a:pt x="357" y="4"/>
                      </a:lnTo>
                      <a:lnTo>
                        <a:pt x="375" y="0"/>
                      </a:lnTo>
                      <a:lnTo>
                        <a:pt x="390" y="7"/>
                      </a:lnTo>
                      <a:lnTo>
                        <a:pt x="398" y="21"/>
                      </a:lnTo>
                      <a:lnTo>
                        <a:pt x="39" y="1007"/>
                      </a:lnTo>
                      <a:lnTo>
                        <a:pt x="31" y="1010"/>
                      </a:lnTo>
                      <a:lnTo>
                        <a:pt x="20" y="1010"/>
                      </a:lnTo>
                      <a:lnTo>
                        <a:pt x="8" y="1007"/>
                      </a:lnTo>
                      <a:lnTo>
                        <a:pt x="0" y="1000"/>
                      </a:lnTo>
                      <a:lnTo>
                        <a:pt x="344" y="12"/>
                      </a:lnTo>
                      <a:close/>
                    </a:path>
                  </a:pathLst>
                </a:custGeom>
                <a:solidFill>
                  <a:srgbClr val="f2cc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83"/>
                <p:cNvSpPr/>
                <p:nvPr/>
              </p:nvSpPr>
              <p:spPr>
                <a:xfrm>
                  <a:off x="7841160" y="3510000"/>
                  <a:ext cx="167760" cy="606600"/>
                </a:xfrm>
                <a:custGeom>
                  <a:avLst/>
                  <a:gdLst>
                    <a:gd name="textAreaLeft" fmla="*/ 0 w 167760"/>
                    <a:gd name="textAreaRight" fmla="*/ 168120 w 167760"/>
                    <a:gd name="textAreaTop" fmla="*/ 0 h 606600"/>
                    <a:gd name="textAreaBottom" fmla="*/ 606960 h 606600"/>
                  </a:gdLst>
                  <a:ahLst/>
                  <a:rect l="textAreaLeft" t="textAreaTop" r="textAreaRight" b="textAreaBottom"/>
                  <a:pathLst>
                    <a:path w="297" h="1040">
                      <a:moveTo>
                        <a:pt x="120" y="199"/>
                      </a:moveTo>
                      <a:lnTo>
                        <a:pt x="139" y="194"/>
                      </a:lnTo>
                      <a:lnTo>
                        <a:pt x="156" y="187"/>
                      </a:lnTo>
                      <a:lnTo>
                        <a:pt x="170" y="175"/>
                      </a:lnTo>
                      <a:lnTo>
                        <a:pt x="183" y="161"/>
                      </a:lnTo>
                      <a:lnTo>
                        <a:pt x="191" y="145"/>
                      </a:lnTo>
                      <a:lnTo>
                        <a:pt x="195" y="127"/>
                      </a:lnTo>
                      <a:lnTo>
                        <a:pt x="193" y="106"/>
                      </a:lnTo>
                      <a:lnTo>
                        <a:pt x="185" y="85"/>
                      </a:lnTo>
                      <a:lnTo>
                        <a:pt x="176" y="58"/>
                      </a:lnTo>
                      <a:lnTo>
                        <a:pt x="180" y="34"/>
                      </a:lnTo>
                      <a:lnTo>
                        <a:pt x="193" y="14"/>
                      </a:lnTo>
                      <a:lnTo>
                        <a:pt x="214" y="0"/>
                      </a:lnTo>
                      <a:lnTo>
                        <a:pt x="228" y="0"/>
                      </a:lnTo>
                      <a:lnTo>
                        <a:pt x="239" y="2"/>
                      </a:lnTo>
                      <a:lnTo>
                        <a:pt x="251" y="6"/>
                      </a:lnTo>
                      <a:lnTo>
                        <a:pt x="263" y="7"/>
                      </a:lnTo>
                      <a:lnTo>
                        <a:pt x="272" y="13"/>
                      </a:lnTo>
                      <a:lnTo>
                        <a:pt x="282" y="16"/>
                      </a:lnTo>
                      <a:lnTo>
                        <a:pt x="290" y="21"/>
                      </a:lnTo>
                      <a:lnTo>
                        <a:pt x="297" y="27"/>
                      </a:lnTo>
                      <a:lnTo>
                        <a:pt x="284" y="88"/>
                      </a:lnTo>
                      <a:lnTo>
                        <a:pt x="261" y="212"/>
                      </a:lnTo>
                      <a:lnTo>
                        <a:pt x="230" y="374"/>
                      </a:lnTo>
                      <a:lnTo>
                        <a:pt x="195" y="554"/>
                      </a:lnTo>
                      <a:lnTo>
                        <a:pt x="160" y="732"/>
                      </a:lnTo>
                      <a:lnTo>
                        <a:pt x="131" y="884"/>
                      </a:lnTo>
                      <a:lnTo>
                        <a:pt x="110" y="991"/>
                      </a:lnTo>
                      <a:lnTo>
                        <a:pt x="102" y="1032"/>
                      </a:lnTo>
                      <a:lnTo>
                        <a:pt x="91" y="1039"/>
                      </a:lnTo>
                      <a:lnTo>
                        <a:pt x="77" y="1040"/>
                      </a:lnTo>
                      <a:lnTo>
                        <a:pt x="64" y="1040"/>
                      </a:lnTo>
                      <a:lnTo>
                        <a:pt x="50" y="1039"/>
                      </a:lnTo>
                      <a:lnTo>
                        <a:pt x="37" y="1033"/>
                      </a:lnTo>
                      <a:lnTo>
                        <a:pt x="23" y="1026"/>
                      </a:lnTo>
                      <a:lnTo>
                        <a:pt x="12" y="1018"/>
                      </a:lnTo>
                      <a:lnTo>
                        <a:pt x="0" y="1009"/>
                      </a:lnTo>
                      <a:lnTo>
                        <a:pt x="158" y="221"/>
                      </a:lnTo>
                      <a:lnTo>
                        <a:pt x="120" y="199"/>
                      </a:lnTo>
                      <a:close/>
                    </a:path>
                  </a:pathLst>
                </a:custGeom>
                <a:solidFill>
                  <a:srgbClr val="f2cc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84"/>
                <p:cNvSpPr/>
                <p:nvPr/>
              </p:nvSpPr>
              <p:spPr>
                <a:xfrm>
                  <a:off x="7845840" y="3152160"/>
                  <a:ext cx="812880" cy="473400"/>
                </a:xfrm>
                <a:custGeom>
                  <a:avLst/>
                  <a:gdLst>
                    <a:gd name="textAreaLeft" fmla="*/ 0 w 812880"/>
                    <a:gd name="textAreaRight" fmla="*/ 813240 w 812880"/>
                    <a:gd name="textAreaTop" fmla="*/ 0 h 473400"/>
                    <a:gd name="textAreaBottom" fmla="*/ 473760 h 473400"/>
                  </a:gdLst>
                  <a:ahLst/>
                  <a:rect l="textAreaLeft" t="textAreaTop" r="textAreaRight" b="textAreaBottom"/>
                  <a:pathLst>
                    <a:path w="1443" h="812">
                      <a:moveTo>
                        <a:pt x="112" y="812"/>
                      </a:moveTo>
                      <a:lnTo>
                        <a:pt x="131" y="807"/>
                      </a:lnTo>
                      <a:lnTo>
                        <a:pt x="148" y="800"/>
                      </a:lnTo>
                      <a:lnTo>
                        <a:pt x="162" y="788"/>
                      </a:lnTo>
                      <a:lnTo>
                        <a:pt x="175" y="774"/>
                      </a:lnTo>
                      <a:lnTo>
                        <a:pt x="183" y="758"/>
                      </a:lnTo>
                      <a:lnTo>
                        <a:pt x="187" y="740"/>
                      </a:lnTo>
                      <a:lnTo>
                        <a:pt x="185" y="719"/>
                      </a:lnTo>
                      <a:lnTo>
                        <a:pt x="177" y="698"/>
                      </a:lnTo>
                      <a:lnTo>
                        <a:pt x="168" y="671"/>
                      </a:lnTo>
                      <a:lnTo>
                        <a:pt x="172" y="647"/>
                      </a:lnTo>
                      <a:lnTo>
                        <a:pt x="185" y="627"/>
                      </a:lnTo>
                      <a:lnTo>
                        <a:pt x="206" y="613"/>
                      </a:lnTo>
                      <a:lnTo>
                        <a:pt x="185" y="611"/>
                      </a:lnTo>
                      <a:lnTo>
                        <a:pt x="172" y="604"/>
                      </a:lnTo>
                      <a:lnTo>
                        <a:pt x="166" y="597"/>
                      </a:lnTo>
                      <a:lnTo>
                        <a:pt x="164" y="589"/>
                      </a:lnTo>
                      <a:lnTo>
                        <a:pt x="166" y="578"/>
                      </a:lnTo>
                      <a:lnTo>
                        <a:pt x="175" y="564"/>
                      </a:lnTo>
                      <a:lnTo>
                        <a:pt x="193" y="548"/>
                      </a:lnTo>
                      <a:lnTo>
                        <a:pt x="220" y="532"/>
                      </a:lnTo>
                      <a:lnTo>
                        <a:pt x="233" y="485"/>
                      </a:lnTo>
                      <a:lnTo>
                        <a:pt x="247" y="428"/>
                      </a:lnTo>
                      <a:lnTo>
                        <a:pt x="258" y="372"/>
                      </a:lnTo>
                      <a:lnTo>
                        <a:pt x="266" y="329"/>
                      </a:lnTo>
                      <a:lnTo>
                        <a:pt x="309" y="328"/>
                      </a:lnTo>
                      <a:lnTo>
                        <a:pt x="357" y="326"/>
                      </a:lnTo>
                      <a:lnTo>
                        <a:pt x="409" y="329"/>
                      </a:lnTo>
                      <a:lnTo>
                        <a:pt x="465" y="333"/>
                      </a:lnTo>
                      <a:lnTo>
                        <a:pt x="523" y="338"/>
                      </a:lnTo>
                      <a:lnTo>
                        <a:pt x="581" y="345"/>
                      </a:lnTo>
                      <a:lnTo>
                        <a:pt x="641" y="354"/>
                      </a:lnTo>
                      <a:lnTo>
                        <a:pt x="698" y="363"/>
                      </a:lnTo>
                      <a:lnTo>
                        <a:pt x="756" y="372"/>
                      </a:lnTo>
                      <a:lnTo>
                        <a:pt x="812" y="382"/>
                      </a:lnTo>
                      <a:lnTo>
                        <a:pt x="864" y="393"/>
                      </a:lnTo>
                      <a:lnTo>
                        <a:pt x="913" y="402"/>
                      </a:lnTo>
                      <a:lnTo>
                        <a:pt x="957" y="412"/>
                      </a:lnTo>
                      <a:lnTo>
                        <a:pt x="994" y="419"/>
                      </a:lnTo>
                      <a:lnTo>
                        <a:pt x="1027" y="428"/>
                      </a:lnTo>
                      <a:lnTo>
                        <a:pt x="1050" y="433"/>
                      </a:lnTo>
                      <a:lnTo>
                        <a:pt x="1065" y="442"/>
                      </a:lnTo>
                      <a:lnTo>
                        <a:pt x="1067" y="456"/>
                      </a:lnTo>
                      <a:lnTo>
                        <a:pt x="1061" y="474"/>
                      </a:lnTo>
                      <a:lnTo>
                        <a:pt x="1057" y="500"/>
                      </a:lnTo>
                      <a:lnTo>
                        <a:pt x="1059" y="514"/>
                      </a:lnTo>
                      <a:lnTo>
                        <a:pt x="1065" y="529"/>
                      </a:lnTo>
                      <a:lnTo>
                        <a:pt x="1073" y="541"/>
                      </a:lnTo>
                      <a:lnTo>
                        <a:pt x="1086" y="552"/>
                      </a:lnTo>
                      <a:lnTo>
                        <a:pt x="1102" y="562"/>
                      </a:lnTo>
                      <a:lnTo>
                        <a:pt x="1119" y="569"/>
                      </a:lnTo>
                      <a:lnTo>
                        <a:pt x="1140" y="573"/>
                      </a:lnTo>
                      <a:lnTo>
                        <a:pt x="1162" y="573"/>
                      </a:lnTo>
                      <a:lnTo>
                        <a:pt x="1175" y="571"/>
                      </a:lnTo>
                      <a:lnTo>
                        <a:pt x="1185" y="569"/>
                      </a:lnTo>
                      <a:lnTo>
                        <a:pt x="1196" y="567"/>
                      </a:lnTo>
                      <a:lnTo>
                        <a:pt x="1206" y="562"/>
                      </a:lnTo>
                      <a:lnTo>
                        <a:pt x="1214" y="557"/>
                      </a:lnTo>
                      <a:lnTo>
                        <a:pt x="1220" y="552"/>
                      </a:lnTo>
                      <a:lnTo>
                        <a:pt x="1223" y="543"/>
                      </a:lnTo>
                      <a:lnTo>
                        <a:pt x="1227" y="534"/>
                      </a:lnTo>
                      <a:lnTo>
                        <a:pt x="1233" y="536"/>
                      </a:lnTo>
                      <a:lnTo>
                        <a:pt x="1241" y="536"/>
                      </a:lnTo>
                      <a:lnTo>
                        <a:pt x="1248" y="537"/>
                      </a:lnTo>
                      <a:lnTo>
                        <a:pt x="1254" y="537"/>
                      </a:lnTo>
                      <a:lnTo>
                        <a:pt x="1262" y="537"/>
                      </a:lnTo>
                      <a:lnTo>
                        <a:pt x="1270" y="537"/>
                      </a:lnTo>
                      <a:lnTo>
                        <a:pt x="1277" y="537"/>
                      </a:lnTo>
                      <a:lnTo>
                        <a:pt x="1285" y="537"/>
                      </a:lnTo>
                      <a:lnTo>
                        <a:pt x="1258" y="611"/>
                      </a:lnTo>
                      <a:lnTo>
                        <a:pt x="1272" y="613"/>
                      </a:lnTo>
                      <a:lnTo>
                        <a:pt x="1283" y="613"/>
                      </a:lnTo>
                      <a:lnTo>
                        <a:pt x="1297" y="613"/>
                      </a:lnTo>
                      <a:lnTo>
                        <a:pt x="1308" y="611"/>
                      </a:lnTo>
                      <a:lnTo>
                        <a:pt x="1320" y="610"/>
                      </a:lnTo>
                      <a:lnTo>
                        <a:pt x="1330" y="606"/>
                      </a:lnTo>
                      <a:lnTo>
                        <a:pt x="1337" y="603"/>
                      </a:lnTo>
                      <a:lnTo>
                        <a:pt x="1345" y="599"/>
                      </a:lnTo>
                      <a:lnTo>
                        <a:pt x="1355" y="594"/>
                      </a:lnTo>
                      <a:lnTo>
                        <a:pt x="1366" y="590"/>
                      </a:lnTo>
                      <a:lnTo>
                        <a:pt x="1376" y="585"/>
                      </a:lnTo>
                      <a:lnTo>
                        <a:pt x="1387" y="581"/>
                      </a:lnTo>
                      <a:lnTo>
                        <a:pt x="1397" y="576"/>
                      </a:lnTo>
                      <a:lnTo>
                        <a:pt x="1407" y="573"/>
                      </a:lnTo>
                      <a:lnTo>
                        <a:pt x="1416" y="567"/>
                      </a:lnTo>
                      <a:lnTo>
                        <a:pt x="1422" y="562"/>
                      </a:lnTo>
                      <a:lnTo>
                        <a:pt x="1438" y="536"/>
                      </a:lnTo>
                      <a:lnTo>
                        <a:pt x="1443" y="500"/>
                      </a:lnTo>
                      <a:lnTo>
                        <a:pt x="1443" y="463"/>
                      </a:lnTo>
                      <a:lnTo>
                        <a:pt x="1438" y="423"/>
                      </a:lnTo>
                      <a:lnTo>
                        <a:pt x="1428" y="384"/>
                      </a:lnTo>
                      <a:lnTo>
                        <a:pt x="1416" y="349"/>
                      </a:lnTo>
                      <a:lnTo>
                        <a:pt x="1405" y="321"/>
                      </a:lnTo>
                      <a:lnTo>
                        <a:pt x="1393" y="301"/>
                      </a:lnTo>
                      <a:lnTo>
                        <a:pt x="1382" y="289"/>
                      </a:lnTo>
                      <a:lnTo>
                        <a:pt x="1366" y="276"/>
                      </a:lnTo>
                      <a:lnTo>
                        <a:pt x="1349" y="264"/>
                      </a:lnTo>
                      <a:lnTo>
                        <a:pt x="1328" y="252"/>
                      </a:lnTo>
                      <a:lnTo>
                        <a:pt x="1308" y="241"/>
                      </a:lnTo>
                      <a:lnTo>
                        <a:pt x="1289" y="231"/>
                      </a:lnTo>
                      <a:lnTo>
                        <a:pt x="1272" y="222"/>
                      </a:lnTo>
                      <a:lnTo>
                        <a:pt x="1260" y="217"/>
                      </a:lnTo>
                      <a:lnTo>
                        <a:pt x="1250" y="209"/>
                      </a:lnTo>
                      <a:lnTo>
                        <a:pt x="1239" y="201"/>
                      </a:lnTo>
                      <a:lnTo>
                        <a:pt x="1225" y="187"/>
                      </a:lnTo>
                      <a:lnTo>
                        <a:pt x="1212" y="171"/>
                      </a:lnTo>
                      <a:lnTo>
                        <a:pt x="1194" y="155"/>
                      </a:lnTo>
                      <a:lnTo>
                        <a:pt x="1177" y="137"/>
                      </a:lnTo>
                      <a:lnTo>
                        <a:pt x="1160" y="121"/>
                      </a:lnTo>
                      <a:lnTo>
                        <a:pt x="1138" y="107"/>
                      </a:lnTo>
                      <a:lnTo>
                        <a:pt x="1123" y="98"/>
                      </a:lnTo>
                      <a:lnTo>
                        <a:pt x="1098" y="90"/>
                      </a:lnTo>
                      <a:lnTo>
                        <a:pt x="1069" y="79"/>
                      </a:lnTo>
                      <a:lnTo>
                        <a:pt x="1038" y="68"/>
                      </a:lnTo>
                      <a:lnTo>
                        <a:pt x="1007" y="60"/>
                      </a:lnTo>
                      <a:lnTo>
                        <a:pt x="978" y="51"/>
                      </a:lnTo>
                      <a:lnTo>
                        <a:pt x="955" y="45"/>
                      </a:lnTo>
                      <a:lnTo>
                        <a:pt x="942" y="42"/>
                      </a:lnTo>
                      <a:lnTo>
                        <a:pt x="932" y="40"/>
                      </a:lnTo>
                      <a:lnTo>
                        <a:pt x="922" y="38"/>
                      </a:lnTo>
                      <a:lnTo>
                        <a:pt x="913" y="37"/>
                      </a:lnTo>
                      <a:lnTo>
                        <a:pt x="905" y="33"/>
                      </a:lnTo>
                      <a:lnTo>
                        <a:pt x="897" y="31"/>
                      </a:lnTo>
                      <a:lnTo>
                        <a:pt x="890" y="30"/>
                      </a:lnTo>
                      <a:lnTo>
                        <a:pt x="884" y="26"/>
                      </a:lnTo>
                      <a:lnTo>
                        <a:pt x="878" y="24"/>
                      </a:lnTo>
                      <a:lnTo>
                        <a:pt x="864" y="17"/>
                      </a:lnTo>
                      <a:lnTo>
                        <a:pt x="847" y="10"/>
                      </a:lnTo>
                      <a:lnTo>
                        <a:pt x="828" y="5"/>
                      </a:lnTo>
                      <a:lnTo>
                        <a:pt x="807" y="1"/>
                      </a:lnTo>
                      <a:lnTo>
                        <a:pt x="783" y="0"/>
                      </a:lnTo>
                      <a:lnTo>
                        <a:pt x="760" y="0"/>
                      </a:lnTo>
                      <a:lnTo>
                        <a:pt x="739" y="5"/>
                      </a:lnTo>
                      <a:lnTo>
                        <a:pt x="716" y="16"/>
                      </a:lnTo>
                      <a:lnTo>
                        <a:pt x="687" y="24"/>
                      </a:lnTo>
                      <a:lnTo>
                        <a:pt x="650" y="28"/>
                      </a:lnTo>
                      <a:lnTo>
                        <a:pt x="608" y="24"/>
                      </a:lnTo>
                      <a:lnTo>
                        <a:pt x="563" y="19"/>
                      </a:lnTo>
                      <a:lnTo>
                        <a:pt x="519" y="12"/>
                      </a:lnTo>
                      <a:lnTo>
                        <a:pt x="477" y="7"/>
                      </a:lnTo>
                      <a:lnTo>
                        <a:pt x="442" y="5"/>
                      </a:lnTo>
                      <a:lnTo>
                        <a:pt x="415" y="7"/>
                      </a:lnTo>
                      <a:lnTo>
                        <a:pt x="395" y="12"/>
                      </a:lnTo>
                      <a:lnTo>
                        <a:pt x="374" y="23"/>
                      </a:lnTo>
                      <a:lnTo>
                        <a:pt x="353" y="33"/>
                      </a:lnTo>
                      <a:lnTo>
                        <a:pt x="332" y="47"/>
                      </a:lnTo>
                      <a:lnTo>
                        <a:pt x="312" y="63"/>
                      </a:lnTo>
                      <a:lnTo>
                        <a:pt x="297" y="81"/>
                      </a:lnTo>
                      <a:lnTo>
                        <a:pt x="284" y="97"/>
                      </a:lnTo>
                      <a:lnTo>
                        <a:pt x="276" y="114"/>
                      </a:lnTo>
                      <a:lnTo>
                        <a:pt x="270" y="130"/>
                      </a:lnTo>
                      <a:lnTo>
                        <a:pt x="258" y="144"/>
                      </a:lnTo>
                      <a:lnTo>
                        <a:pt x="245" y="155"/>
                      </a:lnTo>
                      <a:lnTo>
                        <a:pt x="226" y="164"/>
                      </a:lnTo>
                      <a:lnTo>
                        <a:pt x="214" y="167"/>
                      </a:lnTo>
                      <a:lnTo>
                        <a:pt x="201" y="174"/>
                      </a:lnTo>
                      <a:lnTo>
                        <a:pt x="187" y="181"/>
                      </a:lnTo>
                      <a:lnTo>
                        <a:pt x="170" y="192"/>
                      </a:lnTo>
                      <a:lnTo>
                        <a:pt x="154" y="202"/>
                      </a:lnTo>
                      <a:lnTo>
                        <a:pt x="137" y="215"/>
                      </a:lnTo>
                      <a:lnTo>
                        <a:pt x="121" y="229"/>
                      </a:lnTo>
                      <a:lnTo>
                        <a:pt x="106" y="243"/>
                      </a:lnTo>
                      <a:lnTo>
                        <a:pt x="91" y="266"/>
                      </a:lnTo>
                      <a:lnTo>
                        <a:pt x="85" y="292"/>
                      </a:lnTo>
                      <a:lnTo>
                        <a:pt x="83" y="315"/>
                      </a:lnTo>
                      <a:lnTo>
                        <a:pt x="87" y="336"/>
                      </a:lnTo>
                      <a:lnTo>
                        <a:pt x="87" y="354"/>
                      </a:lnTo>
                      <a:lnTo>
                        <a:pt x="81" y="370"/>
                      </a:lnTo>
                      <a:lnTo>
                        <a:pt x="67" y="388"/>
                      </a:lnTo>
                      <a:lnTo>
                        <a:pt x="46" y="405"/>
                      </a:lnTo>
                      <a:lnTo>
                        <a:pt x="25" y="425"/>
                      </a:lnTo>
                      <a:lnTo>
                        <a:pt x="11" y="446"/>
                      </a:lnTo>
                      <a:lnTo>
                        <a:pt x="4" y="467"/>
                      </a:lnTo>
                      <a:lnTo>
                        <a:pt x="0" y="486"/>
                      </a:lnTo>
                      <a:lnTo>
                        <a:pt x="2" y="509"/>
                      </a:lnTo>
                      <a:lnTo>
                        <a:pt x="8" y="534"/>
                      </a:lnTo>
                      <a:lnTo>
                        <a:pt x="21" y="557"/>
                      </a:lnTo>
                      <a:lnTo>
                        <a:pt x="42" y="569"/>
                      </a:lnTo>
                      <a:lnTo>
                        <a:pt x="46" y="585"/>
                      </a:lnTo>
                      <a:lnTo>
                        <a:pt x="52" y="604"/>
                      </a:lnTo>
                      <a:lnTo>
                        <a:pt x="60" y="620"/>
                      </a:lnTo>
                      <a:lnTo>
                        <a:pt x="65" y="634"/>
                      </a:lnTo>
                      <a:lnTo>
                        <a:pt x="52" y="659"/>
                      </a:lnTo>
                      <a:lnTo>
                        <a:pt x="46" y="678"/>
                      </a:lnTo>
                      <a:lnTo>
                        <a:pt x="46" y="696"/>
                      </a:lnTo>
                      <a:lnTo>
                        <a:pt x="46" y="708"/>
                      </a:lnTo>
                      <a:lnTo>
                        <a:pt x="48" y="719"/>
                      </a:lnTo>
                      <a:lnTo>
                        <a:pt x="56" y="730"/>
                      </a:lnTo>
                      <a:lnTo>
                        <a:pt x="65" y="737"/>
                      </a:lnTo>
                      <a:lnTo>
                        <a:pt x="81" y="740"/>
                      </a:lnTo>
                      <a:lnTo>
                        <a:pt x="92" y="754"/>
                      </a:lnTo>
                      <a:lnTo>
                        <a:pt x="102" y="775"/>
                      </a:lnTo>
                      <a:lnTo>
                        <a:pt x="110" y="797"/>
                      </a:lnTo>
                      <a:lnTo>
                        <a:pt x="112" y="8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85"/>
                <p:cNvSpPr/>
                <p:nvPr/>
              </p:nvSpPr>
              <p:spPr>
                <a:xfrm>
                  <a:off x="7869240" y="3152160"/>
                  <a:ext cx="764640" cy="473400"/>
                </a:xfrm>
                <a:custGeom>
                  <a:avLst/>
                  <a:gdLst>
                    <a:gd name="textAreaLeft" fmla="*/ 0 w 764640"/>
                    <a:gd name="textAreaRight" fmla="*/ 765000 w 764640"/>
                    <a:gd name="textAreaTop" fmla="*/ 0 h 473400"/>
                    <a:gd name="textAreaBottom" fmla="*/ 473760 h 473400"/>
                  </a:gdLst>
                  <a:ahLst/>
                  <a:rect l="textAreaLeft" t="textAreaTop" r="textAreaRight" b="textAreaBottom"/>
                  <a:pathLst>
                    <a:path w="1357" h="812">
                      <a:moveTo>
                        <a:pt x="39" y="740"/>
                      </a:moveTo>
                      <a:lnTo>
                        <a:pt x="64" y="730"/>
                      </a:lnTo>
                      <a:lnTo>
                        <a:pt x="74" y="708"/>
                      </a:lnTo>
                      <a:lnTo>
                        <a:pt x="70" y="686"/>
                      </a:lnTo>
                      <a:lnTo>
                        <a:pt x="54" y="671"/>
                      </a:lnTo>
                      <a:lnTo>
                        <a:pt x="37" y="664"/>
                      </a:lnTo>
                      <a:lnTo>
                        <a:pt x="27" y="654"/>
                      </a:lnTo>
                      <a:lnTo>
                        <a:pt x="23" y="643"/>
                      </a:lnTo>
                      <a:lnTo>
                        <a:pt x="23" y="634"/>
                      </a:lnTo>
                      <a:lnTo>
                        <a:pt x="18" y="620"/>
                      </a:lnTo>
                      <a:lnTo>
                        <a:pt x="10" y="604"/>
                      </a:lnTo>
                      <a:lnTo>
                        <a:pt x="4" y="585"/>
                      </a:lnTo>
                      <a:lnTo>
                        <a:pt x="0" y="569"/>
                      </a:lnTo>
                      <a:lnTo>
                        <a:pt x="8" y="555"/>
                      </a:lnTo>
                      <a:lnTo>
                        <a:pt x="12" y="537"/>
                      </a:lnTo>
                      <a:lnTo>
                        <a:pt x="14" y="522"/>
                      </a:lnTo>
                      <a:lnTo>
                        <a:pt x="12" y="506"/>
                      </a:lnTo>
                      <a:lnTo>
                        <a:pt x="8" y="488"/>
                      </a:lnTo>
                      <a:lnTo>
                        <a:pt x="6" y="465"/>
                      </a:lnTo>
                      <a:lnTo>
                        <a:pt x="8" y="442"/>
                      </a:lnTo>
                      <a:lnTo>
                        <a:pt x="18" y="425"/>
                      </a:lnTo>
                      <a:lnTo>
                        <a:pt x="25" y="418"/>
                      </a:lnTo>
                      <a:lnTo>
                        <a:pt x="33" y="409"/>
                      </a:lnTo>
                      <a:lnTo>
                        <a:pt x="43" y="403"/>
                      </a:lnTo>
                      <a:lnTo>
                        <a:pt x="52" y="396"/>
                      </a:lnTo>
                      <a:lnTo>
                        <a:pt x="62" y="391"/>
                      </a:lnTo>
                      <a:lnTo>
                        <a:pt x="76" y="388"/>
                      </a:lnTo>
                      <a:lnTo>
                        <a:pt x="89" y="384"/>
                      </a:lnTo>
                      <a:lnTo>
                        <a:pt x="106" y="382"/>
                      </a:lnTo>
                      <a:lnTo>
                        <a:pt x="99" y="359"/>
                      </a:lnTo>
                      <a:lnTo>
                        <a:pt x="95" y="333"/>
                      </a:lnTo>
                      <a:lnTo>
                        <a:pt x="95" y="303"/>
                      </a:lnTo>
                      <a:lnTo>
                        <a:pt x="101" y="273"/>
                      </a:lnTo>
                      <a:lnTo>
                        <a:pt x="110" y="243"/>
                      </a:lnTo>
                      <a:lnTo>
                        <a:pt x="128" y="213"/>
                      </a:lnTo>
                      <a:lnTo>
                        <a:pt x="153" y="187"/>
                      </a:lnTo>
                      <a:lnTo>
                        <a:pt x="184" y="164"/>
                      </a:lnTo>
                      <a:lnTo>
                        <a:pt x="203" y="155"/>
                      </a:lnTo>
                      <a:lnTo>
                        <a:pt x="216" y="144"/>
                      </a:lnTo>
                      <a:lnTo>
                        <a:pt x="228" y="130"/>
                      </a:lnTo>
                      <a:lnTo>
                        <a:pt x="234" y="114"/>
                      </a:lnTo>
                      <a:lnTo>
                        <a:pt x="238" y="107"/>
                      </a:lnTo>
                      <a:lnTo>
                        <a:pt x="245" y="102"/>
                      </a:lnTo>
                      <a:lnTo>
                        <a:pt x="257" y="95"/>
                      </a:lnTo>
                      <a:lnTo>
                        <a:pt x="270" y="90"/>
                      </a:lnTo>
                      <a:lnTo>
                        <a:pt x="288" y="86"/>
                      </a:lnTo>
                      <a:lnTo>
                        <a:pt x="309" y="84"/>
                      </a:lnTo>
                      <a:lnTo>
                        <a:pt x="332" y="84"/>
                      </a:lnTo>
                      <a:lnTo>
                        <a:pt x="359" y="86"/>
                      </a:lnTo>
                      <a:lnTo>
                        <a:pt x="375" y="88"/>
                      </a:lnTo>
                      <a:lnTo>
                        <a:pt x="390" y="91"/>
                      </a:lnTo>
                      <a:lnTo>
                        <a:pt x="409" y="95"/>
                      </a:lnTo>
                      <a:lnTo>
                        <a:pt x="429" y="97"/>
                      </a:lnTo>
                      <a:lnTo>
                        <a:pt x="448" y="98"/>
                      </a:lnTo>
                      <a:lnTo>
                        <a:pt x="469" y="100"/>
                      </a:lnTo>
                      <a:lnTo>
                        <a:pt x="490" y="100"/>
                      </a:lnTo>
                      <a:lnTo>
                        <a:pt x="514" y="98"/>
                      </a:lnTo>
                      <a:lnTo>
                        <a:pt x="535" y="97"/>
                      </a:lnTo>
                      <a:lnTo>
                        <a:pt x="556" y="93"/>
                      </a:lnTo>
                      <a:lnTo>
                        <a:pt x="579" y="86"/>
                      </a:lnTo>
                      <a:lnTo>
                        <a:pt x="599" y="77"/>
                      </a:lnTo>
                      <a:lnTo>
                        <a:pt x="620" y="67"/>
                      </a:lnTo>
                      <a:lnTo>
                        <a:pt x="639" y="53"/>
                      </a:lnTo>
                      <a:lnTo>
                        <a:pt x="656" y="35"/>
                      </a:lnTo>
                      <a:lnTo>
                        <a:pt x="674" y="16"/>
                      </a:lnTo>
                      <a:lnTo>
                        <a:pt x="697" y="5"/>
                      </a:lnTo>
                      <a:lnTo>
                        <a:pt x="718" y="0"/>
                      </a:lnTo>
                      <a:lnTo>
                        <a:pt x="741" y="0"/>
                      </a:lnTo>
                      <a:lnTo>
                        <a:pt x="765" y="1"/>
                      </a:lnTo>
                      <a:lnTo>
                        <a:pt x="786" y="5"/>
                      </a:lnTo>
                      <a:lnTo>
                        <a:pt x="805" y="10"/>
                      </a:lnTo>
                      <a:lnTo>
                        <a:pt x="822" y="17"/>
                      </a:lnTo>
                      <a:lnTo>
                        <a:pt x="836" y="24"/>
                      </a:lnTo>
                      <a:lnTo>
                        <a:pt x="846" y="31"/>
                      </a:lnTo>
                      <a:lnTo>
                        <a:pt x="855" y="40"/>
                      </a:lnTo>
                      <a:lnTo>
                        <a:pt x="867" y="49"/>
                      </a:lnTo>
                      <a:lnTo>
                        <a:pt x="878" y="58"/>
                      </a:lnTo>
                      <a:lnTo>
                        <a:pt x="890" y="67"/>
                      </a:lnTo>
                      <a:lnTo>
                        <a:pt x="902" y="74"/>
                      </a:lnTo>
                      <a:lnTo>
                        <a:pt x="913" y="79"/>
                      </a:lnTo>
                      <a:lnTo>
                        <a:pt x="923" y="83"/>
                      </a:lnTo>
                      <a:lnTo>
                        <a:pt x="931" y="84"/>
                      </a:lnTo>
                      <a:lnTo>
                        <a:pt x="940" y="86"/>
                      </a:lnTo>
                      <a:lnTo>
                        <a:pt x="950" y="88"/>
                      </a:lnTo>
                      <a:lnTo>
                        <a:pt x="958" y="91"/>
                      </a:lnTo>
                      <a:lnTo>
                        <a:pt x="967" y="93"/>
                      </a:lnTo>
                      <a:lnTo>
                        <a:pt x="973" y="97"/>
                      </a:lnTo>
                      <a:lnTo>
                        <a:pt x="979" y="102"/>
                      </a:lnTo>
                      <a:lnTo>
                        <a:pt x="981" y="107"/>
                      </a:lnTo>
                      <a:lnTo>
                        <a:pt x="983" y="120"/>
                      </a:lnTo>
                      <a:lnTo>
                        <a:pt x="981" y="132"/>
                      </a:lnTo>
                      <a:lnTo>
                        <a:pt x="975" y="144"/>
                      </a:lnTo>
                      <a:lnTo>
                        <a:pt x="965" y="150"/>
                      </a:lnTo>
                      <a:lnTo>
                        <a:pt x="954" y="153"/>
                      </a:lnTo>
                      <a:lnTo>
                        <a:pt x="948" y="160"/>
                      </a:lnTo>
                      <a:lnTo>
                        <a:pt x="948" y="169"/>
                      </a:lnTo>
                      <a:lnTo>
                        <a:pt x="959" y="179"/>
                      </a:lnTo>
                      <a:lnTo>
                        <a:pt x="969" y="187"/>
                      </a:lnTo>
                      <a:lnTo>
                        <a:pt x="981" y="195"/>
                      </a:lnTo>
                      <a:lnTo>
                        <a:pt x="996" y="204"/>
                      </a:lnTo>
                      <a:lnTo>
                        <a:pt x="1015" y="211"/>
                      </a:lnTo>
                      <a:lnTo>
                        <a:pt x="1037" y="220"/>
                      </a:lnTo>
                      <a:lnTo>
                        <a:pt x="1062" y="229"/>
                      </a:lnTo>
                      <a:lnTo>
                        <a:pt x="1087" y="234"/>
                      </a:lnTo>
                      <a:lnTo>
                        <a:pt x="1116" y="239"/>
                      </a:lnTo>
                      <a:lnTo>
                        <a:pt x="1145" y="243"/>
                      </a:lnTo>
                      <a:lnTo>
                        <a:pt x="1174" y="248"/>
                      </a:lnTo>
                      <a:lnTo>
                        <a:pt x="1203" y="254"/>
                      </a:lnTo>
                      <a:lnTo>
                        <a:pt x="1230" y="261"/>
                      </a:lnTo>
                      <a:lnTo>
                        <a:pt x="1253" y="268"/>
                      </a:lnTo>
                      <a:lnTo>
                        <a:pt x="1274" y="276"/>
                      </a:lnTo>
                      <a:lnTo>
                        <a:pt x="1291" y="285"/>
                      </a:lnTo>
                      <a:lnTo>
                        <a:pt x="1303" y="298"/>
                      </a:lnTo>
                      <a:lnTo>
                        <a:pt x="1313" y="312"/>
                      </a:lnTo>
                      <a:lnTo>
                        <a:pt x="1324" y="328"/>
                      </a:lnTo>
                      <a:lnTo>
                        <a:pt x="1334" y="345"/>
                      </a:lnTo>
                      <a:lnTo>
                        <a:pt x="1342" y="365"/>
                      </a:lnTo>
                      <a:lnTo>
                        <a:pt x="1349" y="384"/>
                      </a:lnTo>
                      <a:lnTo>
                        <a:pt x="1353" y="403"/>
                      </a:lnTo>
                      <a:lnTo>
                        <a:pt x="1357" y="421"/>
                      </a:lnTo>
                      <a:lnTo>
                        <a:pt x="1355" y="437"/>
                      </a:lnTo>
                      <a:lnTo>
                        <a:pt x="1351" y="453"/>
                      </a:lnTo>
                      <a:lnTo>
                        <a:pt x="1347" y="467"/>
                      </a:lnTo>
                      <a:lnTo>
                        <a:pt x="1340" y="483"/>
                      </a:lnTo>
                      <a:lnTo>
                        <a:pt x="1332" y="495"/>
                      </a:lnTo>
                      <a:lnTo>
                        <a:pt x="1324" y="507"/>
                      </a:lnTo>
                      <a:lnTo>
                        <a:pt x="1313" y="518"/>
                      </a:lnTo>
                      <a:lnTo>
                        <a:pt x="1301" y="525"/>
                      </a:lnTo>
                      <a:lnTo>
                        <a:pt x="1289" y="530"/>
                      </a:lnTo>
                      <a:lnTo>
                        <a:pt x="1276" y="534"/>
                      </a:lnTo>
                      <a:lnTo>
                        <a:pt x="1262" y="536"/>
                      </a:lnTo>
                      <a:lnTo>
                        <a:pt x="1249" y="537"/>
                      </a:lnTo>
                      <a:lnTo>
                        <a:pt x="1235" y="537"/>
                      </a:lnTo>
                      <a:lnTo>
                        <a:pt x="1222" y="537"/>
                      </a:lnTo>
                      <a:lnTo>
                        <a:pt x="1208" y="537"/>
                      </a:lnTo>
                      <a:lnTo>
                        <a:pt x="1197" y="536"/>
                      </a:lnTo>
                      <a:lnTo>
                        <a:pt x="1185" y="534"/>
                      </a:lnTo>
                      <a:lnTo>
                        <a:pt x="1181" y="543"/>
                      </a:lnTo>
                      <a:lnTo>
                        <a:pt x="1178" y="552"/>
                      </a:lnTo>
                      <a:lnTo>
                        <a:pt x="1172" y="557"/>
                      </a:lnTo>
                      <a:lnTo>
                        <a:pt x="1164" y="562"/>
                      </a:lnTo>
                      <a:lnTo>
                        <a:pt x="1154" y="567"/>
                      </a:lnTo>
                      <a:lnTo>
                        <a:pt x="1143" y="569"/>
                      </a:lnTo>
                      <a:lnTo>
                        <a:pt x="1133" y="571"/>
                      </a:lnTo>
                      <a:lnTo>
                        <a:pt x="1120" y="573"/>
                      </a:lnTo>
                      <a:lnTo>
                        <a:pt x="1098" y="573"/>
                      </a:lnTo>
                      <a:lnTo>
                        <a:pt x="1077" y="569"/>
                      </a:lnTo>
                      <a:lnTo>
                        <a:pt x="1060" y="562"/>
                      </a:lnTo>
                      <a:lnTo>
                        <a:pt x="1044" y="552"/>
                      </a:lnTo>
                      <a:lnTo>
                        <a:pt x="1031" y="541"/>
                      </a:lnTo>
                      <a:lnTo>
                        <a:pt x="1023" y="529"/>
                      </a:lnTo>
                      <a:lnTo>
                        <a:pt x="1017" y="514"/>
                      </a:lnTo>
                      <a:lnTo>
                        <a:pt x="1015" y="500"/>
                      </a:lnTo>
                      <a:lnTo>
                        <a:pt x="1019" y="474"/>
                      </a:lnTo>
                      <a:lnTo>
                        <a:pt x="1025" y="456"/>
                      </a:lnTo>
                      <a:lnTo>
                        <a:pt x="1023" y="442"/>
                      </a:lnTo>
                      <a:lnTo>
                        <a:pt x="1008" y="433"/>
                      </a:lnTo>
                      <a:lnTo>
                        <a:pt x="985" y="428"/>
                      </a:lnTo>
                      <a:lnTo>
                        <a:pt x="952" y="419"/>
                      </a:lnTo>
                      <a:lnTo>
                        <a:pt x="915" y="412"/>
                      </a:lnTo>
                      <a:lnTo>
                        <a:pt x="871" y="402"/>
                      </a:lnTo>
                      <a:lnTo>
                        <a:pt x="822" y="393"/>
                      </a:lnTo>
                      <a:lnTo>
                        <a:pt x="770" y="382"/>
                      </a:lnTo>
                      <a:lnTo>
                        <a:pt x="714" y="372"/>
                      </a:lnTo>
                      <a:lnTo>
                        <a:pt x="656" y="363"/>
                      </a:lnTo>
                      <a:lnTo>
                        <a:pt x="599" y="354"/>
                      </a:lnTo>
                      <a:lnTo>
                        <a:pt x="539" y="345"/>
                      </a:lnTo>
                      <a:lnTo>
                        <a:pt x="481" y="338"/>
                      </a:lnTo>
                      <a:lnTo>
                        <a:pt x="423" y="333"/>
                      </a:lnTo>
                      <a:lnTo>
                        <a:pt x="367" y="329"/>
                      </a:lnTo>
                      <a:lnTo>
                        <a:pt x="315" y="326"/>
                      </a:lnTo>
                      <a:lnTo>
                        <a:pt x="267" y="328"/>
                      </a:lnTo>
                      <a:lnTo>
                        <a:pt x="224" y="329"/>
                      </a:lnTo>
                      <a:lnTo>
                        <a:pt x="216" y="372"/>
                      </a:lnTo>
                      <a:lnTo>
                        <a:pt x="205" y="428"/>
                      </a:lnTo>
                      <a:lnTo>
                        <a:pt x="191" y="485"/>
                      </a:lnTo>
                      <a:lnTo>
                        <a:pt x="178" y="532"/>
                      </a:lnTo>
                      <a:lnTo>
                        <a:pt x="151" y="548"/>
                      </a:lnTo>
                      <a:lnTo>
                        <a:pt x="133" y="564"/>
                      </a:lnTo>
                      <a:lnTo>
                        <a:pt x="124" y="578"/>
                      </a:lnTo>
                      <a:lnTo>
                        <a:pt x="122" y="589"/>
                      </a:lnTo>
                      <a:lnTo>
                        <a:pt x="124" y="597"/>
                      </a:lnTo>
                      <a:lnTo>
                        <a:pt x="130" y="604"/>
                      </a:lnTo>
                      <a:lnTo>
                        <a:pt x="143" y="611"/>
                      </a:lnTo>
                      <a:lnTo>
                        <a:pt x="164" y="613"/>
                      </a:lnTo>
                      <a:lnTo>
                        <a:pt x="143" y="627"/>
                      </a:lnTo>
                      <a:lnTo>
                        <a:pt x="130" y="647"/>
                      </a:lnTo>
                      <a:lnTo>
                        <a:pt x="126" y="671"/>
                      </a:lnTo>
                      <a:lnTo>
                        <a:pt x="135" y="698"/>
                      </a:lnTo>
                      <a:lnTo>
                        <a:pt x="143" y="719"/>
                      </a:lnTo>
                      <a:lnTo>
                        <a:pt x="145" y="740"/>
                      </a:lnTo>
                      <a:lnTo>
                        <a:pt x="141" y="758"/>
                      </a:lnTo>
                      <a:lnTo>
                        <a:pt x="133" y="774"/>
                      </a:lnTo>
                      <a:lnTo>
                        <a:pt x="120" y="788"/>
                      </a:lnTo>
                      <a:lnTo>
                        <a:pt x="106" y="800"/>
                      </a:lnTo>
                      <a:lnTo>
                        <a:pt x="89" y="807"/>
                      </a:lnTo>
                      <a:lnTo>
                        <a:pt x="70" y="812"/>
                      </a:lnTo>
                      <a:lnTo>
                        <a:pt x="68" y="797"/>
                      </a:lnTo>
                      <a:lnTo>
                        <a:pt x="60" y="775"/>
                      </a:lnTo>
                      <a:lnTo>
                        <a:pt x="50" y="754"/>
                      </a:lnTo>
                      <a:lnTo>
                        <a:pt x="39" y="740"/>
                      </a:lnTo>
                      <a:close/>
                    </a:path>
                  </a:pathLst>
                </a:custGeom>
                <a:solidFill>
                  <a:srgbClr val="fff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9" name="Line 86"/>
              <p:cNvSpPr/>
              <p:nvPr/>
            </p:nvSpPr>
            <p:spPr>
              <a:xfrm>
                <a:off x="7740720" y="3213000"/>
                <a:ext cx="863640" cy="93528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20" name="Line 87"/>
              <p:cNvSpPr/>
              <p:nvPr/>
            </p:nvSpPr>
            <p:spPr>
              <a:xfrm flipH="1">
                <a:off x="7715520" y="3310920"/>
                <a:ext cx="838440" cy="95688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3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4000"/>
                            </p:stCondLst>
                            <p:childTnLst>
                              <p:par>
                                <p:cTn id="3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000"/>
                            </p:stCondLst>
                            <p:childTnLst>
                              <p:par>
                                <p:cTn id="320" nodeType="afterEffect" fill="hold" presetClass="entr" presetID="2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8000"/>
                            </p:stCondLst>
                            <p:childTnLst>
                              <p:par>
                                <p:cTn id="331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33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3" dur="1000" autoRev="1" fill="hold"/>
                                        <p:tgtEl>
                                          <p:spTgt spid="1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26560" y="691920"/>
            <a:ext cx="75502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Arial"/>
              </a:rPr>
              <a:t>¡TOMA CONCIENCIA !</a:t>
            </a:r>
            <a:r>
              <a:rPr b="0" lang="es-MX" sz="36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22" name="Picture 3" descr="m1.gif (23263 bytes)"/>
          <p:cNvPicPr/>
          <p:nvPr/>
        </p:nvPicPr>
        <p:blipFill>
          <a:blip r:embed="rId1"/>
          <a:stretch/>
        </p:blipFill>
        <p:spPr>
          <a:xfrm>
            <a:off x="1116000" y="3068640"/>
            <a:ext cx="822240" cy="7542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"/>
          <p:cNvSpPr/>
          <p:nvPr/>
        </p:nvSpPr>
        <p:spPr>
          <a:xfrm>
            <a:off x="2498760" y="1639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24" name="Picture 5" descr="u1.gif (20653 bytes)"/>
          <p:cNvPicPr/>
          <p:nvPr/>
        </p:nvPicPr>
        <p:blipFill>
          <a:blip r:embed="rId2"/>
          <a:stretch/>
        </p:blipFill>
        <p:spPr>
          <a:xfrm>
            <a:off x="2124000" y="3573360"/>
            <a:ext cx="811440" cy="7318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6"/>
          <p:cNvSpPr/>
          <p:nvPr/>
        </p:nvSpPr>
        <p:spPr>
          <a:xfrm>
            <a:off x="3641760" y="1868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26" name="Picture 7" descr="e1.gif (19440 bytes)"/>
          <p:cNvPicPr/>
          <p:nvPr/>
        </p:nvPicPr>
        <p:blipFill>
          <a:blip r:embed="rId3"/>
          <a:stretch/>
        </p:blipFill>
        <p:spPr>
          <a:xfrm>
            <a:off x="3276720" y="3141720"/>
            <a:ext cx="696960" cy="720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v1.gif (21066 bytes)"/>
          <p:cNvPicPr/>
          <p:nvPr/>
        </p:nvPicPr>
        <p:blipFill>
          <a:blip r:embed="rId4"/>
          <a:stretch/>
        </p:blipFill>
        <p:spPr>
          <a:xfrm>
            <a:off x="4500720" y="3429000"/>
            <a:ext cx="765000" cy="72072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9"/>
          <p:cNvSpPr/>
          <p:nvPr/>
        </p:nvSpPr>
        <p:spPr>
          <a:xfrm>
            <a:off x="5470560" y="1792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29" name="Picture 10" descr="e1.gif (19440 bytes)"/>
          <p:cNvPicPr/>
          <p:nvPr/>
        </p:nvPicPr>
        <p:blipFill>
          <a:blip r:embed="rId5"/>
          <a:stretch/>
        </p:blipFill>
        <p:spPr>
          <a:xfrm>
            <a:off x="5796000" y="3429000"/>
            <a:ext cx="720720" cy="7430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1" descr="t1.gif (19680 bytes)"/>
          <p:cNvPicPr/>
          <p:nvPr/>
        </p:nvPicPr>
        <p:blipFill>
          <a:blip r:embed="rId6"/>
          <a:stretch/>
        </p:blipFill>
        <p:spPr>
          <a:xfrm>
            <a:off x="6877080" y="3284640"/>
            <a:ext cx="720720" cy="73188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12"/>
          <p:cNvSpPr/>
          <p:nvPr/>
        </p:nvSpPr>
        <p:spPr>
          <a:xfrm>
            <a:off x="7375680" y="224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32" name="Picture 13" descr="e1.gif (19440 bytes)"/>
          <p:cNvPicPr/>
          <p:nvPr/>
        </p:nvPicPr>
        <p:blipFill>
          <a:blip r:embed="rId7"/>
          <a:stretch/>
        </p:blipFill>
        <p:spPr>
          <a:xfrm>
            <a:off x="7812000" y="2924280"/>
            <a:ext cx="720720" cy="7426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14"/>
          <p:cNvSpPr/>
          <p:nvPr/>
        </p:nvSpPr>
        <p:spPr>
          <a:xfrm>
            <a:off x="380880" y="463248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4" name="Text Box 16"/>
          <p:cNvSpPr/>
          <p:nvPr/>
        </p:nvSpPr>
        <p:spPr>
          <a:xfrm>
            <a:off x="1332000" y="1773360"/>
            <a:ext cx="655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8f8f8"/>
                </a:solidFill>
                <a:latin typeface="Verdana"/>
              </a:rPr>
              <a:t>Los estudios </a:t>
            </a:r>
            <a:r>
              <a:rPr b="1" lang="es-ES" sz="2000" spc="-1" strike="noStrike">
                <a:solidFill>
                  <a:srgbClr val="f8f8f8"/>
                </a:solidFill>
                <a:latin typeface="Verdana"/>
              </a:rPr>
              <a:t>indican que poseer </a:t>
            </a:r>
            <a:r>
              <a:rPr b="1" lang="es-ES" sz="2000" spc="-1" strike="noStrike" u="sng">
                <a:solidFill>
                  <a:srgbClr val="ffcc00"/>
                </a:solidFill>
                <a:uFillTx/>
                <a:latin typeface="Verdana"/>
              </a:rPr>
              <a:t>niveles altos</a:t>
            </a:r>
            <a:r>
              <a:rPr b="1" lang="es-ES" sz="2000" spc="-1" strike="noStrike">
                <a:solidFill>
                  <a:srgbClr val="f8f8f8"/>
                </a:solidFill>
                <a:latin typeface="Verdana"/>
              </a:rPr>
              <a:t> de triglicéridos y colesterol en sangre </a:t>
            </a:r>
            <a:r>
              <a:rPr b="1" lang="es-ES" sz="2000" spc="-1" strike="noStrike" u="sng">
                <a:solidFill>
                  <a:srgbClr val="66ffff"/>
                </a:solidFill>
                <a:uFillTx/>
                <a:latin typeface="Verdana"/>
              </a:rPr>
              <a:t>aumentan notablemente</a:t>
            </a:r>
            <a:r>
              <a:rPr b="1" lang="es-ES" sz="2000" spc="-1" strike="noStrike">
                <a:solidFill>
                  <a:srgbClr val="f8f8f8"/>
                </a:solidFill>
                <a:latin typeface="Verdana"/>
              </a:rPr>
              <a:t> el riesgo de sufrir enfermedades cardiovasculares...</a:t>
            </a:r>
            <a:r>
              <a:rPr b="1" lang="es-ES" sz="2000" spc="-1" strike="noStrike">
                <a:solidFill>
                  <a:srgbClr val="f8f8f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5" name="Text Box 17"/>
          <p:cNvSpPr/>
          <p:nvPr/>
        </p:nvSpPr>
        <p:spPr>
          <a:xfrm>
            <a:off x="8029440" y="28526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6" name="Text Box 18"/>
          <p:cNvSpPr/>
          <p:nvPr/>
        </p:nvSpPr>
        <p:spPr>
          <a:xfrm>
            <a:off x="1258920" y="49860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POR TU SALUD…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37" name="Picture 19" descr="corazon"/>
          <p:cNvPicPr/>
          <p:nvPr/>
        </p:nvPicPr>
        <p:blipFill>
          <a:blip r:embed="rId8"/>
          <a:stretch/>
        </p:blipFill>
        <p:spPr>
          <a:xfrm>
            <a:off x="971640" y="4221000"/>
            <a:ext cx="3600360" cy="200052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21"/>
          <p:cNvSpPr/>
          <p:nvPr/>
        </p:nvSpPr>
        <p:spPr>
          <a:xfrm>
            <a:off x="2916360" y="4292640"/>
            <a:ext cx="56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8f8f8"/>
                </a:solidFill>
                <a:latin typeface="Arial"/>
              </a:rPr>
              <a:t>MANTEN EN MOVIMIENTO TU VIDA …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8f8f8"/>
                </a:solidFill>
                <a:latin typeface="Arial"/>
              </a:rPr>
              <a:t>                  </a:t>
            </a:r>
            <a:r>
              <a:rPr b="1" lang="es-ES" sz="2800" spc="-1" strike="noStrike">
                <a:solidFill>
                  <a:srgbClr val="ffcc00"/>
                </a:solidFill>
                <a:latin typeface="Arial Black"/>
              </a:rPr>
              <a:t>Y   TU CORAZÓN</a:t>
            </a:r>
            <a:r>
              <a:rPr b="1" lang="es-ES" sz="2800" spc="-1" strike="noStrike">
                <a:solidFill>
                  <a:srgbClr val="ff0000"/>
                </a:solidFill>
                <a:latin typeface="Arial Black"/>
              </a:rPr>
              <a:t> !!</a:t>
            </a:r>
            <a:r>
              <a:rPr b="1" lang="es-ES" sz="24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9" name="Text Box 23"/>
          <p:cNvSpPr/>
          <p:nvPr/>
        </p:nvSpPr>
        <p:spPr>
          <a:xfrm>
            <a:off x="250920" y="5118120"/>
            <a:ext cx="345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8f8f8"/>
                </a:solidFill>
                <a:latin typeface="Arial"/>
              </a:rPr>
              <a:t>Ateroesclerosis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8f8f8"/>
                </a:solidFill>
                <a:latin typeface="Arial"/>
              </a:rPr>
              <a:t>Arteriopatía coronaria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8f8f8"/>
                </a:solidFill>
                <a:latin typeface="Arial"/>
              </a:rPr>
              <a:t>Accidente cerebrovascular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8f8f8"/>
                </a:solidFill>
                <a:latin typeface="Arial"/>
              </a:rPr>
              <a:t>Ataque cardíaco o muerte</a:t>
            </a: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155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8" dur="1155" fill="hold"/>
                                        <p:tgtEl>
                                          <p:spTgt spid="2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0" dur="1155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2" dur="1155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6000"/>
                            </p:stCondLst>
                            <p:childTnLst>
                              <p:par>
                                <p:cTn id="360" nodeType="afterEffect" fill="hold" presetClass="entr" presetID="2" presetSubtype="8" repeatCount="100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7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8" dur="3000" fill="hold"/>
                                        <p:tgtEl>
                                          <p:spTgt spid="2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3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3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82090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 Black"/>
              </a:rPr>
              <a:t>!  SOLO TU PUEDES AYUDARTE 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426080" cy="184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8f8f8"/>
                </a:solidFill>
                <a:latin typeface="Arial"/>
              </a:rPr>
              <a:t>Independientemente del Examen Tutorial Anual que te realiza la empresa, debes hacerte por lo menos otros dos </a:t>
            </a:r>
            <a:r>
              <a:rPr b="0" lang="es-ES" sz="2800" spc="-1" strike="noStrike" u="sng">
                <a:solidFill>
                  <a:srgbClr val="f8f8f8"/>
                </a:solidFill>
                <a:uFillTx/>
                <a:latin typeface="Arial"/>
              </a:rPr>
              <a:t>Perfiles Lipìdicos</a:t>
            </a:r>
            <a:r>
              <a:rPr b="0" lang="es-ES" sz="2800" spc="-1" strike="noStrike">
                <a:solidFill>
                  <a:srgbClr val="f8f8f8"/>
                </a:solidFill>
                <a:latin typeface="Arial"/>
              </a:rPr>
              <a:t> durante el año para conocer tus valores y mantenerlos bajo control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3708360" y="5516640"/>
            <a:ext cx="504036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i="1" lang="es-VE" sz="1800" spc="-1" strike="noStrike">
                <a:solidFill>
                  <a:srgbClr val="00ff00"/>
                </a:solidFill>
                <a:latin typeface="Arial"/>
              </a:rPr>
              <a:t>GRACIAS  POR  TU  ATENCIÓN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800" spc="-1" strike="noStrike">
                <a:solidFill>
                  <a:srgbClr val="ffff00"/>
                </a:solidFill>
                <a:latin typeface="Arial"/>
              </a:rPr>
              <a:t>Gerencia de Prevención y Control de Pérdidas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800" spc="-1" strike="noStrike">
                <a:solidFill>
                  <a:srgbClr val="ffff00"/>
                </a:solidFill>
                <a:latin typeface="Arial"/>
              </a:rPr>
              <a:t>Coordinación de Prevención de Riesgos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755640" y="3573360"/>
            <a:ext cx="741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8f8f8"/>
                </a:solidFill>
                <a:latin typeface="Arial"/>
              </a:rPr>
              <a:t>La inversión para conocer estos valores no es   muy costosa y  es ganancia en tiempo de  vida y/o en Calidad de Vida.   </a:t>
            </a: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  PIÉNSALO …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5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7000"/>
                            </p:stCondLst>
                            <p:childTnLst>
                              <p:par>
                                <p:cTn id="432" nodeType="afterEffect" fill="hold" presetClass="entr" presetID="6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6" nodeType="afterEffect" fill="hold" presetClass="emph" presetID="26" repeatCount="300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8" dur="500" autoRev="1" fill="hold"/>
                                        <p:tgtEl>
                                          <p:spTgt spid="2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0" descr=""/>
          <p:cNvPicPr/>
          <p:nvPr/>
        </p:nvPicPr>
        <p:blipFill>
          <a:blip r:embed="rId1"/>
          <a:stretch/>
        </p:blipFill>
        <p:spPr>
          <a:xfrm>
            <a:off x="5148360" y="1989000"/>
            <a:ext cx="2411280" cy="13035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Verdana"/>
              </a:rPr>
              <a:t>¿POR QUÉ AUMENTAN?</a:t>
            </a:r>
            <a:r>
              <a:rPr b="1" lang="es-MX" sz="36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1628640" cy="48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8f8f8"/>
                </a:solidFill>
                <a:latin typeface="Arial"/>
              </a:rPr>
              <a:t>POR E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76320" y="220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30" name="Picture 16" descr="cigarron"/>
          <p:cNvPicPr/>
          <p:nvPr/>
        </p:nvPicPr>
        <p:blipFill>
          <a:blip r:embed="rId2"/>
          <a:stretch/>
        </p:blipFill>
        <p:spPr>
          <a:xfrm>
            <a:off x="2340000" y="1628640"/>
            <a:ext cx="2087640" cy="196236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36"/>
          <p:cNvGrpSpPr/>
          <p:nvPr/>
        </p:nvGrpSpPr>
        <p:grpSpPr>
          <a:xfrm>
            <a:off x="2556000" y="4005360"/>
            <a:ext cx="1778040" cy="1800000"/>
            <a:chOff x="2556000" y="4005360"/>
            <a:chExt cx="1778040" cy="1800000"/>
          </a:xfrm>
        </p:grpSpPr>
        <p:sp>
          <p:nvSpPr>
            <p:cNvPr id="132" name="Text Box 22"/>
            <p:cNvSpPr/>
            <p:nvPr/>
          </p:nvSpPr>
          <p:spPr>
            <a:xfrm>
              <a:off x="2870280" y="4321080"/>
              <a:ext cx="1160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buClr>
                  <a:srgbClr val="f8f8f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pic>
          <p:nvPicPr>
            <p:cNvPr id="133" name="Picture 23" descr="BD08911_"/>
            <p:cNvPicPr/>
            <p:nvPr/>
          </p:nvPicPr>
          <p:blipFill>
            <a:blip r:embed="rId3"/>
            <a:stretch/>
          </p:blipFill>
          <p:spPr>
            <a:xfrm>
              <a:off x="3235320" y="4037040"/>
              <a:ext cx="1098720" cy="10969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34" name="Object 24"/>
            <p:cNvGraphicFramePr/>
            <p:nvPr/>
          </p:nvGraphicFramePr>
          <p:xfrm>
            <a:off x="2712960" y="4005360"/>
            <a:ext cx="657360" cy="7207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5" name="Object 24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712960" y="4005360"/>
                      <a:ext cx="657360" cy="72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36" name="Object 25" descr=""/>
            <p:cNvPicPr/>
            <p:nvPr/>
          </p:nvPicPr>
          <p:blipFill>
            <a:blip r:embed="rId6"/>
            <a:stretch/>
          </p:blipFill>
          <p:spPr>
            <a:xfrm>
              <a:off x="3340080" y="5043600"/>
              <a:ext cx="94140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Object 26" descr=""/>
            <p:cNvPicPr/>
            <p:nvPr/>
          </p:nvPicPr>
          <p:blipFill>
            <a:blip r:embed="rId7"/>
            <a:stretch/>
          </p:blipFill>
          <p:spPr>
            <a:xfrm>
              <a:off x="2556000" y="4683240"/>
              <a:ext cx="993600" cy="108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Text Box 31"/>
          <p:cNvSpPr/>
          <p:nvPr/>
        </p:nvSpPr>
        <p:spPr>
          <a:xfrm>
            <a:off x="1029240" y="155736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1" i="1" lang="es-ES" sz="2400" spc="-1" strike="noStrike">
                <a:solidFill>
                  <a:srgbClr val="f8f8f8"/>
                </a:solidFill>
                <a:latin typeface="Arial"/>
              </a:rPr>
              <a:t>TABAQUISMO</a:t>
            </a:r>
            <a:r>
              <a:rPr b="1" i="1" lang="es-ES" sz="1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9" name="Text Box 32"/>
          <p:cNvSpPr/>
          <p:nvPr/>
        </p:nvSpPr>
        <p:spPr>
          <a:xfrm>
            <a:off x="6015600" y="4818240"/>
            <a:ext cx="25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8f8f8"/>
                </a:solidFill>
                <a:latin typeface="Arial"/>
              </a:rPr>
              <a:t>SOBREPESO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0" name="Text Box 33"/>
          <p:cNvSpPr/>
          <p:nvPr/>
        </p:nvSpPr>
        <p:spPr>
          <a:xfrm>
            <a:off x="0" y="3500280"/>
            <a:ext cx="284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8f8f8"/>
                </a:solidFill>
                <a:latin typeface="Verdana"/>
              </a:rPr>
              <a:t>POR LA INGESTA </a:t>
            </a:r>
            <a:r>
              <a:rPr b="1" i="1" lang="es-ES" sz="1800" spc="-1" strike="noStrike" u="sng">
                <a:solidFill>
                  <a:srgbClr val="f8f8f8"/>
                </a:solidFill>
                <a:uFillTx/>
                <a:latin typeface="Verdana"/>
              </a:rPr>
              <a:t>EXCESIVA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8f8f8"/>
                </a:solidFill>
                <a:latin typeface="Verdana"/>
              </a:rPr>
              <a:t>DE CALORÍAS EN FORMA DE GRASAS Y CARBOHIDRATOS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8f8f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1" name="Text Box 34"/>
          <p:cNvSpPr/>
          <p:nvPr/>
        </p:nvSpPr>
        <p:spPr>
          <a:xfrm>
            <a:off x="5870520" y="1557360"/>
            <a:ext cx="26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8f8f8"/>
                </a:solidFill>
                <a:latin typeface="Arial"/>
              </a:rPr>
              <a:t>SEDENTARISMO</a:t>
            </a:r>
            <a:r>
              <a:rPr b="1" i="1" lang="es-ES" sz="1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2" name="AutoShape 37"/>
          <p:cNvSpPr/>
          <p:nvPr/>
        </p:nvSpPr>
        <p:spPr>
          <a:xfrm flipH="1" rot="16519800">
            <a:off x="4116600" y="2659680"/>
            <a:ext cx="1341360" cy="6480360"/>
          </a:xfrm>
          <a:custGeom>
            <a:avLst/>
            <a:gdLst>
              <a:gd name="textAreaLeft" fmla="*/ 179640 w 1341360"/>
              <a:gd name="textAreaRight" fmla="*/ 1161720 w 1341360"/>
              <a:gd name="textAreaTop" fmla="*/ 1189800 h 6480360"/>
              <a:gd name="textAreaBottom" fmla="*/ 4418640 h 648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33" stAng="-5400000" swAng="5400000"/>
                <a:lnTo>
                  <a:pt x="21600" y="10761"/>
                </a:lnTo>
                <a:arcTo wR="21600" hR="7933" stAng="0" swAng="2550475"/>
                <a:lnTo>
                  <a:pt x="8034" y="21031"/>
                </a:lnTo>
                <a:lnTo>
                  <a:pt x="0" y="17280"/>
                </a:lnTo>
                <a:lnTo>
                  <a:pt x="8034" y="12391"/>
                </a:lnTo>
                <a:lnTo>
                  <a:pt x="8034" y="15297"/>
                </a:lnTo>
                <a:arcTo wR="21600" hR="7933" stAng="2550475" swAng="-2322104"/>
                <a:lnTo>
                  <a:pt x="21254" y="9347"/>
                </a:lnTo>
                <a:arcTo wR="21600" hR="7933" stAng="-228371" swAng="-5171629"/>
                <a:close/>
              </a:path>
              <a:path fill="darkenLess" w="21600" h="21600">
                <a:moveTo>
                  <a:pt x="0" y="0"/>
                </a:moveTo>
                <a:arcTo wR="21600" hR="7933" stAng="-5400000" swAng="5400000"/>
                <a:lnTo>
                  <a:pt x="21600" y="10761"/>
                </a:lnTo>
                <a:arcTo wR="21600" hR="7933" stAng="0" swAng="-228371"/>
                <a:lnTo>
                  <a:pt x="21254" y="9347"/>
                </a:lnTo>
                <a:arcTo wR="21600" hR="7933" stAng="-228371" swAng="-5171629"/>
                <a:close/>
              </a:path>
            </a:pathLst>
          </a:custGeom>
          <a:solidFill>
            <a:srgbClr val="ff33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3" name="WordArt 38"/>
          <p:cNvSpPr txBox="1"/>
          <p:nvPr/>
        </p:nvSpPr>
        <p:spPr>
          <a:xfrm rot="21231600">
            <a:off x="4067280" y="6021000"/>
            <a:ext cx="1676160" cy="38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16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QUE PRODUCE</a:t>
            </a:r>
            <a:endParaRPr b="1" i="1" lang="en-US" sz="16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4" name="Text Box 40"/>
          <p:cNvSpPr/>
          <p:nvPr/>
        </p:nvSpPr>
        <p:spPr>
          <a:xfrm>
            <a:off x="4678200" y="155736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8f8f8"/>
                </a:solidFill>
                <a:latin typeface="Arial"/>
              </a:rPr>
              <a:t>POR E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45" name="Content Placeholder 21" descr="Picture1.jpg"/>
          <p:cNvPicPr/>
          <p:nvPr/>
        </p:nvPicPr>
        <p:blipFill>
          <a:blip r:embed="rId8"/>
          <a:stretch/>
        </p:blipFill>
        <p:spPr>
          <a:xfrm>
            <a:off x="4429080" y="3000240"/>
            <a:ext cx="1598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7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770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0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000"/>
                            </p:stCondLst>
                            <p:childTnLst>
                              <p:par>
                                <p:cTn id="5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2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4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6500"/>
                            </p:stCondLst>
                            <p:childTnLst>
                              <p:par>
                                <p:cTn id="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7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9000"/>
                            </p:stCondLst>
                            <p:childTnLst>
                              <p:par>
                                <p:cTn id="91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250" autoRev="1" fill="hold"/>
                                        <p:tgtEl>
                                          <p:spTgt spid="1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250" autoRev="1" fill="hold"/>
                                        <p:tgtEl>
                                          <p:spTgt spid="1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250" autoRev="1" fill="hold"/>
                                        <p:tgtEl>
                                          <p:spTgt spid="1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590544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AUMENTAN TAMBIÉN POR:</a:t>
            </a:r>
            <a:r>
              <a:rPr b="1" lang="es-MX" sz="36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49636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cc00"/>
                </a:solidFill>
                <a:uFillTx/>
                <a:latin typeface="Verdana"/>
              </a:rPr>
              <a:t>Edad</a:t>
            </a:r>
            <a:r>
              <a:rPr b="1" lang="es-ES" sz="1800" spc="-1" strike="noStrike">
                <a:solidFill>
                  <a:srgbClr val="ffcc00"/>
                </a:solidFill>
                <a:latin typeface="Verdana"/>
              </a:rPr>
              <a:t>:</a:t>
            </a:r>
            <a:r>
              <a:rPr b="1" lang="es-ES" sz="1800" spc="-1" strike="noStrike">
                <a:solidFill>
                  <a:srgbClr val="f8f8f8"/>
                </a:solidFill>
                <a:latin typeface="Verdana"/>
              </a:rPr>
              <a:t> Los niveles de colesterol y triglicéridos aumentan regularmente con la edad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cc00"/>
                </a:solidFill>
                <a:uFillTx/>
                <a:latin typeface="Verdana"/>
              </a:rPr>
              <a:t>Medicamentos</a:t>
            </a:r>
            <a:r>
              <a:rPr b="1" lang="es-MX" sz="1800" spc="-1" strike="noStrike" u="sng">
                <a:solidFill>
                  <a:srgbClr val="ffcc00"/>
                </a:solidFill>
                <a:uFillTx/>
                <a:latin typeface="Verdana"/>
              </a:rPr>
              <a:t>:</a:t>
            </a:r>
            <a:r>
              <a:rPr b="1" lang="es-ES" sz="1800" spc="-1" strike="noStrike">
                <a:solidFill>
                  <a:srgbClr val="f8f8f8"/>
                </a:solidFill>
                <a:latin typeface="Verdana"/>
              </a:rPr>
              <a:t> Los anticonceptivos, esteroides, diuréticos causan aumento en los niveles de los triglicéridos y en ocasiones del colesterol.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cc00"/>
                </a:solidFill>
                <a:uFillTx/>
                <a:latin typeface="Verdana"/>
              </a:rPr>
              <a:t>Enfermedades</a:t>
            </a:r>
            <a:r>
              <a:rPr b="1" lang="es-MX" sz="1800" spc="-1" strike="noStrike" u="sng">
                <a:solidFill>
                  <a:srgbClr val="ffcc00"/>
                </a:solidFill>
                <a:uFillTx/>
                <a:latin typeface="Verdana"/>
              </a:rPr>
              <a:t>: </a:t>
            </a:r>
            <a:r>
              <a:rPr b="1" lang="es-ES" sz="1800" spc="-1" strike="noStrike">
                <a:solidFill>
                  <a:srgbClr val="f8f8f8"/>
                </a:solidFill>
                <a:latin typeface="Verdana"/>
              </a:rPr>
              <a:t>Las enfermedades renales y hepáticas, la diabetes, el hipotiroidismo,  tienden a elevar sus valores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cc00"/>
                </a:solidFill>
                <a:uFillTx/>
                <a:latin typeface="Verdana"/>
              </a:rPr>
              <a:t>la menopausia:</a:t>
            </a:r>
            <a:r>
              <a:rPr b="1" lang="es-ES" sz="1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es-ES" sz="1800" spc="-1" strike="noStrike">
                <a:solidFill>
                  <a:srgbClr val="f8f8f8"/>
                </a:solidFill>
                <a:latin typeface="Verdana"/>
              </a:rPr>
              <a:t>Tiende a elevar los valores</a:t>
            </a:r>
            <a:r>
              <a:rPr b="1" lang="es-ES" sz="1800" spc="-1" strike="noStrike">
                <a:solidFill>
                  <a:srgbClr val="ffcc00"/>
                </a:solidFill>
                <a:latin typeface="Verdana"/>
              </a:rPr>
              <a:t>  </a:t>
            </a:r>
            <a:r>
              <a:rPr b="1" lang="es-MX" sz="1800" spc="-1" strike="noStrike">
                <a:solidFill>
                  <a:srgbClr val="f8f8f8"/>
                </a:solidFill>
                <a:latin typeface="Verdana"/>
              </a:rPr>
              <a:t>en </a:t>
            </a:r>
            <a:r>
              <a:rPr b="1" lang="es-ES" sz="1800" spc="-1" strike="noStrike">
                <a:solidFill>
                  <a:srgbClr val="f8f8f8"/>
                </a:solidFill>
                <a:latin typeface="Verdana"/>
              </a:rPr>
              <a:t>algunas  mujeres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cc00"/>
                </a:solidFill>
                <a:uFillTx/>
                <a:latin typeface="Verdana"/>
              </a:rPr>
              <a:t>Herencia</a:t>
            </a:r>
            <a:r>
              <a:rPr b="1" lang="es-ES" sz="1800" spc="-1" strike="noStrike">
                <a:solidFill>
                  <a:srgbClr val="ffcc00"/>
                </a:solidFill>
                <a:latin typeface="Verdana"/>
              </a:rPr>
              <a:t>:</a:t>
            </a:r>
            <a:r>
              <a:rPr b="1" lang="es-ES" sz="1800" spc="-1" strike="noStrike">
                <a:solidFill>
                  <a:srgbClr val="f8f8f8"/>
                </a:solidFill>
                <a:latin typeface="Verdana"/>
              </a:rPr>
              <a:t>  Hay estadísticas que establecen altos niveles de colesterol y triglicéridos entre miembros de una misma familia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 u="sng">
                <a:solidFill>
                  <a:srgbClr val="ffcc00"/>
                </a:solidFill>
                <a:uFillTx/>
                <a:latin typeface="Verdana"/>
              </a:rPr>
              <a:t>Stress:</a:t>
            </a:r>
            <a:r>
              <a:rPr b="1" lang="es-VE" sz="1800" spc="-1" strike="noStrike">
                <a:solidFill>
                  <a:srgbClr val="f8f8f8"/>
                </a:solidFill>
                <a:latin typeface="Verdana"/>
              </a:rPr>
              <a:t> Algunas personas  presentan un componente emocional que influye en el nivel de éstos elementos  al influir el stress en su metabolismo; de allí la importancia de manejar el mismo mediante el deporte, la meditación, el relajamiento, la lectura, etc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8000"/>
                            </p:stCondLst>
                            <p:childTnLst>
                              <p:par>
                                <p:cTn id="1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70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es-MX" sz="3600" spc="-1" strike="noStrike">
                <a:solidFill>
                  <a:srgbClr val="ffcc00"/>
                </a:solidFill>
                <a:latin typeface="Verdana"/>
              </a:rPr>
              <a:t>¿QUÉ SON?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4920" y="1136160"/>
            <a:ext cx="4521240" cy="33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lnSpc>
                <a:spcPct val="150000"/>
              </a:lnSpc>
              <a:spcBef>
                <a:spcPts val="451"/>
              </a:spcBef>
              <a:buClr>
                <a:srgbClr val="ff00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El colesterol</a:t>
            </a:r>
            <a:r>
              <a:rPr b="1" lang="es-ES" sz="1800" spc="-1" strike="noStrike">
                <a:solidFill>
                  <a:srgbClr val="f8f8f8"/>
                </a:solidFill>
                <a:latin typeface="Arial"/>
              </a:rPr>
              <a:t> es una sustancia cerosa y suave que se encuentra en todas las partes del cuerpo, entre ellas, el sistema nervioso, la piel, los músculos, el hígado, los intestinos y el corazón. Es elaborada por el cuerpo y también se obtiene de los alimentos.</a:t>
            </a: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8f8f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50" name="Picture 16" descr="Productores de colesterol"/>
          <p:cNvPicPr/>
          <p:nvPr/>
        </p:nvPicPr>
        <p:blipFill>
          <a:blip r:embed="rId1"/>
          <a:stretch/>
        </p:blipFill>
        <p:spPr>
          <a:xfrm>
            <a:off x="5148360" y="1268280"/>
            <a:ext cx="3736800" cy="32403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8"/>
          <p:cNvSpPr/>
          <p:nvPr/>
        </p:nvSpPr>
        <p:spPr>
          <a:xfrm>
            <a:off x="395280" y="4614840"/>
            <a:ext cx="8424720" cy="17398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8f8f8"/>
                </a:solidFill>
                <a:latin typeface="Verdana"/>
              </a:rPr>
              <a:t>Luego de comer, </a:t>
            </a:r>
            <a:r>
              <a:rPr b="1" lang="es-MX" sz="1800" spc="-1" strike="noStrike">
                <a:solidFill>
                  <a:srgbClr val="f8f8f8"/>
                </a:solidFill>
                <a:latin typeface="Verdana"/>
              </a:rPr>
              <a:t>nuestro </a:t>
            </a:r>
            <a:r>
              <a:rPr b="1" lang="es-ES" sz="1800" spc="-1" strike="noStrike">
                <a:solidFill>
                  <a:srgbClr val="f8f8f8"/>
                </a:solidFill>
                <a:latin typeface="Verdana"/>
              </a:rPr>
              <a:t> organismo digiere las grasas de los alimentos  liberando triglicéridos y colesterol a la sangre; éstos son transportados a todo el organismo para dar energía o para ser almacenados como grasa. Son componentes normales de la sangre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000"/>
                            </p:stCondLst>
                            <p:childTnLst>
                              <p:par>
                                <p:cTn id="14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0" y="260280"/>
            <a:ext cx="430992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00"/>
                </a:solidFill>
                <a:latin typeface="Verdana"/>
              </a:rPr>
              <a:t>¿CÓMO AFECTAN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403960" y="4935240"/>
            <a:ext cx="3456000" cy="16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Los trastornos cardiovasculares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son más comune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en hombres que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en mujeres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826920" y="4221000"/>
            <a:ext cx="3961080" cy="2289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s-ES" sz="2000" spc="-1" strike="noStrike" u="sng">
                <a:solidFill>
                  <a:srgbClr val="f8f8f8"/>
                </a:solidFill>
                <a:uFillTx/>
                <a:latin typeface="Arial"/>
              </a:rPr>
              <a:t>El accidente cerebrovascular secundario</a:t>
            </a: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 a la aterosclerosis afecta aproximadamente a 2 de cada 1.000 personas o a cerca del 50% de todas las personas que sufren un  mini  accidente cerebrovascular</a:t>
            </a:r>
            <a:r>
              <a:rPr b="0" lang="es-ES" sz="2400" spc="-1" strike="noStrike">
                <a:solidFill>
                  <a:srgbClr val="f8f8f8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395280" y="1413000"/>
            <a:ext cx="4321080" cy="2533320"/>
          </a:xfrm>
          <a:prstGeom prst="rect">
            <a:avLst/>
          </a:prstGeom>
          <a:noFill/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f8f8f8"/>
                </a:solidFill>
                <a:latin typeface="Arial"/>
              </a:rPr>
              <a:t>Los ataques cardíacos o infartos agudos al miocardio (IM)</a:t>
            </a: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 se presentan cuando una de las arterias que suplen al músculo del corazón se bloquea. El bloqueo puede ocurrir debido a espasmos de la arteria o por </a:t>
            </a:r>
            <a:r>
              <a:rPr b="0" lang="es-ES" sz="2000" spc="-1" strike="noStrike" u="sng">
                <a:solidFill>
                  <a:srgbClr val="f8f8f8"/>
                </a:solidFill>
                <a:uFillTx/>
                <a:latin typeface="Arial"/>
              </a:rPr>
              <a:t>aterosclerosis,</a:t>
            </a: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 con la formación de coágulos agudos.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5076720" y="1197000"/>
            <a:ext cx="3816360" cy="36000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Aproximadamente del 80 al 90% de las personas que sufren un accidente cerebrovascular debido a ateroesclerosis tuvieron un  </a:t>
            </a:r>
            <a:r>
              <a:rPr b="0" lang="es-ES" sz="2000" spc="-1" strike="noStrike" u="sng">
                <a:solidFill>
                  <a:srgbClr val="f8f8f8"/>
                </a:solidFill>
                <a:uFillTx/>
                <a:latin typeface="Arial"/>
              </a:rPr>
              <a:t>mini accidente cerebrovascular</a:t>
            </a: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  antes.</a:t>
            </a: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 Estos son una especie de alarma o advertencia de que se puede presentar un accidente cerebrovascular verdadero en el futuro si no se hace nada para prevenirlo.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7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" nodeType="afterEffect" fill="hold" presetClass="entr" presetID="18" presetSubtype="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0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3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6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9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5" descr="Embolia"/>
          <p:cNvPicPr/>
          <p:nvPr/>
        </p:nvPicPr>
        <p:blipFill>
          <a:blip r:embed="rId1"/>
          <a:stretch/>
        </p:blipFill>
        <p:spPr>
          <a:xfrm>
            <a:off x="5076720" y="333360"/>
            <a:ext cx="3810240" cy="30481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8"/>
          <p:cNvSpPr/>
          <p:nvPr/>
        </p:nvSpPr>
        <p:spPr>
          <a:xfrm>
            <a:off x="611280" y="1052640"/>
            <a:ext cx="424800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8f8f8"/>
                </a:solidFill>
                <a:latin typeface="Arial Black"/>
              </a:rPr>
              <a:t>   </a:t>
            </a:r>
            <a:r>
              <a:rPr b="1" lang="es-ES" sz="2800" spc="-1" strike="noStrike">
                <a:solidFill>
                  <a:srgbClr val="f8f8f8"/>
                </a:solidFill>
                <a:latin typeface="Arial Black"/>
              </a:rPr>
              <a:t>La ateroesclerosis</a:t>
            </a:r>
            <a:r>
              <a:rPr b="0" lang="es-ES" sz="2400" spc="-1" strike="noStrike">
                <a:solidFill>
                  <a:srgbClr val="f8f8f8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(“Endurecimiento de las arterias")</a:t>
            </a:r>
            <a:r>
              <a:rPr b="0" lang="es-ES" sz="2400" spc="-1" strike="noStrike">
                <a:solidFill>
                  <a:srgbClr val="f8f8f8"/>
                </a:solidFill>
                <a:latin typeface="Arial"/>
              </a:rPr>
              <a:t> ocurre cuando se acumulan sustancias grasas,  pegajosas, llamadas “placa” en el revestimiento interior de las arterias. La “placa” puede bloquear lentamente o estrechar una arteria  o puede provocar un coágulo </a:t>
            </a: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(trombo).</a:t>
            </a:r>
            <a:r>
              <a:rPr b="0" lang="es-ES" sz="2400" spc="-1" strike="noStrike">
                <a:solidFill>
                  <a:srgbClr val="f8f8f8"/>
                </a:solidFill>
                <a:latin typeface="Arial"/>
              </a:rPr>
              <a:t> Los coágulos pueden llevar a que se presente un </a:t>
            </a:r>
            <a:r>
              <a:rPr b="1" lang="es-ES" sz="2400" spc="-1" strike="noStrike" u="sng">
                <a:solidFill>
                  <a:srgbClr val="f8f8f8"/>
                </a:solidFill>
                <a:uFillTx/>
                <a:latin typeface="Arial"/>
              </a:rPr>
              <a:t>accidente cerebrovascular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5148360" y="3610080"/>
            <a:ext cx="3673440" cy="29599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1" lang="es-ES" sz="2800" spc="-1" strike="noStrike">
                <a:solidFill>
                  <a:srgbClr val="f8f8f8"/>
                </a:solidFill>
                <a:latin typeface="Arial"/>
              </a:rPr>
              <a:t>A</a:t>
            </a: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 medida que las arterias coronarias se estrechan, el flujo de sangre hacia el corazón puede hacerse más lento o detenerse, causando dolor en el pecho (angina estable), dificultad respiratoria, ataque cardíaco u otros síntomas.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1332000" y="260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00"/>
                </a:solidFill>
                <a:latin typeface="Verdana"/>
              </a:rPr>
              <a:t>¿QUÉ ES?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Acumulación de placa en las arterias"/>
          <p:cNvPicPr/>
          <p:nvPr/>
        </p:nvPicPr>
        <p:blipFill>
          <a:blip r:embed="rId1"/>
          <a:stretch/>
        </p:blipFill>
        <p:spPr>
          <a:xfrm>
            <a:off x="5651640" y="1268280"/>
            <a:ext cx="3492360" cy="27939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0"/>
          <p:cNvSpPr/>
          <p:nvPr/>
        </p:nvSpPr>
        <p:spPr>
          <a:xfrm>
            <a:off x="250920" y="1424160"/>
            <a:ext cx="5184720" cy="5306040"/>
          </a:xfrm>
          <a:prstGeom prst="rect">
            <a:avLst/>
          </a:prstGeom>
          <a:solidFill>
            <a:srgbClr val="f8f8f8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u="sng">
                <a:solidFill>
                  <a:srgbClr val="0099ff"/>
                </a:solidFill>
                <a:uFillTx/>
                <a:latin typeface="Arial"/>
                <a:hlinkClick r:id="rId3"/>
              </a:rPr>
              <a:t>Debilid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lang="es-ES" sz="1800" spc="-1" strike="noStrike" u="sng">
                <a:solidFill>
                  <a:srgbClr val="0099ff"/>
                </a:solidFill>
                <a:uFillTx/>
                <a:latin typeface="Arial"/>
                <a:hlinkClick r:id="rId4"/>
              </a:rPr>
              <a:t>parálisi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 un brazo, una pierna, un lado de la cara o cualquier parte del cuerpo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ff"/>
                </a:solidFill>
                <a:uFillTx/>
                <a:latin typeface="Arial"/>
                <a:hlinkClick r:id="rId6"/>
              </a:rPr>
              <a:t>Entumecimient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1800" spc="-1" strike="noStrike" u="sng">
                <a:solidFill>
                  <a:srgbClr val="0099ff"/>
                </a:solidFill>
                <a:uFillTx/>
                <a:latin typeface="Arial"/>
                <a:hlinkClick r:id="rId7"/>
              </a:rPr>
              <a:t>hormigue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o disminución de la sensibilidad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ff"/>
                </a:solidFill>
                <a:uFillTx/>
                <a:latin typeface="Arial"/>
                <a:hlinkClick r:id="rId9"/>
              </a:rPr>
              <a:t>Cambios en la vis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nguaje mal articulado, incapacidad para hablar o entender el lenguaje, dificultades para escribir o leer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ff"/>
                </a:solidFill>
                <a:uFillTx/>
                <a:latin typeface="Arial"/>
                <a:hlinkClick r:id="rId12"/>
              </a:rPr>
              <a:t>Dificultad para degluti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o babeo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érdida de la memoria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buSzPct val="10281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ff"/>
                </a:solidFill>
                <a:uFillTx/>
                <a:latin typeface="Arial"/>
                <a:hlinkClick r:id="rId15"/>
              </a:rPr>
              <a:t>Vértig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sensación anormal de movimiento)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buSzPct val="10281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ff"/>
                </a:solidFill>
                <a:uFillTx/>
                <a:latin typeface="Arial"/>
                <a:hlinkClick r:id="rId17"/>
              </a:rPr>
              <a:t>Pérdida del equilibrio o la coordin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buSzPct val="10281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mbios en la personalidad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buSzPct val="102812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mbios en el estado anímico ( </a:t>
            </a:r>
            <a:r>
              <a:rPr b="0" lang="es-ES" sz="1800" spc="-1" strike="noStrike" u="sng">
                <a:solidFill>
                  <a:srgbClr val="0099ff"/>
                </a:solidFill>
                <a:uFillTx/>
                <a:latin typeface="Arial"/>
                <a:hlinkClick r:id="rId20"/>
              </a:rPr>
              <a:t>depres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1800" spc="-1" strike="noStrike" u="sng">
                <a:solidFill>
                  <a:srgbClr val="0099ff"/>
                </a:solidFill>
                <a:uFillTx/>
                <a:latin typeface="Arial"/>
                <a:hlinkClick r:id="rId21"/>
              </a:rPr>
              <a:t>apatí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buSzPct val="102812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ff"/>
                </a:solidFill>
                <a:uFillTx/>
                <a:latin typeface="Arial"/>
                <a:hlinkClick r:id="rId23"/>
              </a:rPr>
              <a:t>Somnolenc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1800" spc="-1" strike="noStrike" u="sng">
                <a:solidFill>
                  <a:srgbClr val="0099ff"/>
                </a:solidFill>
                <a:uFillTx/>
                <a:latin typeface="Arial"/>
                <a:hlinkClick r:id="rId24"/>
              </a:rPr>
              <a:t>letarg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o pérdida del conocimiento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buSzPct val="102812"/>
              <a:buBlip>
                <a:blip r:embed="rId2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vimientos incontrolables de los ojos o párpados caídos 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1579680" y="104760"/>
            <a:ext cx="673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00"/>
                </a:solidFill>
                <a:latin typeface="Arial"/>
              </a:rPr>
              <a:t>SÍNTOMAS DE UN ACCIDENTE CEREBROVASCULAR :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5097600" y="4203720"/>
            <a:ext cx="3935160" cy="2379960"/>
          </a:xfrm>
          <a:prstGeom prst="rect">
            <a:avLst/>
          </a:prstGeom>
          <a:solidFill>
            <a:srgbClr val="ffffc9"/>
          </a:solidFill>
          <a:ln w="7632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 se presenta uno o más de estos síntomas durante menos de 24 horas, se puede tratar de un   mini accidente cerebrovascular (AIT), el cual es una pérdida temporal de la función cerebral y un signo de advertencia de un posible accidente cerebrovascular severo a futuro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000"/>
                            </p:stCondLst>
                            <p:childTnLst>
                              <p:par>
                                <p:cTn id="23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0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Síntomas de un ataque cardíaco"/>
          <p:cNvPicPr/>
          <p:nvPr/>
        </p:nvPicPr>
        <p:blipFill>
          <a:blip r:embed="rId1"/>
          <a:stretch/>
        </p:blipFill>
        <p:spPr>
          <a:xfrm>
            <a:off x="4932360" y="3809880"/>
            <a:ext cx="3672000" cy="29368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9"/>
          <p:cNvSpPr/>
          <p:nvPr/>
        </p:nvSpPr>
        <p:spPr>
          <a:xfrm>
            <a:off x="971640" y="4221000"/>
            <a:ext cx="3816360" cy="2410200"/>
          </a:xfrm>
          <a:prstGeom prst="rect">
            <a:avLst/>
          </a:prstGeom>
          <a:noFill/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8f8f8"/>
                </a:solidFill>
                <a:latin typeface="Arial"/>
              </a:rPr>
              <a:t>L</a:t>
            </a:r>
            <a:r>
              <a:rPr b="0" lang="es-ES" sz="2400" spc="-1" strike="noStrike">
                <a:solidFill>
                  <a:srgbClr val="f8f8f8"/>
                </a:solidFill>
                <a:latin typeface="Arial"/>
              </a:rPr>
              <a:t>os síntomas de un posible ataque cardíaco son, entre otros, dolor en el pecho y un dolor que se irradia al hombro y baja hacia el brazo.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5003640" y="836640"/>
            <a:ext cx="3816360" cy="2775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8f8f8"/>
                </a:solidFill>
                <a:latin typeface="Arial"/>
              </a:rPr>
              <a:t>S</a:t>
            </a:r>
            <a:r>
              <a:rPr b="0" lang="es-ES" sz="2400" spc="-1" strike="noStrike">
                <a:solidFill>
                  <a:srgbClr val="f8f8f8"/>
                </a:solidFill>
                <a:latin typeface="Arial"/>
              </a:rPr>
              <a:t>e presenta cuando el bajo flujo sanguíneo hace que el corazón sufra por la falta de oxígeno. El músculo cardíaco muere o resulta dañado en forma permanente.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68" name="Picture 14" descr="IM agudo"/>
          <p:cNvPicPr/>
          <p:nvPr/>
        </p:nvPicPr>
        <p:blipFill>
          <a:blip r:embed="rId2"/>
          <a:stretch/>
        </p:blipFill>
        <p:spPr>
          <a:xfrm>
            <a:off x="982800" y="981000"/>
            <a:ext cx="3809880" cy="30481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7"/>
          <p:cNvSpPr/>
          <p:nvPr/>
        </p:nvSpPr>
        <p:spPr>
          <a:xfrm>
            <a:off x="1292400" y="177840"/>
            <a:ext cx="77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c00"/>
                </a:solidFill>
                <a:latin typeface="Arial"/>
              </a:rPr>
              <a:t>EL INFARTO   O  ATAQUE AL CORAZÓN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6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820000" cy="66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¿QUÉ PUEDES HACER PARA EVITARLO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1" name="Picture 14" descr="m1.gif (23263 bytes)"/>
          <p:cNvPicPr/>
          <p:nvPr/>
        </p:nvPicPr>
        <p:blipFill>
          <a:blip r:embed="rId1"/>
          <a:stretch/>
        </p:blipFill>
        <p:spPr>
          <a:xfrm>
            <a:off x="1476360" y="1125360"/>
            <a:ext cx="822240" cy="7542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5"/>
          <p:cNvSpPr/>
          <p:nvPr/>
        </p:nvSpPr>
        <p:spPr>
          <a:xfrm>
            <a:off x="2498760" y="1639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73" name="Picture 16" descr="u1.gif (20653 bytes)"/>
          <p:cNvPicPr/>
          <p:nvPr/>
        </p:nvPicPr>
        <p:blipFill>
          <a:blip r:embed="rId2"/>
          <a:stretch/>
        </p:blipFill>
        <p:spPr>
          <a:xfrm>
            <a:off x="2411280" y="1125360"/>
            <a:ext cx="811440" cy="7318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7"/>
          <p:cNvSpPr/>
          <p:nvPr/>
        </p:nvSpPr>
        <p:spPr>
          <a:xfrm>
            <a:off x="3641760" y="1868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75" name="Picture 18" descr="e1.gif (19440 bytes)"/>
          <p:cNvPicPr/>
          <p:nvPr/>
        </p:nvPicPr>
        <p:blipFill>
          <a:blip r:embed="rId3"/>
          <a:stretch/>
        </p:blipFill>
        <p:spPr>
          <a:xfrm>
            <a:off x="3419640" y="1125360"/>
            <a:ext cx="696600" cy="7210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9" descr="v1.gif (21066 bytes)"/>
          <p:cNvPicPr/>
          <p:nvPr/>
        </p:nvPicPr>
        <p:blipFill>
          <a:blip r:embed="rId4"/>
          <a:stretch/>
        </p:blipFill>
        <p:spPr>
          <a:xfrm>
            <a:off x="4356000" y="1125360"/>
            <a:ext cx="765360" cy="7210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20"/>
          <p:cNvSpPr/>
          <p:nvPr/>
        </p:nvSpPr>
        <p:spPr>
          <a:xfrm>
            <a:off x="5470560" y="1792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78" name="Picture 21" descr="e1.gif (19440 bytes)"/>
          <p:cNvPicPr/>
          <p:nvPr/>
        </p:nvPicPr>
        <p:blipFill>
          <a:blip r:embed="rId5"/>
          <a:stretch/>
        </p:blipFill>
        <p:spPr>
          <a:xfrm>
            <a:off x="5292720" y="1125360"/>
            <a:ext cx="720720" cy="7430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2" descr="t1.gif (19680 bytes)"/>
          <p:cNvPicPr/>
          <p:nvPr/>
        </p:nvPicPr>
        <p:blipFill>
          <a:blip r:embed="rId6"/>
          <a:stretch/>
        </p:blipFill>
        <p:spPr>
          <a:xfrm>
            <a:off x="6248520" y="1143000"/>
            <a:ext cx="720720" cy="7318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23"/>
          <p:cNvSpPr/>
          <p:nvPr/>
        </p:nvSpPr>
        <p:spPr>
          <a:xfrm>
            <a:off x="7375680" y="224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81" name="Picture 24" descr="e1.gif (19440 bytes)"/>
          <p:cNvPicPr/>
          <p:nvPr/>
        </p:nvPicPr>
        <p:blipFill>
          <a:blip r:embed="rId7"/>
          <a:stretch/>
        </p:blipFill>
        <p:spPr>
          <a:xfrm>
            <a:off x="7162920" y="1143000"/>
            <a:ext cx="720720" cy="74304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25"/>
          <p:cNvSpPr/>
          <p:nvPr/>
        </p:nvSpPr>
        <p:spPr>
          <a:xfrm>
            <a:off x="0" y="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3" name="Text Box 26"/>
          <p:cNvSpPr/>
          <p:nvPr/>
        </p:nvSpPr>
        <p:spPr>
          <a:xfrm>
            <a:off x="755640" y="2205000"/>
            <a:ext cx="7632720" cy="36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66ffff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8f8f8"/>
                </a:solidFill>
                <a:latin typeface="Verdana"/>
              </a:rPr>
              <a:t> </a:t>
            </a:r>
            <a:r>
              <a:rPr b="1" lang="es-ES" sz="2000" spc="-1" strike="noStrike">
                <a:solidFill>
                  <a:srgbClr val="ffcc00"/>
                </a:solidFill>
                <a:latin typeface="Verdana"/>
              </a:rPr>
              <a:t>Aumenta la actividad </a:t>
            </a:r>
            <a:r>
              <a:rPr b="1" lang="es-MX" sz="20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es-ES" sz="2000" spc="-1" strike="noStrike">
                <a:solidFill>
                  <a:srgbClr val="ffcc00"/>
                </a:solidFill>
                <a:latin typeface="Verdana"/>
              </a:rPr>
              <a:t>física</a:t>
            </a:r>
            <a:r>
              <a:rPr b="1" lang="es-MX" sz="2000" spc="-1" strike="noStrike">
                <a:solidFill>
                  <a:srgbClr val="ffcc00"/>
                </a:solidFill>
                <a:latin typeface="Verdana"/>
              </a:rPr>
              <a:t>: </a:t>
            </a:r>
            <a:r>
              <a:rPr b="1" i="1" lang="es-MX" sz="2000" spc="-1" strike="noStrike">
                <a:solidFill>
                  <a:srgbClr val="f8f8f8"/>
                </a:solidFill>
                <a:latin typeface="Verdana"/>
              </a:rPr>
              <a:t>Caminar, Bailar, Nadar</a:t>
            </a:r>
            <a:r>
              <a:rPr b="1" lang="es-ES" sz="2000" spc="-1" strike="noStrike">
                <a:solidFill>
                  <a:srgbClr val="f8f8f8"/>
                </a:solidFill>
                <a:latin typeface="Verdana"/>
              </a:rPr>
              <a:t> </a:t>
            </a:r>
            <a:r>
              <a:rPr b="1" lang="es-MX" sz="2000" spc="-1" strike="noStrike">
                <a:solidFill>
                  <a:srgbClr val="f8f8f8"/>
                </a:solidFill>
                <a:latin typeface="Verdana"/>
              </a:rPr>
              <a:t> son </a:t>
            </a:r>
            <a:r>
              <a:rPr b="1" lang="es-ES" sz="2000" spc="-1" strike="noStrike">
                <a:solidFill>
                  <a:srgbClr val="f8f8f8"/>
                </a:solidFill>
                <a:latin typeface="Verdana"/>
              </a:rPr>
              <a:t> buena</a:t>
            </a:r>
            <a:r>
              <a:rPr b="1" lang="es-MX" sz="2000" spc="-1" strike="noStrike">
                <a:solidFill>
                  <a:srgbClr val="f8f8f8"/>
                </a:solidFill>
                <a:latin typeface="Verdana"/>
              </a:rPr>
              <a:t>s</a:t>
            </a:r>
            <a:r>
              <a:rPr b="1" lang="es-ES" sz="2000" spc="-1" strike="noStrike">
                <a:solidFill>
                  <a:srgbClr val="f8f8f8"/>
                </a:solidFill>
                <a:latin typeface="Verdana"/>
              </a:rPr>
              <a:t> opción</a:t>
            </a:r>
            <a:r>
              <a:rPr b="1" lang="es-MX" sz="2000" spc="-1" strike="noStrike">
                <a:solidFill>
                  <a:srgbClr val="f8f8f8"/>
                </a:solidFill>
                <a:latin typeface="Verdana"/>
              </a:rPr>
              <a:t>es </a:t>
            </a:r>
            <a:r>
              <a:rPr b="1" lang="es-ES" sz="2000" spc="-1" strike="noStrike">
                <a:solidFill>
                  <a:srgbClr val="f8f8f8"/>
                </a:solidFill>
                <a:latin typeface="Verdana"/>
              </a:rPr>
              <a:t> para reducir el nivel de triglicéridos en sangre</a:t>
            </a:r>
            <a:r>
              <a:rPr b="1" lang="es-MX" sz="2000" spc="-1" strike="noStrike">
                <a:solidFill>
                  <a:srgbClr val="f8f8f8"/>
                </a:solidFill>
                <a:latin typeface="Verdana"/>
              </a:rPr>
              <a:t> y </a:t>
            </a:r>
            <a:r>
              <a:rPr b="1" lang="es-ES" sz="2000" spc="-1" strike="noStrike">
                <a:solidFill>
                  <a:srgbClr val="ffcc00"/>
                </a:solidFill>
                <a:latin typeface="Verdana"/>
              </a:rPr>
              <a:t>Perder peso.</a:t>
            </a:r>
            <a:r>
              <a:rPr b="1" lang="es-ES" sz="2000" spc="-1" strike="noStrike">
                <a:solidFill>
                  <a:srgbClr val="f8f8f8"/>
                </a:solidFill>
                <a:latin typeface="Verdana"/>
              </a:rPr>
              <a:t> Generalmente, cuando se pierde peso, se logra bajar los niveles tanto del colesterol como de los triglicéridos</a:t>
            </a:r>
            <a:r>
              <a:rPr b="1" lang="es-MX" sz="2000" spc="-1" strike="noStrike">
                <a:solidFill>
                  <a:srgbClr val="f8f8f8"/>
                </a:solidFill>
                <a:latin typeface="Verdana"/>
              </a:rPr>
              <a:t>.</a:t>
            </a:r>
            <a:r>
              <a:rPr b="1" lang="es-ES" sz="2000" spc="-1" strike="noStrike">
                <a:solidFill>
                  <a:srgbClr val="f8f8f8"/>
                </a:solidFill>
                <a:latin typeface="Verdana"/>
              </a:rPr>
              <a:t> </a:t>
            </a:r>
            <a:r>
              <a:rPr b="1" lang="es-MX" sz="2000" spc="-1" strike="noStrike">
                <a:solidFill>
                  <a:srgbClr val="f8f8f8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66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66ffff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es-ES" sz="2000" spc="-1" strike="noStrike">
                <a:solidFill>
                  <a:srgbClr val="ffcc00"/>
                </a:solidFill>
                <a:latin typeface="Verdana"/>
              </a:rPr>
              <a:t>Una dieta sana y equilibrada</a:t>
            </a:r>
            <a:r>
              <a:rPr b="1" lang="es-MX" sz="2000" spc="-1" strike="noStrike">
                <a:solidFill>
                  <a:srgbClr val="ffcc00"/>
                </a:solidFill>
                <a:latin typeface="Verdana"/>
              </a:rPr>
              <a:t>:</a:t>
            </a:r>
            <a:r>
              <a:rPr b="1" lang="es-ES" sz="20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es-ES" sz="2000" spc="-1" strike="noStrike">
                <a:solidFill>
                  <a:srgbClr val="f8f8f8"/>
                </a:solidFill>
                <a:latin typeface="Verdana"/>
              </a:rPr>
              <a:t>es esencial </a:t>
            </a:r>
            <a:r>
              <a:rPr b="1" lang="es-ES" sz="2000" spc="-1" strike="noStrike">
                <a:solidFill>
                  <a:srgbClr val="ffcc00"/>
                </a:solidFill>
                <a:latin typeface="Verdana"/>
              </a:rPr>
              <a:t>Control</a:t>
            </a:r>
            <a:r>
              <a:rPr b="1" lang="es-MX" sz="2000" spc="-1" strike="noStrike">
                <a:solidFill>
                  <a:srgbClr val="ffcc00"/>
                </a:solidFill>
                <a:latin typeface="Verdana"/>
              </a:rPr>
              <a:t>ar la </a:t>
            </a:r>
            <a:r>
              <a:rPr b="1" lang="es-ES" sz="2000" spc="-1" strike="noStrike">
                <a:solidFill>
                  <a:srgbClr val="ffcc00"/>
                </a:solidFill>
                <a:latin typeface="Verdana"/>
              </a:rPr>
              <a:t> ingesta de carbohidratos y azúcar</a:t>
            </a:r>
            <a:r>
              <a:rPr b="1" lang="es-ES" sz="2000" spc="-1" strike="noStrike">
                <a:solidFill>
                  <a:srgbClr val="f8f8f8"/>
                </a:solidFill>
                <a:latin typeface="Verdana"/>
              </a:rPr>
              <a:t>. Es importante disminuir la cantidad de carbohidratos consumidos (pan, arroz, </a:t>
            </a:r>
            <a:r>
              <a:rPr b="1" lang="es-MX" sz="2000" spc="-1" strike="noStrike">
                <a:solidFill>
                  <a:srgbClr val="f8f8f8"/>
                </a:solidFill>
                <a:latin typeface="Verdana"/>
              </a:rPr>
              <a:t>galletas,</a:t>
            </a:r>
            <a:r>
              <a:rPr b="1" lang="es-ES" sz="2000" spc="-1" strike="noStrike">
                <a:solidFill>
                  <a:srgbClr val="f8f8f8"/>
                </a:solidFill>
                <a:latin typeface="Verdana"/>
              </a:rPr>
              <a:t> patatas y verduras harinosas, pastas</a:t>
            </a:r>
            <a:r>
              <a:rPr b="1" lang="es-MX" sz="2000" spc="-1" strike="noStrike">
                <a:solidFill>
                  <a:srgbClr val="f8f8f8"/>
                </a:solidFill>
                <a:latin typeface="Verdana"/>
              </a:rPr>
              <a:t>.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4" name="Text Box 27"/>
          <p:cNvSpPr/>
          <p:nvPr/>
        </p:nvSpPr>
        <p:spPr>
          <a:xfrm>
            <a:off x="1228320" y="21337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000"/>
                            </p:stCondLst>
                            <p:childTnLst>
                              <p:par>
                                <p:cTn id="2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7000"/>
                            </p:stCondLst>
                            <p:childTnLst>
                              <p:par>
                                <p:cTn id="2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9T13:44:24Z</dcterms:created>
  <dc:creator>RODRIGUEZ MASSIMO</dc:creator>
  <dc:description/>
  <dc:language>en-US</dc:language>
  <cp:lastModifiedBy>Tec de Monterrey</cp:lastModifiedBy>
  <dcterms:modified xsi:type="dcterms:W3CDTF">2010-06-05T00:12:23Z</dcterms:modified>
  <cp:revision>21</cp:revision>
  <dc:subject/>
  <dc:title>TRIGLICERIDOS</dc:title>
</cp:coreProperties>
</file>