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Pista_3_MONO_RECORTE_A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A04D-03C1-464A-98DF-F0C9F8B2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7A8F-41D2-40DA-8A4A-D1451F8D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1E2-0EE4-48AE-8C63-DD4F418A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AFCF-0215-4B27-A1B5-1F79B9B7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12F2-9F4F-4641-9DD1-3F5C154C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6112-A181-4429-82AD-437F653B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460B-229B-41A8-8413-56684E7E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174F-1C58-45DE-90BB-71BF72CB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AC11-ED47-4114-93E1-BA67E1DD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25C0-F1B5-4D29-A581-CE13ACE3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5DE8-6160-4C1D-9CD8-7FFE05E1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AB07-0C9C-4648-9555-7ABC81E8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E97D-2ED9-4D96-AC88-67DE54D87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ista_3_MONO_RECORTE_AD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r.groups.yahoo.com/group/peque_semillitas/" TargetMode="External"/><Relationship Id="rId2" Type="http://schemas.openxmlformats.org/officeDocument/2006/relationships/hyperlink" Target="http://ar.groups.yahoo.com/group/peque_semillitas/" TargetMode="External"/><Relationship Id="rId3" Type="http://schemas.openxmlformats.org/officeDocument/2006/relationships/hyperlink" Target="http://ar.groups.yahoo.com/group/peque_semillitas/" TargetMode="External"/><Relationship Id="rId4" Type="http://schemas.openxmlformats.org/officeDocument/2006/relationships/hyperlink" Target="http://ar.groups.yahoo.com/group/peque_semillitas/" TargetMode="External"/><Relationship Id="rId5" Type="http://schemas.openxmlformats.org/officeDocument/2006/relationships/hyperlink" Target="http://ar.groups.yahoo.com/group/peque_semillitas/" TargetMode="External"/><Relationship Id="rId6" Type="http://schemas.openxmlformats.org/officeDocument/2006/relationships/hyperlink" Target="http://ar.groups.yahoo.com/group/peque_semillitas/" TargetMode="External"/><Relationship Id="rId7" Type="http://schemas.openxmlformats.org/officeDocument/2006/relationships/hyperlink" Target="http://ar.groups.yahoo.com/group/peque_semillitas/" TargetMode="External"/><Relationship Id="rId8" Type="http://schemas.openxmlformats.org/officeDocument/2006/relationships/hyperlink" Target="http://ar.groups.yahoo.com/group/peque_semillitas/" TargetMode="External"/><Relationship Id="rId9" Type="http://schemas.openxmlformats.org/officeDocument/2006/relationships/hyperlink" Target="mailto:peque_semillitas-subscribe@gruposyahoo.com.ar" TargetMode="External"/><Relationship Id="rId10" Type="http://schemas.openxmlformats.org/officeDocument/2006/relationships/hyperlink" Target="mailto:peque_semillitas-subscribe@gruposyahoo.com.ar" TargetMode="External"/><Relationship Id="rId11" Type="http://schemas.openxmlformats.org/officeDocument/2006/relationships/hyperlink" Target="mailto:peque_semillitas-subscribe@gruposyahoo.com.ar" TargetMode="External"/><Relationship Id="rId12" Type="http://schemas.openxmlformats.org/officeDocument/2006/relationships/hyperlink" Target="http://peque-semillitas.blogspot.com/" TargetMode="External"/><Relationship Id="rId13" Type="http://schemas.openxmlformats.org/officeDocument/2006/relationships/hyperlink" Target="http://peque-semillitas.blogspot.com/" TargetMode="External"/><Relationship Id="rId14" Type="http://schemas.openxmlformats.org/officeDocument/2006/relationships/hyperlink" Target="http://peque-semillitas.blogspot.com/" TargetMode="External"/><Relationship Id="rId15" Type="http://schemas.openxmlformats.org/officeDocument/2006/relationships/hyperlink" Target="http://peque-semillitas.blogspot.com/" TargetMode="External"/><Relationship Id="rId16" Type="http://schemas.openxmlformats.org/officeDocument/2006/relationships/image" Target="../media/image8.gif"/><Relationship Id="rId17" Type="http://schemas.openxmlformats.org/officeDocument/2006/relationships/audio" Target="../media/Pista_3_MONO_RECORTE_AD.wav"/><Relationship Id="rId1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74960" y="1052640"/>
            <a:ext cx="696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Comienza el tiemp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omic Sans MS"/>
              </a:rPr>
              <a:t>de grandes oportunidad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4360" y="4292640"/>
            <a:ext cx="7200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8100000"/>
                </a:gradFill>
                <a:latin typeface="Comic Sans MS"/>
              </a:rPr>
              <a:t>La Cuaresma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1809360" y="2708280"/>
            <a:ext cx="541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d4d4d"/>
                </a:solidFill>
                <a:latin typeface="Comic Sans MS"/>
              </a:rPr>
              <a:t>No de rebaj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32720" y="595008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  <p:sndAc>
      <p:stSnd>
        <p:snd r:embed="rId2" name="Pista_3_MONO_RECORTE_A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4100"/>
                            </p:stCondLst>
                            <p:childTnLst>
                              <p:par>
                                <p:cTn id="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9100"/>
                            </p:stCondLst>
                            <p:childTnLst>
                              <p:par>
                                <p:cTn id="18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056240" y="333360"/>
            <a:ext cx="652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os convoca a su pueb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03360" y="263988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WP TypographicSymbols"/>
              </a:rPr>
              <a:t> “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vertíos a 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todo corazó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77920" y="566424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1" lang="en-US" sz="1800" spc="-1" strike="noStrike">
                <a:solidFill>
                  <a:srgbClr val="ff00ff"/>
                </a:solidFill>
                <a:latin typeface="WP TypographicSymbol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P TypographicSymbols"/>
              </a:rPr>
              <a:t>“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isericordia, Señ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rque hemos pecad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31000" y="4584600"/>
            <a:ext cx="25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WP TypographicSymbols"/>
              </a:rPr>
              <a:t> “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jaos reconcili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 Dio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51360" y="3648240"/>
            <a:ext cx="26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WP TypographicSymbols"/>
              </a:rPr>
              <a:t> “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os es compas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y misericordios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5484960"/>
            <a:ext cx="2016000" cy="137376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Miérco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cen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700"/>
                            </p:stCondLst>
                            <p:childTnLst>
                              <p:par>
                                <p:cTn id="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500"/>
                            </p:stCondLst>
                            <p:childTnLst>
                              <p:par>
                                <p:cTn id="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300"/>
                            </p:stCondLst>
                            <p:childTnLst>
                              <p:par>
                                <p:cTn id="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3900"/>
                            </p:stCondLst>
                            <p:childTnLst>
                              <p:par>
                                <p:cTn id="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202440" y="2349360"/>
            <a:ext cx="196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er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los de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53200" y="692280"/>
            <a:ext cx="748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hora es el tiempo favor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41200" y="4148280"/>
            <a:ext cx="2073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WP TypographicSymbol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WP TypographicSymbol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ren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WP TypographicSymbol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WP TypographicSymbol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d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WP TypographicSymbols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ena aco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5724360" cy="4106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600"/>
                            </p:stCondLst>
                            <p:childTnLst>
                              <p:par>
                                <p:cTn id="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62360" y="0"/>
            <a:ext cx="44816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16120" y="335772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ertura a 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2120" y="4219560"/>
            <a:ext cx="285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WP TypographicSymbol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cucha de la Pala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WP TypographicSymbol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WP TypographicSymbol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ucarist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WP TypographicSymbol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ncil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600"/>
                            </p:stCondLst>
                            <p:childTnLst>
                              <p:par>
                                <p:cTn id="10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797080" y="256536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 i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6680" y="3933720"/>
            <a:ext cx="274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WP TypographicSymbol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uto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WP TypographicSymbol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quilibrio en nuest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scala de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WP TypographicSymbols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WP TypographicSymbol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Renuncia a co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superfl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5796000" cy="4464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243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312440" y="3579840"/>
            <a:ext cx="30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 tienta la desesperanz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falta de utop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57720" y="1158840"/>
            <a:ext cx="456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 tienta el tener tiempo para 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nos para lo import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 lamentarlo, pero no hacer n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 cambiar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4720" y="5229360"/>
            <a:ext cx="456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 tienta creer que te escu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uando escucho mi vo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¡Enséñame a discerni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me luz para distinguir tu ros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57720" y="2513160"/>
            <a:ext cx="456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 tienta, Señor, el desalien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 difícil que a veces se presentan las co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30800" y="444348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 tienta el dejarlo para mañan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uando hay que empezar a cambiar ho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488360" cy="492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659640" y="5300640"/>
            <a:ext cx="1512720" cy="289080"/>
          </a:xfrm>
          <a:prstGeom prst="rect">
            <a:avLst/>
          </a:prstGeom>
          <a:solidFill>
            <a:srgbClr val="1111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1360" y="5943600"/>
            <a:ext cx="83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3300"/>
                </a:solidFill>
                <a:latin typeface="Comic Sans MS"/>
              </a:rPr>
              <a:t>Vive una Santa Cuaresm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16800" y="189000"/>
            <a:ext cx="1192680" cy="368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6600"/>
              </a:gs>
            </a:gsLst>
            <a:lin ang="5400000"/>
          </a:gra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  <a:ea typeface="Arial Unicode MS"/>
              </a:rPr>
              <a:t>© G. P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60160" y="143280"/>
            <a:ext cx="828396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listo MT"/>
              </a:rPr>
              <a:t>"Pequeñas Semillita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sto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sto MT"/>
              </a:rPr>
              <a:t>Boletín diario sobre temas de interés gene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sto MT"/>
              </a:rPr>
              <a:t>y de reflexión personal con orientación cristi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sto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sto MT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Calisto MT"/>
              </a:rPr>
              <a:t>1) Puedes recibirlas diariamente en tu correo suscribiéndote gratis 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sto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Calisto MT"/>
                <a:hlinkClick r:id="rId1"/>
              </a:rPr>
              <a:t>http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Calisto MT"/>
                <a:hlinkClick r:id="rId2"/>
              </a:rPr>
              <a:t>://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Calisto MT"/>
                <a:hlinkClick r:id="rId3"/>
              </a:rPr>
              <a:t>ar.groups.yahoo.com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Calisto MT"/>
                <a:hlinkClick r:id="rId4"/>
              </a:rPr>
              <a:t>/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Calisto MT"/>
                <a:hlinkClick r:id="rId5"/>
              </a:rPr>
              <a:t>group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Calisto MT"/>
                <a:hlinkClick r:id="rId6"/>
              </a:rPr>
              <a:t>/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Calisto MT"/>
                <a:hlinkClick r:id="rId7"/>
              </a:rPr>
              <a:t>peque_semillitas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Calisto MT"/>
                <a:hlinkClick r:id="rId8"/>
              </a:rPr>
              <a:t>/</a:t>
            </a:r>
            <a:r>
              <a:rPr b="1" lang="es-ES_tradnl" sz="18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Calisto MT"/>
                <a:hlinkClick r:id="rId9"/>
              </a:rPr>
              <a:t>peque_semillitas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Calisto MT"/>
                <a:hlinkClick r:id="rId10"/>
              </a:rPr>
              <a:t>-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Calisto MT"/>
                <a:hlinkClick r:id="rId11"/>
              </a:rPr>
              <a:t>subscribe@gruposyahoo.com.ar</a:t>
            </a:r>
            <a:r>
              <a:rPr b="1" lang="es-ES_tradnl" sz="18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sto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Calisto MT"/>
              </a:rPr>
              <a:t>2) Puedes leerlas actualizadas diariamente en el blog de interne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sto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 u="sng">
                <a:solidFill>
                  <a:srgbClr val="009999"/>
                </a:solidFill>
                <a:uFillTx/>
                <a:latin typeface="Calisto MT"/>
                <a:hlinkClick r:id="rId12"/>
              </a:rPr>
              <a:t>http</a:t>
            </a:r>
            <a:r>
              <a:rPr b="0" lang="es-VE" sz="1800" spc="-1" strike="noStrike" u="sng">
                <a:solidFill>
                  <a:srgbClr val="009999"/>
                </a:solidFill>
                <a:uFillTx/>
                <a:latin typeface="Calisto MT"/>
                <a:hlinkClick r:id="rId13"/>
              </a:rPr>
              <a:t>://peque-</a:t>
            </a:r>
            <a:r>
              <a:rPr b="0" lang="es-VE" sz="1800" spc="-1" strike="noStrike" u="sng">
                <a:solidFill>
                  <a:srgbClr val="009999"/>
                </a:solidFill>
                <a:uFillTx/>
                <a:latin typeface="Calisto MT"/>
                <a:hlinkClick r:id="rId14"/>
              </a:rPr>
              <a:t>semillitas.blogspot.com</a:t>
            </a:r>
            <a:r>
              <a:rPr b="0" lang="es-VE" sz="1800" spc="-1" strike="noStrike" u="sng">
                <a:solidFill>
                  <a:srgbClr val="009999"/>
                </a:solidFill>
                <a:uFillTx/>
                <a:latin typeface="Calisto MT"/>
                <a:hlinkClick r:id="rId15"/>
              </a:rPr>
              <a:t>/</a:t>
            </a:r>
            <a:r>
              <a:rPr b="0" lang="es-VE" sz="18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3851280" y="4941720"/>
            <a:ext cx="1905120" cy="1047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  <p:sndAc>
      <p:stSnd>
        <p:snd r:embed="rId17" name="Pista_3_MONO_RECORTE_A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9:20:46Z</dcterms:created>
  <dc:creator>Zapisa</dc:creator>
  <dc:description/>
  <dc:language>en-US</dc:language>
  <cp:lastModifiedBy>usuario</cp:lastModifiedBy>
  <dcterms:modified xsi:type="dcterms:W3CDTF">2011-03-07T13:39:33Z</dcterms:modified>
  <cp:revision>38</cp:revision>
  <dc:subject/>
  <dc:title>Diapositiva 1</dc:title>
</cp:coreProperties>
</file>