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ista_3_MONO_RECORTE_A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9E2-CEB3-40E5-8110-8C422234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060-E387-4A7E-B454-A798572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88E-BAA4-4701-9276-B521644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FAD-15B7-4F9C-9BA5-4708B8DF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153-084E-4F10-AE56-4A631E1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065-5FB6-4856-BB44-5B4BF5F0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572-C4F3-4417-BDD6-EA4393C8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BB4-BEA6-40AE-8E79-25B31E88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A36-0481-4FBB-B98E-EDE7F9A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5DC-48E6-435F-A1FC-5FDBB71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DBF-5D64-427D-843C-925D077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068-3E13-4C67-91D7-BF97D19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7A13-591B-4377-905A-DAA10926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ista_3_MONO_RECORTE_AD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r.groups.yahoo.com/group/peque_semillitas/" TargetMode="External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http://ar.groups.yahoo.com/group/peque_semillitas/" TargetMode="External"/><Relationship Id="rId4" Type="http://schemas.openxmlformats.org/officeDocument/2006/relationships/hyperlink" Target="http://ar.groups.yahoo.com/group/peque_semillitas/" TargetMode="External"/><Relationship Id="rId5" Type="http://schemas.openxmlformats.org/officeDocument/2006/relationships/hyperlink" Target="http://ar.groups.yahoo.com/group/peque_semillitas/" TargetMode="External"/><Relationship Id="rId6" Type="http://schemas.openxmlformats.org/officeDocument/2006/relationships/hyperlink" Target="http://ar.groups.yahoo.com/group/peque_semillitas/" TargetMode="External"/><Relationship Id="rId7" Type="http://schemas.openxmlformats.org/officeDocument/2006/relationships/hyperlink" Target="http://ar.groups.yahoo.com/group/peque_semillitas/" TargetMode="External"/><Relationship Id="rId8" Type="http://schemas.openxmlformats.org/officeDocument/2006/relationships/hyperlink" Target="http://ar.groups.yahoo.com/group/peque_semillitas/" TargetMode="External"/><Relationship Id="rId9" Type="http://schemas.openxmlformats.org/officeDocument/2006/relationships/hyperlink" Target="mailto:peque_semillitas-subscribe@gruposyahoo.com.ar" TargetMode="External"/><Relationship Id="rId10" Type="http://schemas.openxmlformats.org/officeDocument/2006/relationships/hyperlink" Target="mailto:peque_semillitas-subscribe@gruposyahoo.com.ar" TargetMode="External"/><Relationship Id="rId11" Type="http://schemas.openxmlformats.org/officeDocument/2006/relationships/hyperlink" Target="mailto:peque_semillitas-subscribe@gruposyahoo.com.ar" TargetMode="External"/><Relationship Id="rId12" Type="http://schemas.openxmlformats.org/officeDocument/2006/relationships/hyperlink" Target="http://peque-semillitas.blogspot.com/" TargetMode="External"/><Relationship Id="rId13" Type="http://schemas.openxmlformats.org/officeDocument/2006/relationships/hyperlink" Target="http://peque-semillitas.blogspot.com/" TargetMode="External"/><Relationship Id="rId14" Type="http://schemas.openxmlformats.org/officeDocument/2006/relationships/hyperlink" Target="http://peque-semillitas.blogspot.com/" TargetMode="External"/><Relationship Id="rId15" Type="http://schemas.openxmlformats.org/officeDocument/2006/relationships/hyperlink" Target="http://peque-semillitas.blogspot.com/" TargetMode="External"/><Relationship Id="rId16" Type="http://schemas.openxmlformats.org/officeDocument/2006/relationships/image" Target="../media/image8.gif"/><Relationship Id="rId17" Type="http://schemas.openxmlformats.org/officeDocument/2006/relationships/audio" Target="../media/Pista_3_MONO_RECORTE_AD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74960" y="1052640"/>
            <a:ext cx="696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Comienza el tiemp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de grandes oportunida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4292640"/>
            <a:ext cx="72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8100000"/>
                </a:gradFill>
                <a:latin typeface="Comic Sans MS"/>
              </a:rPr>
              <a:t>La Cuaresm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809360" y="2708280"/>
            <a:ext cx="541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Comic Sans MS"/>
              </a:rPr>
              <a:t>No de rebaj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595008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Pista_3_MONO_RECORTE_A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9100"/>
                            </p:stCondLst>
                            <p:childTnLst>
                              <p:par>
                                <p:cTn id="1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056240" y="333360"/>
            <a:ext cx="65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os convoca a su pueb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3360" y="26398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vertíos a 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todo coraz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77920" y="56642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ff00ff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ericordia, Señ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que hemos pec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1000" y="458460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jaos reconcil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 D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1360" y="3648240"/>
            <a:ext cx="26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 es compas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misericordios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484960"/>
            <a:ext cx="2016000" cy="13737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Miérco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cen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70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3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39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02440" y="23493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er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o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53200" y="692280"/>
            <a:ext cx="74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hora es el tiempo favo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41200" y="4148280"/>
            <a:ext cx="207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ena aco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72436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600"/>
                            </p:stCondLst>
                            <p:childTnLst>
                              <p:par>
                                <p:cTn id="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236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16120" y="335772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ertura a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2120" y="4219560"/>
            <a:ext cx="28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cucha de la Pala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ucaris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c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6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7080" y="256536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6680" y="3933720"/>
            <a:ext cx="274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uto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quilibrio en nues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ca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nuncia a c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uperfl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796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2440" y="357984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la desesperan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falta de utop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7720" y="115884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el tener tiempo para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nos para lo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mentarlo, pero no hacer 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 cambi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522936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creer que te es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escucho mi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¡Enséñame a discerni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e luz para distinguir tu ro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57720" y="251316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, Señor, el desal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difícil que a veces se presentan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30800" y="44434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el dejarlo para maña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hay que empezar a cambiar h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488360" cy="492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59640" y="5300640"/>
            <a:ext cx="1512720" cy="289080"/>
          </a:xfrm>
          <a:prstGeom prst="rect">
            <a:avLst/>
          </a:prstGeom>
          <a:solidFill>
            <a:srgbClr val="111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360" y="5943600"/>
            <a:ext cx="83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Comic Sans MS"/>
              </a:rPr>
              <a:t>Vive una Santa Cuares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6800" y="189000"/>
            <a:ext cx="1192680" cy="368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  <a:ea typeface="Arial Unicode MS"/>
              </a:rPr>
              <a:t>© G. 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0160" y="143280"/>
            <a:ext cx="828396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sto MT"/>
              </a:rPr>
              <a:t>"Pequeñas Semillit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Boletín diario sobre temas de interés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y de reflexión personal con orientación crist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Calisto MT"/>
              </a:rPr>
              <a:t>1) Puedes recibirlas diariamente en tu correo suscribiéndote gratis 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"/>
              </a:rPr>
              <a:t>htt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2"/>
              </a:rPr>
              <a:t>:/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3"/>
              </a:rPr>
              <a:t>ar.groups.yahoo.com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4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5"/>
              </a:rPr>
              <a:t>grou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6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7"/>
              </a:rPr>
              <a:t>peque_semillita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8"/>
              </a:rPr>
              <a:t>/</a:t>
            </a: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9"/>
              </a:rPr>
              <a:t>peque_semillita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0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1"/>
              </a:rPr>
              <a:t>subscribe@gruposyahoo.com.ar</a:t>
            </a: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Calisto MT"/>
              </a:rPr>
              <a:t>2) Puedes leerlas actualizadas diariamente en el blog de intern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2"/>
              </a:rPr>
              <a:t>http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3"/>
              </a:rPr>
              <a:t>://peque-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4"/>
              </a:rPr>
              <a:t>semillitas.blogspot.com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5"/>
              </a:rPr>
              <a:t>/</a:t>
            </a:r>
            <a:r>
              <a:rPr b="0" lang="es-VE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3851280" y="4941720"/>
            <a:ext cx="190512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17" name="Pista_3_MONO_RECORTE_A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9:20:46Z</dcterms:created>
  <dc:creator>Zapisa</dc:creator>
  <dc:description/>
  <dc:language>en-US</dc:language>
  <cp:lastModifiedBy>usuario</cp:lastModifiedBy>
  <dcterms:modified xsi:type="dcterms:W3CDTF">2011-03-07T13:39:33Z</dcterms:modified>
  <cp:revision>38</cp:revision>
  <dc:subject/>
  <dc:title>Diapositiva 1</dc:title>
</cp:coreProperties>
</file>