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755-DC26-405F-A8E9-1805C623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89B-960D-453D-8B76-5B9DC76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E24-BE0B-4D49-AC0B-D509490C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666-CF3C-46A2-BED7-101A877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9395-13D5-4CFB-9C3F-835BB9B4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55E-AC11-457E-B908-D3F1803D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A164-3977-4958-B05F-0FF17A9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D8CF-6DF9-44F7-A414-2FE0716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87E3-0489-43F8-9477-CBD95541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687D-DBDE-44E1-94D3-2F8FD773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8819-8F05-49B4-9B3E-648A3780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0F6-2700-4C8D-924E-1A35602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938-CAC7-476C-8E4A-F3E5B83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D39-E0D7-44BC-A96A-3FD6EF0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7427-0A4E-434B-8DFB-8196814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7A60-2BC6-42D6-851B-7D8D4B98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A1DC-AB33-4A01-8369-D28274C0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AA1-6699-4390-BAD1-49FB4C81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EC5-5D2F-421E-8F41-C3DAB2F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9AE-1D8B-4134-BBF5-543184F6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0C7-557A-4883-B778-8AFDE95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602-1477-4B41-B3B9-69D9FE0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610-4684-43BA-8B0E-7FA922EB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279-7811-40C0-A2D2-D3AE883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D527-767A-4435-B6B7-2F0CB2E5B1A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9EA-64B9-44EE-B983-43046A84ECAA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100" spc="-1" strike="noStrike">
                <a:solidFill>
                  <a:srgbClr val="ffffff"/>
                </a:solidFill>
                <a:latin typeface="Arial"/>
              </a:rPr>
              <a:t>BEBA AGUA CON EL ESTOMAGO VACÍO</a:t>
            </a: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1952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Seamos cuidadosos y estemos alerta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Mientras más sepamos mayor oportunidad de sobrevivi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Un cardiólogo dice que si todo el que recibe este correo se lo envía  a cada una de las personas que conoce, usted puede estar seguro de que salvaremos al menos una vida.</a:t>
            </a:r>
            <a:br>
              <a:rPr sz="2700"/>
            </a:b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90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95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200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r favor, sea un amigo verdadero y envíe este artículo a todos sus amigos y conocidos que le importen</a:t>
            </a: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08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09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618920" y="1844640"/>
            <a:ext cx="6697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ffffff"/>
                </a:solidFill>
                <a:latin typeface="Arial"/>
              </a:rPr>
              <a:t>Hoy en Japón es popular beber agua inmediatamente al levantarse en  la mañana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demás, pruebas científicas han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robado estos valores. 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s adelante divulgamos una descripción del uso del agua para nuestros lect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ara personas mayores y con enfermedades serias así como con enfermedades modernas el tratamiento del agua ha sido de mucho éxito para la sociedad médica Japonesa con una cura de hasta 100% para las  siguientes enfermedade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Dolor de cabeza, dolor de cuerpo, sistema del corazón, artritis, taquicardia, epilepsia, exceso de gordura, bronquitis, asma, TB, meningitis, enfermedades urinarias y del riñón, vómitos, gastritis, diarrea, diabetes, hemorroides, todas las </a:t>
            </a: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enfermedades del ojo, constipación, útero, cáncer y desordenes menstruales, enfermedades del  oído, nariz y garganta..</a:t>
            </a:r>
            <a:br>
              <a:rPr sz="2700"/>
            </a:b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ÉTODO DEL TRATAMIEN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153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1. Al levantarse en la mañana y antes de lavarse los dientes, beba 4  x 160ml (5.5 onzas) vasos de agu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2. Lávese y límpiese la boca pero no coma o beba nada por 45 minu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3. Después de los 45 minutos puede comer y beber normal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4. Después de los 15 minutos de desayuno, almuerzo y cena no debe comer o beber nada por 2 horas.</a:t>
            </a: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3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5. Aquellas personas mayores o enfermas que no puedan beber 4 vasos  de agua al principio pueden comenzar por tomar un vaso de agua y  gradualmente aumentar la cantidad hasta 4 vasos por dí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6. El método del tratamiento curara las enfermedades de los enfermos  y los demás podrán disfrutar de una vida mas san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siguiente lista nos da el número de días que el tratamiento requiere para curar/controlar/reducir las  principales enfermedades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1532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1. Presión Alta - 3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2. Gastritis - 1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3. Diabetes - 3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4. Constipación - 1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5. Cáncer - 18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6. TB - 9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7. Los pacientes con artritis deben seguir el tratamiento solo por 3  días en la primera semana, y a partir de la segunda semana -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ariamente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3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3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3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e método del tratamiento no tiene efectos secundarios, sin embargo al comienzo del tratamiento tendrá que orinar muy segu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mejor si continuamos esto y hacemos que este procedimiento trabaje como una rutina en nuestr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eba Agua y Este Saludable y Ac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tiene sentido los Chinos y los Japoneses beben te caliente con  sus comidas, no agua fría, quizás ya es tiempo de adoptar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s hábitos  de beber te o agua tibia mientras comemos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¡Nada  que perder, todo que ganar...!</a:t>
            </a: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85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aquellos que les gusta beber agua fría, este artículo es  aplicable a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agradable beber un vaso de agua fría o de una bebida fría después  de las comida, sin embargo, el agua fría o la bebida fría solidifica el  alimento grasoso que usted acaba de ingerir. Esto hace que se retarde la dig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vez que este 'lodo' reacciona con el ácido digestivo, se descompone y es absorbido mas rápido que la comida sólida por el  intestin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rayara o dañara el intestino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y pronto, esto se volverá en grasa y nos llevara al cánc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mejor tomar una sopa caliente o agua tibia después de cada comida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3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3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3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3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Nota muy seria sobre los ataques al Corazón: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ujeres deben saber que no todos los síntomas de ataques al corazón van a ser un dolor en el brazo izquier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én atentas a un intenso dolor en la línea de la quij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ted pueda que nunca tenga un primer dolor en el pecho durante un ataque al co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áusea y una intensa sudoración son síntomas muy comu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% de las personas que tienen ataques al corazón lo sufren mientras duermen y no se despier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dolor en la quijada puede despertarte de un sueño muy profundo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57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9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2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3:17:27Z</dcterms:created>
  <dc:creator>Asociación de Empleados del Seguro Social</dc:creator>
  <dc:description/>
  <dc:language>en-US</dc:language>
  <cp:lastModifiedBy>Juanjo</cp:lastModifiedBy>
  <dcterms:modified xsi:type="dcterms:W3CDTF">2008-02-18T18:19:24Z</dcterms:modified>
  <cp:revision>6</cp:revision>
  <dc:subject/>
  <dc:title>Diapositiva 1</dc:title>
</cp:coreProperties>
</file>