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98F-2FC0-46E6-9E5B-75FCC0A2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B21-7D89-4372-B6F3-386E1FC6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FA8-6419-4539-8A2C-AD716410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A7D-BCD0-4E6E-A743-1AE39A3A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ABE5-4F07-4395-A74B-281ABAAC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CFF3-891D-41A7-ACFB-4863ED7D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39EE-4CC1-4E68-9D7F-5F8EE595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4E91-3432-4F12-AE21-0531C63B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4EDA-2994-4666-8821-B585F860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4319-593E-412C-A370-10D51C29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5BBB-0691-49BF-AF5C-F7D7FCD5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926-91A4-4669-A12C-14A99AEA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7721-9559-4158-9172-E55FB96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9D2D-05FB-4C76-BD24-C33D4730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9A3D-BCF8-43DC-A3F7-E0B05505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1B99-2487-458C-985C-85A9EAAF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BD7E-9270-4FF8-BFC3-8D267782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BB5-2E31-40D9-AC41-90295300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508D-4C9D-4CBD-9ECF-617AFF6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42C-9BFD-4173-B138-9F82E9C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DB2-F6F4-41B7-9E4F-5E33B791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918-9C39-4386-A3C4-376346E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049-F394-4793-9CC4-1B31004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4AB-6733-4D30-AE15-36980C4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1136-09FF-4A7A-B5BC-E1A3F775495D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27D4-DD7B-4A7E-A0C4-167E48784A8C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100" spc="-1" strike="noStrike">
                <a:solidFill>
                  <a:srgbClr val="ffffff"/>
                </a:solidFill>
                <a:latin typeface="Arial"/>
              </a:rPr>
              <a:t>BEBA AGUA CON EL ESTOMAGO VACÍO</a:t>
            </a: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1952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Seamos cuidadosos y estemos alerta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Mientras más sepamos mayor oportunidad de sobrevivi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Un cardiólogo dice que si todo el que recibe este correo se lo envía  a cada una de las personas que conoce, usted puede estar seguro de que salvaremos al menos una vida.</a:t>
            </a:r>
            <a:br>
              <a:rPr sz="2700"/>
            </a:br>
            <a:br>
              <a:rPr sz="2700"/>
            </a:b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1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190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1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195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1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200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**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r favor, sea un amigo verdadero y envíe este artículo a todos sus amigos y conocidos que le importen</a:t>
            </a: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7" dur="1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208" dur="1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3)"/>
                                      </p:to>
                                    </p:set>
                                    <p:set>
                                      <p:cBhvr>
                                        <p:cTn id="209" dur="1500" autoRev="1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618920" y="1844640"/>
            <a:ext cx="6697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ffffff"/>
                </a:solidFill>
                <a:latin typeface="Arial"/>
              </a:rPr>
              <a:t>Hoy en Japón es popular beber agua inmediatamente al levantarse en  la mañana.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demás, pruebas científicas han</a:t>
            </a: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robado estos valores. 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as adelante divulgamos una descripción del uso del agua para nuestros lect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ara personas mayores y con enfermedades serias así como con enfermedades modernas el tratamiento del agua ha sido de mucho éxito para la sociedad médica Japonesa con una cura de hasta 100% para las  siguientes enfermedade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3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" dur="3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Dolor de cabeza, dolor de cuerpo, sistema del corazón, artritis, taquicardia, epilepsia, exceso de gordura, bronquitis, asma, TB, meningitis, enfermedades urinarias y del riñón, vómitos, gastritis, diarrea, diabetes, hemorroides, todas las </a:t>
            </a:r>
            <a:br>
              <a:rPr sz="2700"/>
            </a:b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enfermedades del ojo, constipación, útero, cáncer y desordenes menstruales, enfermedades del  oído, nariz y garganta..</a:t>
            </a:r>
            <a:br>
              <a:rPr sz="2700"/>
            </a:br>
            <a:br>
              <a:rPr sz="2700"/>
            </a:b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MÉTODO DEL TRATAMIEN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1536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1. Al levantarse en la mañana y antes de lavarse los dientes, beba 4  x 160ml (5.5 onzas) vasos de agu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2. Lávese y límpiese la boca pero no coma o beba nada por 45 minu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3. Después de los 45 minutos puede comer y beber normalm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4. Después de los 15 minutos de desayuno, almuerzo y cena no debe comer o beber nada por 2 horas.</a:t>
            </a:r>
            <a:br>
              <a:rPr sz="2200"/>
            </a:b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3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5. Aquellas personas mayores o enfermas que no puedan beber 4 vasos  de agua al principio pueden comenzar por tomar un vaso de agua y  gradualmente aumentar la cantidad hasta 4 vasos por dí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Arial"/>
              </a:rPr>
              <a:t>6. El método del tratamiento curara las enfermedades de los enfermos  y los demás podrán disfrutar de una vida mas sana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siguiente lista nos da el número de días que el tratamiento requiere para curar/controlar/reducir las  principales enfermedades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1532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1. Presión Alta - 3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2. Gastritis - 1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3. Diabetes - 3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4. Constipación - 1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5. Cáncer - 18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6. TB - 90 d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7. Los pacientes con artritis deben seguir el tratamiento solo por 3  días en la primera semana, y a partir de la segunda semana -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ariamente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3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3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3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3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e método del tratamiento no tiene efectos secundarios, sin embargo al comienzo del tratamiento tendrá que orinar muy segu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mejor si continuamos esto y hacemos que este procedimiento trabaje como una rutina en nuestra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eba Agua y Este Saludable y Ac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tiene sentido los Chinos y los Japoneses beben te caliente con  sus comidas, no agua fría, quizás ya es tiempo de adoptar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s hábitos  de beber te o agua tibia mientras comemos.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¡Nada  que perder, todo que ganar...!</a:t>
            </a: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7854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aquellos que les gusta beber agua fría, este artículo es  aplicable a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agradable beber un vaso de agua fría o de una bebida fría después  de las comida, sin embargo, el agua fría o la bebida fría solidifica el  alimento grasoso que usted acaba de ingerir. Esto hace que se retarde la digest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vez que este 'lodo' reacciona con el ácido digestivo, se descompone y es absorbido mas rápido que la comida sólida por el  intestin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rayara o dañara el intestino.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uy pronto, esto se volverá en grasa y nos llevara al cánc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mejor tomar una sopa caliente o agua tibia después de cada comida.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3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3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3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3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3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Nota muy seria sobre los ataques al Corazón: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ujeres deben saber que no todos los síntomas de ataques al corazón van a ser un dolor en el brazo izquier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én atentas a un intenso dolor en la línea de la quij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sted pueda que nunca tenga un primer dolor en el pecho durante un ataque al coraz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áusea y una intensa sudoración son síntomas muy comu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0% de las personas que tienen ataques al corazón lo sufren mientras duermen y no se despiert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dolor en la quijada puede despertarte de un sueño muy profundo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57" dur="indefinite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indefinite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69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0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7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4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77" dur="indefinite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81" dur="indefinite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2" dur="indefinite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3:17:27Z</dcterms:created>
  <dc:creator>Asociación de Empleados del Seguro Social</dc:creator>
  <dc:description/>
  <dc:language>en-US</dc:language>
  <cp:lastModifiedBy>Juanjo</cp:lastModifiedBy>
  <dcterms:modified xsi:type="dcterms:W3CDTF">2008-02-18T18:19:24Z</dcterms:modified>
  <cp:revision>6</cp:revision>
  <dc:subject/>
  <dc:title>Diapositiva 1</dc:title>
</cp:coreProperties>
</file>