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594-01B7-4309-816D-80A6C4E9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CC1-7671-485B-9B87-3F81091A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DE1-C8EB-4598-B5F4-1D82E449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22B-3BF7-4E2F-ADDB-0EE0CF6A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BD2-9399-4BE3-BBF6-01580411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378-9198-4B64-8A27-29B4AF08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E21-D986-4A8A-9109-E29995E9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F5C-E8D3-4480-841C-ABAE1615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342-7FFC-4BE6-A89E-EBA74641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AFF-010A-43C5-A69A-B505ABED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E03-C39E-4D85-9935-322E97D1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9BF-8276-4CDA-938C-F1F83067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082B-A1EF-404D-B585-7070BDBCC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857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rio de ell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22840" y="0"/>
            <a:ext cx="53211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58920" y="6237360"/>
            <a:ext cx="1387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Por Juliá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oming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por la noche lo encontré raro. Habíamos quedado en un bar para tomar una copa. Estuve toda la tarde de compras con unas amigas y pensé que era culpa mia, porque llegué un poco tarde, aunque él no hizo ningún comentario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conversación no era muy animada, así que le propuse ir a un lugar más intimo para poder charlar más tranquilamente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uimos a un restaurante y el seguía portándose de forma extraña. Estaba como ausente. Entonces pensé que sería culpa mía por el retraso, o quizás algo más serio rondaba por su cabeza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pregunté y me dijo que no tenia nada que ver conmigo. Pero no me quedé convencida.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mino de regreso a casa, en el coche, le dije que lo quería mucho y el se limito a pasarme el brazo por los hombros, sin contestarme. No se como explicar su actitud porque no me dijo que él también me quería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egamos por fin a casa y en ese momento pensé que quería dejarme. Por eso intenté hacerle hablar, pero encendió la tele y se puso a mirarla con aire distante, como haciéndome ver que todo había acabado entre nosotros. Por fin desistí y le dije que me iba a la cama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s o menos diez minutos mas tarde, él vino también y, para mi sorpresa, correspondió a mis caricias e hicimos el amor. Pero seguía teniendo un aire distraído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pués quise afrontar la situación , hablar con él cuanto antes, pero se quedó dormido. Empecé a llorar y lo hice durante horas hasta que quedé dormida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 se que hacer. Estoy casi segura que sus pensamientos están con otra mujer. Mi vida es un autentico desast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51280" y="2857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rio de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32947" t="0" r="20239" b="0"/>
          <a:stretch/>
        </p:blipFill>
        <p:spPr>
          <a:xfrm>
            <a:off x="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rdió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B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Al menos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ché un pol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7:35:37Z</dcterms:created>
  <dc:creator>xp</dc:creator>
  <dc:description/>
  <dc:language>en-US</dc:language>
  <cp:lastModifiedBy>Sabrina Aylen Rosales Tourn</cp:lastModifiedBy>
  <dcterms:modified xsi:type="dcterms:W3CDTF">2006-10-18T01:10:57Z</dcterms:modified>
  <cp:revision>5</cp:revision>
  <dc:subject/>
  <dc:title>Diario de ella.  El sábado por la noche lo encontré raro. Habíamos quedado en un bar para tomar una copa. Estuve toda la tarde de compras con unas amigas y pensé que era culpa mia, porque llegué un poco tarde, aunque é</dc:title>
</cp:coreProperties>
</file>