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7C0-6649-454C-9E36-E61B9DFB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2A3-A3A5-4BDA-ABEC-56B2DEAB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4E7-5563-4C93-8319-81EB5E04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D52-21A9-4C4C-8FE4-65BE751F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6F5-6F15-46C5-8FB4-C86FAFE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41F-7DDF-4AEB-9559-2479FDA0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567-F0C7-4B51-AF4C-2F7CA2D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A30-B732-4D89-9E28-B886A9C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B43-2E96-49A5-94DC-9D0B05DE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658-47B2-46A5-B239-4249290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15B-278D-4752-875B-9B705F3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D12-5B2B-4848-95C5-97B9ECE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B3D-C08A-4540-8C6C-B8E7BC6E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857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rio de ell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22840" y="0"/>
            <a:ext cx="5321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58920" y="6237360"/>
            <a:ext cx="138744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Por Juliá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oming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por la noche lo encontré raro. Habíamos quedado en un bar para tomar una copa. Estuve toda la tarde de compras con unas amigas y pensé que era culpa mia, porque llegué un poco tarde, aunque él no hizo ningún comentario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onversación no era muy animada, así que le propuse ir a un lugar más intimo para poder charlar más tranquilamente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imos a un restaurante y el seguía portándose de forma extraña. Estaba como ausente. Entonces pensé que sería culpa mía por el retraso, o quizás algo más serio rondaba por su cabez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pregunté y me dijo que no tenia nada que ver conmigo. Pero no me quedé convencida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mino de regreso a casa, en el coche, le dije que lo quería mucho y el se limito a pasarme el brazo por los hombros, sin contestarme. No se como explicar su actitud porque no me dijo que él también me querí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egamos por fin a casa y en ese momento pensé que quería dejarme. Por eso intenté hacerle hablar, pero encendió la tele y se puso a mirarla con aire distante, como haciéndome ver que todo había acabado entre nosotros. Por fin desistí y le dije que me iba a la cam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s o menos diez minutos mas tarde, él vino también y, para mi sorpresa, correspondió a mis caricias e hicimos el amor. Pero seguía teniendo un aire distraído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pués quise afrontar la situación , hablar con él cuanto antes, pero se quedó dormido. Empecé a llorar y lo hice durante horas hasta que quedé dormid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 se que hacer. Estoy casi segura que sus pensamientos están con otra mujer. Mi vida es un autentico desast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51280" y="2857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rio de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32947" t="0" r="20239" b="0"/>
          <a:stretch/>
        </p:blipFill>
        <p:spPr>
          <a:xfrm>
            <a:off x="0" y="0"/>
            <a:ext cx="497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rdió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B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Al meno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hé un pol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7:35:37Z</dcterms:created>
  <dc:creator>xp</dc:creator>
  <dc:description/>
  <dc:language>en-US</dc:language>
  <cp:lastModifiedBy>Sabrina Aylen Rosales Tourn</cp:lastModifiedBy>
  <dcterms:modified xsi:type="dcterms:W3CDTF">2006-10-18T01:10:57Z</dcterms:modified>
  <cp:revision>5</cp:revision>
  <dc:subject/>
  <dc:title>Diario de ella.  El sábado por la noche lo encontré raro. Habíamos quedado en un bar para tomar una copa. Estuve toda la tarde de compras con unas amigas y pensé que era culpa mia, porque llegué un poco tarde, aunque é</dc:title>
</cp:coreProperties>
</file>