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LA%20PALOMA.wav" ContentType="audio/x-wav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530-E026-40E1-B1EB-13F75205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5FB-9F8C-45FC-99AD-1CD2F47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A24-7DAE-4259-A89C-CA3C2E84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D5B-7030-4251-A494-1169F0EB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EE0-EAC4-45E8-9AA5-B92A6AE6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E1A-829B-4CC1-93BE-B423621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1D0-EA4C-49E9-A03B-2E85A12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8EE-F668-4B5B-8DB5-B7BB615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AE4-B040-4F3E-B71B-D153AAC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4BB-CC97-49C5-842F-ABE0984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514-EAC6-496A-A35A-EA34802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555-F53F-4BF3-96EF-2CCFF3A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0D1-EA82-4938-80A2-CDF4E249A4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PALOMA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99cc00"/>
                </a:solidFill>
                <a:latin typeface="Arial"/>
              </a:rPr>
              <a:t>Poezie ženské krásy</a:t>
            </a:r>
            <a:r>
              <a:rPr b="0" lang="cs-CZ" sz="4400" spc="-1" strike="noStrike">
                <a:solidFill>
                  <a:srgbClr val="99cc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7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940360" y="602136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NE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4:41:55Z</dcterms:created>
  <dc:creator>User</dc:creator>
  <dc:description/>
  <dc:language>en-US</dc:language>
  <cp:lastModifiedBy>User</cp:lastModifiedBy>
  <dcterms:modified xsi:type="dcterms:W3CDTF">2009-08-18T15:49:13Z</dcterms:modified>
  <cp:revision>2</cp:revision>
  <dc:subject/>
  <dc:title>Snímek 1</dc:title>
</cp:coreProperties>
</file>