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LA%20PALOMA.wav" ContentType="audio/x-wav"/>
  <Override PartName="/ppt/media/image52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306-18A6-4DA2-A2AC-F2D64732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187-EB30-49EC-AEAF-36752274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522-06DD-47B1-A8F7-8BDFF7E6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870-8570-4C1F-BCA7-D23A1E29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6DA-6B9B-4141-9746-025287B3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3F2-4C10-4D5C-802B-41D54CD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710-C0CF-4C33-8226-B8C6C04D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97F-2AAE-47D6-8E38-CE586B3A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D63-ECEE-4668-9EFB-E71F105E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15D-A1F3-4D0C-8552-826D8AA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F74-1E22-4A78-919A-C2CBA16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7F2-E32D-42E2-8685-21FE203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D0D0-ADB1-4BDF-959F-4133D7383B2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PALOMA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15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99cc00"/>
                </a:solidFill>
                <a:latin typeface="Arial"/>
              </a:rPr>
              <a:t>Poezie ženské krásy</a:t>
            </a:r>
            <a:r>
              <a:rPr b="0" lang="cs-CZ" sz="4400" spc="-1" strike="noStrike">
                <a:solidFill>
                  <a:srgbClr val="99cc00"/>
                </a:solidFill>
                <a:latin typeface="Arial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78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1600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940360" y="6021360"/>
            <a:ext cx="182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ONE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4:41:55Z</dcterms:created>
  <dc:creator>User</dc:creator>
  <dc:description/>
  <dc:language>en-US</dc:language>
  <cp:lastModifiedBy>User</cp:lastModifiedBy>
  <dcterms:modified xsi:type="dcterms:W3CDTF">2009-08-18T15:49:13Z</dcterms:modified>
  <cp:revision>2</cp:revision>
  <dc:subject/>
  <dc:title>Snímek 1</dc:title>
</cp:coreProperties>
</file>