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thoven%20-%20Triple%20Concerto%20in%20C,%20II-Largo%20307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101-723F-4770-B273-2681DFF1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FA4-61A8-4E05-80F0-A74695FB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6CA-F3A4-49C6-9028-E09AF56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B3C-5F77-48AE-BFA6-23D38EBA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A82-3A46-409D-AF7E-6E42E2BC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4AE-409C-49B9-AE22-5AFD2830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C32-0F92-441E-B6A4-3D340F9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F23-BADC-4F67-AC70-B9F857C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8D0-E1D5-4FBE-9666-726DF31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2EE-C33E-48C1-B1B1-05DAAD3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FD1-462A-4D29-9DCF-5046666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932-63B5-4EE8-AB69-4A5748A6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CA4C-92DB-4DDB-8580-439187CAD4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hoven%20-%20Triple%20Concerto%20in%20C,%20II-Largo%20307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res%20en%20cemen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686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La espiritualidad cristiana consiste en ir dejándonos seducir 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or la alegre noticia de que hay esper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Hay esperanza para todos los pobres, porque son los preferidos de Dios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y de todos los que tienen entraña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y porque los pobres son los primeros que tienen entrañas 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tiernas y podero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ios sufre con ellos, pero no se resigna a que ellos sigan sufrie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Monotype Corsiva"/>
              </a:rPr>
              <a:t>José Arre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7913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ucas 1, 1-4; 4, 14-21. Tercer domingo Tiempo Ordinario –C-, 24 enero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Autora: M.Asun Gutiérre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Música:  Beethoveen. Triple Concerto in C, Lar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Beethoven%20-%20Triple%20Concerto%20in%20C,%20II-Largo%2030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UCAS%20EVANGEL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18640" cy="1739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Ya que muchos se han propuesto componer un relato de los acontecimientos que se han cumplido entre nosotros,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según nos lo transmitieron quienes desde el principio fueron testigos oculares y ministros de la palabra,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me ha parecido también a mí, después de haber investigado cuidadosamente todo lo sucedido desde el principio, escribirte una exposición ordenada, ilustre Teófilo,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Georgia"/>
              </a:rPr>
              <a:t>4</a:t>
            </a: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para que llegues a comprender la autenticidad de las enseñanzas que has recib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343400"/>
            <a:ext cx="8839080" cy="2288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mpezamos la lectura de Lucas. En el prólogo, nos describe el método que siguió para escribir su evangelio, a partir de los testigos y la tradición viva "de los hechos que se han verificado entre nosotros". Ofrece datos históricos y una estupenda reflexión sobre la persona y la vida de Jesús. Su reflexión rebosa alegría y optimismo y deja bien claro que el proyecto de Jesús es liberación y fraternidad real, para tod@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autor está orgulloso de haber tenido la feliz idea de  escribir “para ti” este maravilloso mens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%201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4,</a:t>
            </a: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14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Jesús, lleno de la fuerza del Espíritu, regresó a Galilea, y su fama se extendió por toda la comarca.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15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Enseñaba en las sinagogas y todo el mundo hablaba bien de él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Georgia"/>
              </a:rPr>
              <a:t>16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 Llegó a Nazaret, donde se había criado. Según su costumbre, entró en la sinagoga un sábado y se levantó para hacer la lec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029200"/>
            <a:ext cx="8915400" cy="2014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a comunidad se reúne y escucha la Palabra de Dios, explicada por Jesús. Sería estupendo que también ahora la comunidad cristiana se congregara con tanto entusiasmo para escuchar la Palabra porque encuentra a alguien que la explica de forma eficaz, tocando los corazones, haciendo que sea en verdad luz y alimento para el camino, descubriendo y cuestionando lo que nos quiere decir la Palabra HOY, a cada persona, en la situación y circunstancias concretas de cada d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ERGAMINO%20Tora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52280"/>
            <a:ext cx="8305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17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Le entregaron el libro del profeta Isaías y, al desenrollarlo, encontró el pasaje donde está escrito:</a:t>
            </a:r>
            <a:br>
              <a:rPr sz="2000"/>
            </a:b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El espíritu del Señor está sobre mí,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porque me ha ungido para anunciar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la buena noticia a los pobres;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me ha enviado a proclamar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la liberación a los cautivos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y dar vista a los ciegos,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 libertar a los oprimido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914400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programa de Jesús sólo hay lugar para la misericordia. En ningún momento señala ni recomienda llorar por los pecados personales ni por la pobreza espiritual de la socie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nuncia, para que anunciemos, libertad, luz, liberación, alegría y gratui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designios de Dios son designios de cercanía, de atención, de amo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os está a favor del ser humano. Proclama Buena Noticia, ni castigo ni venganz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Sentimos, como Jesús, la presencia y estímulo del Espíritu en nosotr@s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Le dejamos actuar a nivel personal, social, eclesial....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SCADA%20cort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457200"/>
            <a:ext cx="36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19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y a proclamar un año 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de gracia del Señ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648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programa de Jesús hay un concepto importante: año de gracia. Se celebraba cada 49 años. Se perdonaban todas las deudas. Jesús inaugura un nuevo año de gracia, rico en amnistías y perdones. Un año que ya no se clausurará. Es una fuente que no se agota. Quien cree en Él, es libre y coopera en la libertad de todos los seres humanos, lucha por terminar con todo tipo de opresión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“Todo antes de Cristo fue camino hacia él:Todo después de Cristo es vivir desde é!” (</a:t>
            </a:r>
            <a:r>
              <a:rPr b="0" i="1" lang="es-ES" sz="1800" spc="-1" strike="noStrike">
                <a:solidFill>
                  <a:srgbClr val="ffff00"/>
                </a:solidFill>
                <a:latin typeface="Monotype Corsiva"/>
              </a:rPr>
              <a:t>Andrés Torres Queiruga</a:t>
            </a:r>
            <a:r>
              <a:rPr b="0" lang="es-ES" sz="1800" spc="-1" strike="noStrike">
                <a:solidFill>
                  <a:srgbClr val="ffff00"/>
                </a:solidFill>
                <a:latin typeface="Monotype Corsiv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COIRIS%20DO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0"/>
            <a:ext cx="8686800" cy="1313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cc3300"/>
                </a:solidFill>
                <a:latin typeface="Georgia"/>
              </a:rPr>
              <a:t>20</a:t>
            </a:r>
            <a:r>
              <a:rPr b="0" lang="en-US" sz="2000" spc="-1" strike="noStrike">
                <a:solidFill>
                  <a:srgbClr val="cc3300"/>
                </a:solidFill>
                <a:latin typeface="Georgia"/>
              </a:rPr>
              <a:t> Después enrolló el libro, se lo dio al ayudante y se sentó. Todos los que estaban en la sinagoga tenían sus ojos clavados en él. </a:t>
            </a:r>
            <a:r>
              <a:rPr b="0" lang="en-US" sz="2000" spc="-1" strike="noStrike" baseline="30000">
                <a:solidFill>
                  <a:srgbClr val="cc3300"/>
                </a:solidFill>
                <a:latin typeface="Georgia"/>
              </a:rPr>
              <a:t>21</a:t>
            </a:r>
            <a:r>
              <a:rPr b="0" lang="en-US" sz="2000" spc="-1" strike="noStrike">
                <a:solidFill>
                  <a:srgbClr val="cc3300"/>
                </a:solidFill>
                <a:latin typeface="Georgia"/>
              </a:rPr>
              <a:t> Y comenzó a decirles: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cc3300"/>
                </a:solidFill>
                <a:latin typeface="Georgia"/>
              </a:rPr>
              <a:t>Hoy se ha cumplido el pasaje de la Escritura que acabáis de escu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Cumplimos HOY el programa de Jesús? La misión no ha terminado. Personas pobres, ciegas, esclavas... siguen esperando buenas noticias y signos de liberación. Una persona movida por el Espíritu no sólo supera sus miedos y ataduras, sino que es capaz de liberar y ofrecer su mano a quien tenga cualquier tipo de sufrimient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 Espíritu de Jesús nos unge y nos urge a caminar por caminos samaritanos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o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LGORTA%20Punta%20Gale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93600"/>
            <a:ext cx="655344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us palabras, Señor, son espíritu y vida</a:t>
            </a:r>
            <a:br>
              <a:rPr sz="2000"/>
            </a:b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(Salmo 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a ley del Señor es perfecta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está escrita en las tablas, sino en las entraña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se recoge en los códigos, sino en el coraz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Es descanso del alma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ero también inquietud;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mo el amor, no descansa ni se can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os mandatos del Señor son rectos y alegran el coraz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on vivencias que seducen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mo una luz maravillosa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mo un perfume que embel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a voluntad del Señor es pura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 transparente, como la nieve y el cristal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e miras en ella como en un esp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Comic Sans MS"/>
              </a:rPr>
              <a:t>Los mandamientos del Señor son verdadero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e fundan en el amor y en la ver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a verdad es am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dos los mandamientos son u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mar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dos los mandamientos se concentran en un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vivir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odos los mandamientos tienen un solo nomb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8:49:00Z</dcterms:created>
  <dc:creator> M.Asun Gutiérrez</dc:creator>
  <dc:description/>
  <dc:language>en-US</dc:language>
  <cp:lastModifiedBy>Usuario</cp:lastModifiedBy>
  <dcterms:modified xsi:type="dcterms:W3CDTF">2010-01-19T21:50:24Z</dcterms:modified>
  <cp:revision>16</cp:revision>
  <dc:subject>jeasam@gmail.com</dc:subject>
  <dc:title>Tiempo Ordinario 3 domingo -C- 24-01-10</dc:title>
</cp:coreProperties>
</file>