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Beethoven%20-%20Triple%20Concerto%20in%20C,%20II-Largo%20307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CE62-0204-4AD1-B2E3-6A56A0BB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7DB7-873B-4932-9D15-06451B23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AA0-6378-4EC8-87CC-F61662BB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3FB2-BF61-4A7D-8342-9F29B49A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F06-E809-453A-AE1C-25EA1021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D614-1211-45CD-B1C8-1AE06828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86C-1B9A-4E4A-A769-5E671DAB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6D23-826E-4912-8F4E-BED0001F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D94-EA23-4B4F-9AB1-D2107480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6E23-FC90-4325-A51A-CDCFAB7B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E2A3-DE1B-43F5-A7D4-F99A4797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03C7-2AD1-4319-83B9-36C8D4BF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3DDA-9B31-42E3-9FEA-83B290F6367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eethoven%20-%20Triple%20Concerto%20in%20C,%20II-Largo%20307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lores%20en%20cemen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0"/>
            <a:ext cx="8686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La espiritualidad cristiana consiste en ir dejándonos seducir 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por la alegre noticia de que hay esperan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Hay esperanza para todos los pobres, porque son los preferidos de Dios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y de todos los que tienen entrañas,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y porque los pobres son los primeros que tienen entrañas 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tiernas y podero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Dios sufre con ellos, pero no se resigna a que ellos sigan sufrie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Monotype Corsiva"/>
              </a:rPr>
              <a:t>José Arre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7913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Lucas 1, 1-4; 4, 14-21. Tercer domingo Tiempo Ordinario –C-, 24 enero 20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Autora: M.Asun Gutiérrez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Música:  Beethoveen. Triple Concerto in C, Lar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Beethoven%20-%20Triple%20Concerto%20in%20C,%20II-Largo%20307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UCAS%20EVANGELI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8918640" cy="1739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cc"/>
                </a:solidFill>
                <a:latin typeface="Georgia"/>
              </a:rPr>
              <a:t>1</a:t>
            </a: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 Ya que muchos se han propuesto componer un relato de los acontecimientos que se han cumplido entre nosotros, </a:t>
            </a:r>
            <a:r>
              <a:rPr b="0" lang="en-US" sz="1800" spc="-1" strike="noStrike" baseline="30000">
                <a:solidFill>
                  <a:srgbClr val="ffffcc"/>
                </a:solidFill>
                <a:latin typeface="Georgia"/>
              </a:rPr>
              <a:t>2</a:t>
            </a: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 según nos lo transmitieron quienes desde el principio fueron testigos oculares y ministros de la palabra, </a:t>
            </a:r>
            <a:r>
              <a:rPr b="0" lang="en-US" sz="1800" spc="-1" strike="noStrike" baseline="30000">
                <a:solidFill>
                  <a:srgbClr val="ffffcc"/>
                </a:solidFill>
                <a:latin typeface="Georgia"/>
              </a:rPr>
              <a:t>3</a:t>
            </a: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 me ha parecido también a mí, después de haber investigado cuidadosamente todo lo sucedido desde el principio, escribirte una exposición ordenada, ilustre Teófilo, </a:t>
            </a:r>
            <a:r>
              <a:rPr b="0" lang="en-US" sz="1800" spc="-1" strike="noStrike" baseline="30000">
                <a:solidFill>
                  <a:srgbClr val="ffffcc"/>
                </a:solidFill>
                <a:latin typeface="Georgia"/>
              </a:rPr>
              <a:t>4</a:t>
            </a: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 para que llegues a comprender la autenticidad de las enseñanzas que has recib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343400"/>
            <a:ext cx="8839080" cy="2288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Empezamos la lectura de Lucas. En el prólogo, nos describe el método que siguió para escribir su evangelio, a partir de los testigos y la tradición viva "de los hechos que se han verificado entre nosotros". Ofrece datos históricos y una estupenda reflexión sobre la persona y la vida de Jesús. Su reflexión rebosa alegría y optimismo y deja bien claro que el proyecto de Jesús es liberación y fraternidad real, para tod@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autor está orgulloso de haber tenido la feliz idea de  escribir “para ti” este maravilloso mensa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%201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4,</a:t>
            </a:r>
            <a:r>
              <a:rPr b="0" lang="es-ES" sz="2000" spc="-1" strike="noStrike" baseline="30000">
                <a:solidFill>
                  <a:srgbClr val="ffffff"/>
                </a:solidFill>
                <a:latin typeface="Georgia"/>
              </a:rPr>
              <a:t>14</a:t>
            </a: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 Jesús, lleno de la fuerza del Espíritu, regresó a Galilea, y su fama se extendió por toda la comarca. </a:t>
            </a:r>
            <a:r>
              <a:rPr b="0" lang="es-ES" sz="2000" spc="-1" strike="noStrike" baseline="30000">
                <a:solidFill>
                  <a:srgbClr val="ffffff"/>
                </a:solidFill>
                <a:latin typeface="Georgia"/>
              </a:rPr>
              <a:t>15</a:t>
            </a: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 Enseñaba en las sinagogas y todo el mundo hablaba bien de él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s-ES" sz="2000" spc="-1" strike="noStrike" baseline="30000">
                <a:solidFill>
                  <a:srgbClr val="ffffff"/>
                </a:solidFill>
                <a:latin typeface="Georgia"/>
              </a:rPr>
              <a:t>16</a:t>
            </a: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 Llegó a Nazaret, donde se había criado. Según su costumbre, entró en la sinagoga un sábado y se levantó para hacer la lect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5029200"/>
            <a:ext cx="8915400" cy="20142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La comunidad se reúne y escucha la Palabra de Dios, explicada por Jesús. Sería estupendo que también ahora la comunidad cristiana se congregara con tanto entusiasmo para escuchar la Palabra porque encuentra a alguien que la explica de forma eficaz, tocando los corazones, haciendo que sea en verdad luz y alimento para el camino, descubriendo y cuestionando lo que nos quiere decir la Palabra HOY, a cada persona, en la situación y circunstancias concretas de cada d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ERGAMINO%20Tora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152280"/>
            <a:ext cx="8305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cc"/>
                </a:solidFill>
                <a:latin typeface="Arial"/>
              </a:rPr>
              <a:t>17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Le entregaron el libro del profeta Isaías y, al desenrollarlo, encontró el pasaje donde está escrito:</a:t>
            </a:r>
            <a:br>
              <a:rPr sz="2000"/>
            </a:br>
            <a:r>
              <a:rPr b="0" lang="en-US" sz="2000" spc="-1" strike="noStrike" baseline="30000">
                <a:solidFill>
                  <a:srgbClr val="ffffcc"/>
                </a:solidFill>
                <a:latin typeface="Arial"/>
              </a:rPr>
              <a:t>18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El espíritu del Señor está sobre mí,</a:t>
            </a:r>
            <a:br>
              <a:rPr sz="2000"/>
            </a:b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porque me ha ungido para anunciar</a:t>
            </a:r>
            <a:br>
              <a:rPr sz="2000"/>
            </a:b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la buena noticia a los pobres;</a:t>
            </a:r>
            <a:br>
              <a:rPr sz="2000"/>
            </a:b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me ha enviado a proclamar</a:t>
            </a:r>
            <a:br>
              <a:rPr sz="2000"/>
            </a:b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la liberación a los cautivos</a:t>
            </a:r>
            <a:br>
              <a:rPr sz="2000"/>
            </a:b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y dar vista a los ciegos,</a:t>
            </a:r>
            <a:br>
              <a:rPr sz="2000"/>
            </a:b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a libertar a los oprimidos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495680"/>
            <a:ext cx="9144000" cy="22885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n el programa de Jesús sólo hay lugar para la misericordia. En ningún momento señala ni recomienda llorar por los pecados personales ni por la pobreza espiritual de la sociedad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nuncia, para que anunciemos, libertad, luz, liberación, alegría y gratuidad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os designios de Dios son designios de cercanía, de atención, de amor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ios está a favor del ser humano. Proclama Buena Noticia, ni castigo ni venganza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Sentimos, como Jesús, la presencia y estímulo del Espíritu en nosotr@s?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Le dejamos actuar a nivel personal, social, eclesial....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ASCADA%20cortin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62320" y="457200"/>
            <a:ext cx="36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cc"/>
                </a:solidFill>
                <a:latin typeface="Arial"/>
              </a:rPr>
              <a:t>19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y a proclamar un año </a:t>
            </a:r>
            <a:br>
              <a:rPr sz="2000"/>
            </a:b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de gracia del Seño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64832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l programa de Jesús hay un concepto importante: año de gracia. Se celebraba cada 49 años. Se perdonaban todas las deudas. Jesús inaugura un nuevo año de gracia, rico en amnistías y perdones. Un año que ya no se clausurará. Es una fuente que no se agota. Quien cree en Él, es libre y coopera en la libertad de todos los seres humanos, lucha por terminar con todo tipo de opresión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“Todo antes de Cristo fue camino hacia él:Todo después de Cristo es vivir desde é!” (</a:t>
            </a:r>
            <a:r>
              <a:rPr b="0" i="1" lang="es-ES" sz="1800" spc="-1" strike="noStrike">
                <a:solidFill>
                  <a:srgbClr val="ffff00"/>
                </a:solidFill>
                <a:latin typeface="Monotype Corsiva"/>
              </a:rPr>
              <a:t>Andrés Torres Queiruga</a:t>
            </a:r>
            <a:r>
              <a:rPr b="0" lang="es-ES" sz="1800" spc="-1" strike="noStrike">
                <a:solidFill>
                  <a:srgbClr val="ffff00"/>
                </a:solidFill>
                <a:latin typeface="Monotype Corsiv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COIRIS%20DOB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0"/>
            <a:ext cx="8686800" cy="1313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cc3300"/>
                </a:solidFill>
                <a:latin typeface="Georgia"/>
              </a:rPr>
              <a:t>20</a:t>
            </a:r>
            <a:r>
              <a:rPr b="0" lang="en-US" sz="2000" spc="-1" strike="noStrike">
                <a:solidFill>
                  <a:srgbClr val="cc3300"/>
                </a:solidFill>
                <a:latin typeface="Georgia"/>
              </a:rPr>
              <a:t> Después enrolló el libro, se lo dio al ayudante y se sentó. Todos los que estaban en la sinagoga tenían sus ojos clavados en él. </a:t>
            </a:r>
            <a:r>
              <a:rPr b="0" lang="en-US" sz="2000" spc="-1" strike="noStrike" baseline="30000">
                <a:solidFill>
                  <a:srgbClr val="cc3300"/>
                </a:solidFill>
                <a:latin typeface="Georgia"/>
              </a:rPr>
              <a:t>21</a:t>
            </a:r>
            <a:r>
              <a:rPr b="0" lang="en-US" sz="2000" spc="-1" strike="noStrike">
                <a:solidFill>
                  <a:srgbClr val="cc3300"/>
                </a:solidFill>
                <a:latin typeface="Georgia"/>
              </a:rPr>
              <a:t> Y comenzó a decirles: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Georgia"/>
              </a:rPr>
              <a:t>–</a:t>
            </a:r>
            <a:r>
              <a:rPr b="0" i="1" lang="en-US" sz="2000" spc="-1" strike="noStrike">
                <a:solidFill>
                  <a:srgbClr val="cc3300"/>
                </a:solidFill>
                <a:latin typeface="Georgia"/>
              </a:rPr>
              <a:t>Hoy se ha cumplido el pasaje de la Escritura que acabáis de escuch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1055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¿Cumplimos HOY el programa de Jesús? La misión no ha terminado. Personas pobres, ciegas, esclavas... siguen esperando buenas noticias y signos de liberación. Una persona movida por el Espíritu no sólo supera sus miedos y ataduras, sino que es capaz de liberar y ofrecer su mano a quien tenga cualquier tipo de sufrimient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l Espíritu de Jesús nos unge y nos urge a caminar por caminos samaritanos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mo Jesú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LGORTA%20Punta%20Gale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93600"/>
            <a:ext cx="6553440" cy="66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omic Sans MS"/>
              </a:rPr>
              <a:t>Tus palabras, Señor, son espíritu y vida</a:t>
            </a:r>
            <a:br>
              <a:rPr sz="2000"/>
            </a:b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(Salmo 1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Comic Sans MS"/>
              </a:rPr>
              <a:t>La ley del Señor es perfecta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no está escrita en las tablas, sino en las entrañas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no se recoge en los códigos, sino en el coraz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Comic Sans MS"/>
              </a:rPr>
              <a:t>Es descanso del alma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ero también inquietud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como el amor, no descansa ni se can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Comic Sans MS"/>
              </a:rPr>
              <a:t>Los mandatos del Señor son rectos y alegran el coraz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on vivencias que seducen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como una luz maravillosa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como un perfume que embele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Comic Sans MS"/>
              </a:rPr>
              <a:t>La voluntad del Señor es pura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y transparente, como la nieve y el cristal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te miras en ella como en un espe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Comic Sans MS"/>
              </a:rPr>
              <a:t>Los mandamientos del Señor son verdaderos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e fundan en el amor y en la ver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La verdad es am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Todos los mandamientos son un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Amar a 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Todos los mandamientos se concentran en uno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vivir como 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Todos los mandamientos tienen un solo nomb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8:49:00Z</dcterms:created>
  <dc:creator> M.Asun Gutiérrez</dc:creator>
  <dc:description/>
  <dc:language>en-US</dc:language>
  <cp:lastModifiedBy>Usuario</cp:lastModifiedBy>
  <dcterms:modified xsi:type="dcterms:W3CDTF">2010-01-19T21:50:24Z</dcterms:modified>
  <cp:revision>16</cp:revision>
  <dc:subject>jeasam@gmail.com</dc:subject>
  <dc:title>Tiempo Ordinario 3 domingo -C- 24-01-10</dc:title>
</cp:coreProperties>
</file>