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M%C3%BAsica%20arabe1.wav" ContentType="audio/x-wav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DCF-4C10-4E39-8168-37A249AD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D90-08CD-4211-AB9C-6A3129E2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3DF-07DD-470B-8A2A-7AA487BB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158-0539-4BB9-9B95-873F7B0B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55C-B59E-4915-909F-4D079D19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42A-25B5-4DA0-AB13-B23567C2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207-810C-4E04-87A7-C1081E59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92E-607B-4C92-B1F1-CCFC313E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848-F02D-48C4-9A0A-5674A0A5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D6E-F572-4FC1-A315-89BE2300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D85-1BB6-4830-86AD-2A5FDAFB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020-6667-4C59-BE41-B3AE5233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18DD-DBD9-4B5A-B5E1-FCFB92963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M&#250;sica%20arabe1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74200" y="6165720"/>
            <a:ext cx="620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Comic Sans MS"/>
              </a:rPr>
              <a:t>YO CREO QUE SON VIVIENDAS DE PROTECCION OFICIA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ffcc00"/>
                </a:solidFill>
                <a:latin typeface="Comic Sans MS"/>
              </a:rPr>
              <a:t>CASAS DE POB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620800">
            <a:off x="899640" y="2492280"/>
            <a:ext cx="784872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rrios de Dubái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07360" y="303120"/>
            <a:ext cx="61592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Esta foto esta tomada desde el edificio mas gran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del mundo 'Burj Dubai' </a:t>
            </a:r>
            <a:r>
              <a:rPr b="1" lang="es-ES_tradnl" sz="2000" spc="-1" strike="noStrike">
                <a:solidFill>
                  <a:srgbClr val="000066"/>
                </a:solidFill>
                <a:latin typeface="Comic Sans MS"/>
              </a:rPr>
              <a:t>@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2,620 pies / 801m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01800" y="2342880"/>
            <a:ext cx="726444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En la próxima foto miren en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esquina derech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se puede ver la forma de la tierra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21840" y="1773360"/>
            <a:ext cx="25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Increí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newsflash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820840" y="4076280"/>
            <a:ext cx="3312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Las personas que está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trabajando en e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edificio pueden ver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'ROTACION DE LA TIERRA'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236000" y="5805360"/>
            <a:ext cx="157320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n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20000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1:34:34Z</dcterms:created>
  <dc:creator>WinuE</dc:creator>
  <dc:description/>
  <dc:language>en-US</dc:language>
  <cp:lastModifiedBy>WinuE</cp:lastModifiedBy>
  <dcterms:modified xsi:type="dcterms:W3CDTF">2010-01-16T11:06:53Z</dcterms:modified>
  <cp:revision>6</cp:revision>
  <dc:subject/>
  <dc:title>Diapositiva 1</dc:title>
</cp:coreProperties>
</file>