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M%C3%BAsica%20arabe1.wav" ContentType="audio/x-wav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C47-2B3B-460F-B4D7-4344AF5F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404-5337-4886-A215-84676B45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265-ACCB-4B39-BB12-4259775F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30C-2041-4896-ADB1-9B721A25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D6D-1D60-4454-90F6-74FAC95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7B4-04B4-4FE0-BBB8-1214CC2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EE4-AF3B-49C0-8783-750B2D4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A9D-05DC-4348-A305-D28661AF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E07-95D4-4F8A-A5F7-C73AB4FA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09D-5362-4858-BD37-079780A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AA2-9ECB-4945-A1C5-4018A97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F7D-C146-45B9-A586-941BCE5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A35F-2F67-4CE9-921D-6E377B85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M&#250;sica%20arabe1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4200" y="6165720"/>
            <a:ext cx="62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YO CREO QUE SON VIVIENDAS DE PROTECCION OFIC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CASAS DE PO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620800">
            <a:off x="899640" y="2492280"/>
            <a:ext cx="784872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rrios de Dubái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7360" y="303120"/>
            <a:ext cx="6159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Esta foto esta tomada desde el edificio mas gra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del mundo 'Burj Dubai' </a:t>
            </a:r>
            <a:r>
              <a:rPr b="1" lang="es-ES_tradnl" sz="2000" spc="-1" strike="noStrike">
                <a:solidFill>
                  <a:srgbClr val="000066"/>
                </a:solidFill>
                <a:latin typeface="Comic Sans MS"/>
              </a:rPr>
              <a:t>@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2,620 pies / 801m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1800" y="2342880"/>
            <a:ext cx="726444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n la próxima foto miren en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squina derech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se puede ver la forma de la tierra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21840" y="1773360"/>
            <a:ext cx="25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Increí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20840" y="4076280"/>
            <a:ext cx="3312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as personas que está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trabajando en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dificio pueden v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'ROTACION DE LA TIERRA'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236000" y="5805360"/>
            <a:ext cx="15732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n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20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1:34:34Z</dcterms:created>
  <dc:creator>WinuE</dc:creator>
  <dc:description/>
  <dc:language>en-US</dc:language>
  <cp:lastModifiedBy>WinuE</cp:lastModifiedBy>
  <dcterms:modified xsi:type="dcterms:W3CDTF">2010-01-16T11:06:53Z</dcterms:modified>
  <cp:revision>6</cp:revision>
  <dc:subject/>
  <dc:title>Diapositiva 1</dc:title>
</cp:coreProperties>
</file>