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4EA1-7832-417D-97B5-994F6856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1A31-86EC-4526-8BD3-1F8AEAA2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2A55-BBA6-4E9A-84BD-892F30FC9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1C86-F095-42C3-A30E-7043DB232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FBF4-D818-44BA-A2BA-50FCFCF7C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D829-7E60-4961-BD82-2F9A02E0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09AE-70B9-47ED-81AE-BB35C38F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26B0-3B9E-482C-8A96-A80FE0B5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C303-035D-48C4-876E-65CB3185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2CBA-533D-4905-BBAE-9E58A466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63EE-36B0-4CD2-BAD9-86C611E2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F9D1-50DE-4977-AC3C-17A8C5DD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D2E9-A19A-44E7-BEF5-A6A5562F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F92F-518A-4D31-B62A-4430E592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8822-105D-4FB7-9F02-E0865032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9BE9-CBCD-4226-994F-8C5C61AA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B0C5-E2DF-46AB-AA65-76658B196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2114-BD8B-4F11-BC40-ECA53A40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DC8C-A697-428D-BE34-1A431B2D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041B-8AF5-4085-94D7-136FC6E3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953F-F09D-41D7-8BFD-ADCC04D8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1A54-B868-42AA-AB70-18A78ECA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8A20-E83F-43B1-9E9F-6A0EB74C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EEAE-5404-44B0-85E6-71DFA7C5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EA99-263C-4A6D-B364-955FE413E83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664D-3D3F-495D-ADF2-CA82D8281FD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b2b2b2"/>
                </a:solidFill>
                <a:latin typeface="Wide Latin"/>
              </a:rPr>
              <a:t>Test  de  lógic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84000" y="2852640"/>
            <a:ext cx="4038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Comic Sans MS"/>
              </a:rPr>
              <a:t>Ejercicio ment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(NO TENGAS PRISA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78920" y="5876640"/>
            <a:ext cx="807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utor: ¿? [CN] || Procedencia: Heart Breaker || Remake: Owl Ob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VANCE MANUAL.  SIN AUD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596360" y="5013360"/>
            <a:ext cx="1361880" cy="167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77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b2b2b2"/>
                </a:solidFill>
                <a:latin typeface="Arial"/>
              </a:rPr>
              <a:t>Respuesta a la Cuestión 3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3284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oy el diccionar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b2b2b2"/>
                </a:solidFill>
                <a:latin typeface="Arial"/>
              </a:rPr>
              <a:t>Respuesta a la Cuestión 4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640" y="314172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¡Ninguna! Los números confidenciales no        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aparecen en la guia telefón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b2b2b2"/>
                </a:solidFill>
                <a:latin typeface="Arial"/>
              </a:rPr>
              <a:t>Conclusió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¿Has acertado en todas las preguntas 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¡¡¡ No 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Entonces has leído demasiado rápido y no te has detenido a analizar. ¡¡¡No te desanimes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Prueba a enviárselo a algún/a amig@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Cuando uno se mira, se desconsuela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Pero cuando uno se compara, se consue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317080" y="5877000"/>
            <a:ext cx="438120" cy="571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b2b2b2"/>
                </a:solidFill>
                <a:latin typeface="Arial"/>
              </a:rPr>
              <a:t>Cuatro enigma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quí tienes cuatro pequeños</a:t>
            </a: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          enigmas para resolve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b2b2b2"/>
                </a:solidFill>
                <a:latin typeface="Arial"/>
              </a:rPr>
              <a:t>Cuestión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Un automovilista guiaba su coche a 70 Km / h 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on todas las luces apagadas por una ruta desierta.  No se molestó en encender los faros y la luna no brillaba en el cielo.  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úbitamente, una persona toda vestida de negro atraviesa la ruta a corta distancia del coche; el coche frena y lo deja pasar. </a:t>
            </a:r>
            <a:br>
              <a:rPr sz="2800"/>
            </a:b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¿Cómo vió el automovilista pasar a esa person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b2b2b2"/>
                </a:solidFill>
                <a:latin typeface="Arial"/>
              </a:rPr>
              <a:t>Cuestión 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n un nuevo edificio, los propietarios han decidido nombrar los pisos de la siguiente manera: Enero a la planta baja, Febrero al primer piso, Marzo al segundo, y asi sucesivamente hasta el duodécimo piso, al que nombran Diciembre. Curiosamente, el edificio contiene 12 pisos y cuenta con 365 empleados, 52 subjefes, y 7 jefes de divis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abiendo todo esto: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¿Cómo llaman al ascenso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b2b2b2"/>
                </a:solidFill>
                <a:latin typeface="Arial"/>
              </a:rPr>
              <a:t>Cuestión 3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i desarrollo puede parecer ilógico, pero es así como yo estoy hecho: la crianza está antes que el embarazo; la adolescencia está antes que la infancia; la carrera está antes que la marcha; la escritura está antes que la lectura; los deberes están antes que la lección; y la muerte está antes que la vida. Pero nada es ilóg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¿Quién so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b2b2b2"/>
                </a:solidFill>
                <a:latin typeface="Arial"/>
              </a:rPr>
              <a:t>Cuestión 4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Hay una ciudad en la cual el  5 % de los habitantes tienen un número de teléfono confidencial.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i elegimos 100 nombres al azar, dentro de la guia telefónica,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¿ Cuántas de esas personas en promedio tendrían un número confidencia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b2b2b2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¿ Crees tener las respuestas correcta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i tienes dudas lee de nuevo el texto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Bien, entonces aquí van las respuestas…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b2b2b2"/>
                </a:solidFill>
                <a:latin typeface="Arial"/>
              </a:rPr>
              <a:t>Respuesta a la Cuestión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278136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l automovilista conducía en pleno dí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b2b2b2"/>
                </a:solidFill>
                <a:latin typeface="Arial"/>
              </a:rPr>
              <a:t>Respuesta a la Cuestión 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822960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laman al ascensor apretando el botón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02:28:01Z</dcterms:created>
  <dc:creator>¿? [Canadá] || Remake: Tasmania (Avatar 'Buho')</dc:creator>
  <dc:description/>
  <dc:language>en-US</dc:language>
  <cp:lastModifiedBy>Tasmania</cp:lastModifiedBy>
  <dcterms:modified xsi:type="dcterms:W3CDTF">2009-11-29T19:57:08Z</dcterms:modified>
  <cp:revision>7</cp:revision>
  <dc:subject/>
  <dc:title>Test de lógica.</dc:title>
</cp:coreProperties>
</file>