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2EA-467A-4257-8E4A-4338314F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E9E-0DDD-48C0-83F2-92C41038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E06-5919-49FD-A022-9AC7B965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5D8-0113-4C98-A887-9F095954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E0FD-3331-459E-898B-8C626F04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5B28-E8B0-4EB0-A1C5-D0979126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D3CA-D545-45D0-8AC1-3F0C8883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EEE1-EB00-41A1-9DB3-14E9D339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7059-D0C2-4C65-B1F5-4145C0E9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0842-E76C-4F5A-AC5B-E7D8E356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5E93-5D01-4674-8C6C-078EC8F9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434-D657-4596-97FC-5E219A07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B933-8396-4A88-B868-080DE430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AD67-3224-4C28-BAA1-110CDDC4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D8F1-0E32-447F-8307-C920F996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446A-CA04-4C40-B7CF-11CD0848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7EE6-153E-4502-A6EF-3E4BAF83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CCE-0F45-4CD2-B3A6-9D8F2574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227-99AE-4BEC-BCC1-D9ACF881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24E-C92A-4C64-972C-800F0AB8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25A-FFB9-4A55-BC13-B0D4FF7A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5C5-E62E-4721-99FA-EC4427F1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8E0-A711-47E0-8E00-50B24DBB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D60-5BB9-485C-AB66-63CA332B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9486-1555-4612-A06A-98FFA7B2E8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4068-24CB-4F5E-8EB9-C5730AADC8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Wide Latin"/>
              </a:rPr>
              <a:t>Test  de  lóg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000" y="2852640"/>
            <a:ext cx="4038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Ejercicio men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(NO TENGAS PRISA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78920" y="5876640"/>
            <a:ext cx="807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utor: ¿? [CN] || Procedencia: Heart Breaker || Remake: Owl Ob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VANCE MANUAL.  SIN A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96360" y="5013360"/>
            <a:ext cx="136188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Respuesta a la Cuestión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328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oy el diccion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Respuesta a la Cuestión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3141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¡Ninguna! Los números confidenciales no    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aparecen en la guia telefón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¿Has acertado en todas las preguntas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¡¡¡ No 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Entonces has leído demasiado rápido y no te has detenido a analizar. ¡¡¡No te desanimes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rueba a enviárselo a algún/a amig@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uando uno se mira, se desconsuel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ero cuando uno se compara, se consu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17080" y="5877000"/>
            <a:ext cx="438120" cy="571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Cuatro enigm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quí tienes cuatro pequeños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        enigmas para resolv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Cuestión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 automovilista guiaba su coche a 70 Km / h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 todas las luces apagadas por una ruta desierta.  No se molestó en encender los faros y la luna no brillaba en el cielo. 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úbitamente, una persona toda vestida de negro atraviesa la ruta a corta distancia del coche; el coche frena y lo deja pasar.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¿Cómo vió el automovilista pasar a esa perso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Cuestión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 un nuevo edificio, los propietarios han decidido nombrar los pisos de la siguiente manera: Enero a la planta baja, Febrero al primer piso, Marzo al segundo, y asi sucesivamente hasta el duodécimo piso, al que nombran Diciembre. Curiosamente, el edificio contiene 12 pisos y cuenta con 365 empleados, 52 subjefes, y 7 jefes de divi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abiendo todo esto: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¿Cómo llaman al ascens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Cuestión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 desarrollo puede parecer ilógico, pero es así como yo estoy hecho: la crianza está antes que el embarazo; la adolescencia está antes que la infancia; la carrera está antes que la marcha; la escritura está antes que la lectura; los deberes están antes que la lección; y la muerte está antes que la vida. Pero nada es ilóg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¿Quién so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Cuestión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Hay una ciudad en la cual el  5 % de los habitantes tienen un número de teléfono confidencial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i elegimos 100 nombres al azar, dentro de la guia telefónica,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¿ Cuántas de esas personas en promedio tendrían un número confidenc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¿ Crees tener las respuestas correcta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i tienes dudas lee de nuevo el text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Bien, entonces aquí van las respuestas…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Respuesta a la Cuestión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l automovilista conducía en pleno d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b2b2b2"/>
                </a:solidFill>
                <a:latin typeface="Arial"/>
              </a:rPr>
              <a:t>Respuesta a la Cuestión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laman al ascensor apretando el botó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2:28:01Z</dcterms:created>
  <dc:creator>¿? [Canadá] || Remake: Tasmania (Avatar 'Buho')</dc:creator>
  <dc:description/>
  <dc:language>en-US</dc:language>
  <cp:lastModifiedBy>Tasmania</cp:lastModifiedBy>
  <dcterms:modified xsi:type="dcterms:W3CDTF">2009-11-29T19:57:08Z</dcterms:modified>
  <cp:revision>7</cp:revision>
  <dc:subject/>
  <dc:title>Test de lógica.</dc:title>
</cp:coreProperties>
</file>