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WavdeRosyPorAmor.wav" ContentType="audio/x-wav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F62-F773-40BD-9095-A83C21CB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552-CEF0-446B-906D-24D16802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5B7-4713-4B39-B196-F5E9CD9B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359-1EE9-4492-8065-F6FB9CEC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0B1B-0E6F-40C7-A8DC-084FA509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9F2-F904-4254-9BB2-C274B474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67D-BCAC-4AAE-BD44-878BDF5A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837-A2CB-438C-B69A-BA3F407F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B00-8378-4B9E-BEA9-6FB03051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E8B-6949-4250-B299-D7A98A42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C3F-089B-416E-8804-8F9383F9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AB9-7DCC-4F43-8346-791D2B99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5332-D4F6-409D-B287-A4528177A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avdeRosyPorAmor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93440" y="47628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oy y no mañan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out" orient="vert"/>
    <p:sndAc>
      <p:stSnd>
        <p:snd r:embed="rId2" name="WavdeRosyPorAm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92360" y="3716280"/>
            <a:ext cx="62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ribune"/>
              </a:rPr>
              <a:t> </a:t>
            </a:r>
            <a:r>
              <a:rPr b="1" lang="es-ES_tradnl" sz="2400" spc="-1" strike="noStrike">
                <a:solidFill>
                  <a:srgbClr val="ccccff"/>
                </a:solidFill>
                <a:latin typeface="Comic Sans MS"/>
              </a:rPr>
              <a:t>Prefi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Comic Sans MS"/>
              </a:rPr>
              <a:t>disfrutar de los más mínimos detal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Comic Sans MS"/>
              </a:rPr>
              <a:t>ahora que estoy v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Comic Sans MS"/>
              </a:rPr>
              <a:t>y no de grandes manifes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Comic Sans MS"/>
              </a:rPr>
              <a:t>cuando yo mue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3789360"/>
            <a:ext cx="80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ribune"/>
              </a:rPr>
              <a:t> </a:t>
            </a: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Prefiero escucharte un poco nervios@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diciendo lo que sientes por 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ahora que estoy v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y no un gran lamento porque no lo dijiste a tiemp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y ahora estoy muer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1000">
    <p:split dir="out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5800" y="836640"/>
            <a:ext cx="77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ribune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provechemos a nuestros seres querid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hora que están entre nosotr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split dir="out" orient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56960" y="836640"/>
            <a:ext cx="531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ribune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Si te ha llegado este mai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es porque alguien te aprecia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split dir="out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7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9240" y="404640"/>
            <a:ext cx="8536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ribune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Comic Sans MS"/>
              </a:rPr>
              <a:t>VALORA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 las personas que están a tu alreded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Ámalas, respétalas, acuérdate de ella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ientras están vivas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Comic Sans MS"/>
              </a:rPr>
              <a:t>Envíales este email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1000"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9640" y="404640"/>
            <a:ext cx="7344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Si te ha gustado … este Mensa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nvíalo a un amig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te lo agradecerá mu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¡Que Dios te bendiga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split dir="out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84720" y="2997360"/>
            <a:ext cx="439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Prefi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que compartas conmi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unos pocos minu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hora que estoy v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y no una noche ente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uando yo mu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4437000"/>
            <a:ext cx="83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Prefiero que estreches suavemente mi m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hora que estoy viv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y no apoyes tu cuerpo sobre 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uando yo mu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19280" y="8366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Tribune"/>
              </a:rPr>
              <a:t>   </a:t>
            </a: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Prefi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que hagas una sola llam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      </a:t>
            </a: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ahora que estoy v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y no emprendas un inesperado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   </a:t>
            </a: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cuando yo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mue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95080" y="4653000"/>
            <a:ext cx="587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Prefiero que me regales una sola fl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ahora que estoy v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y no me envíes un hermoso ra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Comic Sans MS"/>
              </a:rPr>
              <a:t>cuando yo mue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692280"/>
            <a:ext cx="77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Prefiero que elevemos al cielo una o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hora que estoy v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y no una misa cantada y celebrada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uando yo mu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3068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Prefiero que me digas unas palabras de al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hora que estoy v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y no un desgarrador poema cuando yo mu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split dir="out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58920" y="836640"/>
            <a:ext cx="64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ribun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Prefi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escuchar un solo acorde de guitar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ahora que estoy viv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y no una conmovedora seren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uando yo mu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split dir="out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4292640"/>
            <a:ext cx="743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Prefi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me dediques una leve pleg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ahora que estoy v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y no un político epitafio sobre mi tum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uando yo mu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split dir="out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8T16:54:34Z</dcterms:created>
  <dc:creator>Carlos Alberto Garza García</dc:creator>
  <dc:description/>
  <dc:language>en-US</dc:language>
  <cp:lastModifiedBy>Particular</cp:lastModifiedBy>
  <cp:lastPrinted>2000-08-21T16:44:15Z</cp:lastPrinted>
  <dcterms:modified xsi:type="dcterms:W3CDTF">2008-06-25T12:23:19Z</dcterms:modified>
  <cp:revision>22</cp:revision>
  <dc:subject/>
  <dc:title>Sin título de diapositiva</dc:title>
</cp:coreProperties>
</file>