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WavdeRosyPorAmor.wav" ContentType="audio/x-wav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F57D-1AD3-4DCE-A375-644AF408E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11B3-50EA-4D94-84F6-6C2AB351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94FF-3BF2-4D68-9365-9E0385224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1BF7-4A34-4CA3-A3BD-B3874751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F85F-6075-4BAD-8E5F-39E0B7A1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DBE4-3E12-462E-948A-4E7E8093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FEDA-D5EC-4CEC-941B-71624E9E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D86A-CA3A-4E3F-8D3F-6F113ACE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7E6D-24D7-4F82-B0B7-75E74165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CEC3-1241-4AF1-9E37-130362CC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46D6-F0EF-4ECE-9A83-855DDAAF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F716-E24C-4F0A-B3C1-EB0749B6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6F58-6BB5-449E-871C-CAAFC811D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avdeRosyPorAmor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93440" y="476280"/>
            <a:ext cx="45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Hoy y no mañana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split dir="out" orient="vert"/>
    <p:sndAc>
      <p:stSnd>
        <p:snd r:embed="rId2" name="WavdeRosyPorAm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92360" y="3716280"/>
            <a:ext cx="62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ribune"/>
              </a:rPr>
              <a:t> </a:t>
            </a:r>
            <a:r>
              <a:rPr b="1" lang="es-ES_tradnl" sz="2400" spc="-1" strike="noStrike">
                <a:solidFill>
                  <a:srgbClr val="ccccff"/>
                </a:solidFill>
                <a:latin typeface="Comic Sans MS"/>
              </a:rPr>
              <a:t>Prefi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Comic Sans MS"/>
              </a:rPr>
              <a:t>disfrutar de los más mínimos detal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Comic Sans MS"/>
              </a:rPr>
              <a:t>ahora que estoy v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Comic Sans MS"/>
              </a:rPr>
              <a:t>y no de grandes manifest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Comic Sans MS"/>
              </a:rPr>
              <a:t>cuando yo muer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split dir="out" orient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9640" y="3789360"/>
            <a:ext cx="80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ribune"/>
              </a:rPr>
              <a:t> </a:t>
            </a:r>
            <a:r>
              <a:rPr b="1" lang="es-ES_tradnl" sz="2400" spc="-1" strike="noStrike">
                <a:solidFill>
                  <a:srgbClr val="ccffff"/>
                </a:solidFill>
                <a:latin typeface="Comic Sans MS"/>
              </a:rPr>
              <a:t>Prefiero escucharte un poco nervios@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Comic Sans MS"/>
              </a:rPr>
              <a:t>diciendo lo que sientes por 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Comic Sans MS"/>
              </a:rPr>
              <a:t>ahora que estoy v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Comic Sans MS"/>
              </a:rPr>
              <a:t>y no un gran lamento porque no lo dijiste a tiemp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Comic Sans MS"/>
              </a:rPr>
              <a:t>y ahora estoy muert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1000">
    <p:split dir="out" orient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95800" y="836640"/>
            <a:ext cx="773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ribune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Aprovechemos a nuestros seres querid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ahora que están entre nosotro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956960" y="836640"/>
            <a:ext cx="531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ribune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Si te ha llegado este mai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es porque alguien te aprecia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split dir="out" orient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77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19240" y="404640"/>
            <a:ext cx="8536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ribune"/>
              </a:rPr>
              <a:t> </a:t>
            </a:r>
            <a:r>
              <a:rPr b="1" i="1" lang="es-ES_tradnl" sz="2800" spc="-1" strike="noStrike">
                <a:solidFill>
                  <a:srgbClr val="ffffff"/>
                </a:solidFill>
                <a:latin typeface="Comic Sans MS"/>
              </a:rPr>
              <a:t>VALORA</a:t>
            </a: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a las personas que están a tu alrededo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Ámalas, respétalas, acuérdate de ellas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mientras están vivas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Comic Sans MS"/>
              </a:rPr>
              <a:t>Envíales este email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1000">
    <p:split dir="out" orient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39640" y="404640"/>
            <a:ext cx="734400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Si te ha gustado … este Mensaj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envíalo a un amigo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te lo agradecerá much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¡Que Dios te bendiga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split dir="out" orient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284720" y="2997360"/>
            <a:ext cx="439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Prefie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que compartas conmi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unos pocos minu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ahora que estoy viv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y no una noche ente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cuando yo mue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split dir="out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4000" y="4437000"/>
            <a:ext cx="838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Prefiero que estreches suavemente mi ma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ahora que estoy viv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y no apoyes tu cuerpo sobre 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cuando yo mue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split dir="out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19280" y="836640"/>
            <a:ext cx="621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Tribune"/>
              </a:rPr>
              <a:t>   </a:t>
            </a:r>
            <a:r>
              <a:rPr b="1" lang="es-ES_tradnl" sz="2400" spc="-1" strike="noStrike">
                <a:solidFill>
                  <a:srgbClr val="ccffff"/>
                </a:solidFill>
                <a:latin typeface="Comic Sans MS"/>
              </a:rPr>
              <a:t>Prefi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Comic Sans MS"/>
              </a:rPr>
              <a:t>que hagas una sola llam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Comic Sans MS"/>
              </a:rPr>
              <a:t>      </a:t>
            </a:r>
            <a:r>
              <a:rPr b="1" lang="es-ES_tradnl" sz="2400" spc="-1" strike="noStrike">
                <a:solidFill>
                  <a:srgbClr val="ccffff"/>
                </a:solidFill>
                <a:latin typeface="Comic Sans MS"/>
              </a:rPr>
              <a:t>ahora que estoy v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Comic Sans MS"/>
              </a:rPr>
              <a:t>y no emprendas un inesperado via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Comic Sans MS"/>
              </a:rPr>
              <a:t>   </a:t>
            </a:r>
            <a:r>
              <a:rPr b="1" lang="es-ES_tradnl" sz="2400" spc="-1" strike="noStrike">
                <a:solidFill>
                  <a:srgbClr val="ccffff"/>
                </a:solidFill>
                <a:latin typeface="Comic Sans MS"/>
              </a:rPr>
              <a:t>cuando yo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ccffff"/>
                </a:solidFill>
                <a:latin typeface="Comic Sans MS"/>
              </a:rPr>
              <a:t>muer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95080" y="4653000"/>
            <a:ext cx="587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Comic Sans MS"/>
              </a:rPr>
              <a:t>Prefiero que me regales una sola fl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Comic Sans MS"/>
              </a:rPr>
              <a:t>ahora que estoy v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Comic Sans MS"/>
              </a:rPr>
              <a:t>y no me envíes un hermoso ra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Comic Sans MS"/>
              </a:rPr>
              <a:t>cuando yo muer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split dir="out" orient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0920" y="692280"/>
            <a:ext cx="7705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Prefiero que elevemos al cielo una or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ahora que estoy viv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y no una misa cantada y celebrada 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cuando yo mue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split dir="out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4000" y="306864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Prefiero que me digas unas palabras de al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ahora que estoy viv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y no un desgarrador poema cuando yo mu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split dir="out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258920" y="836640"/>
            <a:ext cx="648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ribune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Prefi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escuchar un solo acorde de guitar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ahora que estoy viv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y no una conmovedora seren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cuando yo mu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split dir="out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00000" y="4292640"/>
            <a:ext cx="743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Prefi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me dediques una leve plega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ahora que estoy v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y no un político epitafio sobre mi tumb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cuando yo mu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8T16:54:34Z</dcterms:created>
  <dc:creator>Carlos Alberto Garza García</dc:creator>
  <dc:description/>
  <dc:language>en-US</dc:language>
  <cp:lastModifiedBy>Particular</cp:lastModifiedBy>
  <cp:lastPrinted>2000-08-21T16:44:15Z</cp:lastPrinted>
  <dcterms:modified xsi:type="dcterms:W3CDTF">2008-06-25T12:23:19Z</dcterms:modified>
  <cp:revision>22</cp:revision>
  <dc:subject/>
  <dc:title>Sin título de diapositiva</dc:title>
</cp:coreProperties>
</file>