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121Alegria%20anar%20Jerusalemw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A7A-6CEB-41F2-8304-58A61031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387-4D54-46D4-9E5F-0C9E9255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B73-9B4C-4A1C-B66C-1BFD15C5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2EE-0854-4230-8EB9-724A87E8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293-34AF-45B0-8EEF-B7B3383A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6B1-1FB3-46CC-A41B-2F365828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5B4-D09E-42B9-81AC-C86044B1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127-1468-4698-A838-1010E94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184-57D7-4710-A568-39BC5E14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904-5045-49FF-9AB9-30694276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D8A-3ABB-4752-89D0-D350F489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0BC-6602-4CD9-B9DF-CC63248F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812E-662D-4CBC-A49D-FE5E4D72BFAD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121Alegria%20anar%20Jerusalem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_x0012_045 Montserrat.jpg                                             00022A85_x000c_Macintosh HD                   B9BE4824: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281720" y="990720"/>
            <a:ext cx="1862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13ff0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13ff0f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13ff0f"/>
                </a:solidFill>
                <a:latin typeface="Comic Sans MS"/>
              </a:rPr>
              <a:t> C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0"/>
            <a:ext cx="8839080" cy="1008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000" spc="-1" strike="noStrike">
                <a:solidFill>
                  <a:srgbClr val="13ff0f"/>
                </a:solidFill>
                <a:latin typeface="Comic Sans MS"/>
              </a:rPr>
              <a:t>  </a:t>
            </a:r>
            <a:r>
              <a:rPr b="1" i="1" lang="ca-ES" sz="4700" spc="-1" strike="noStrike">
                <a:solidFill>
                  <a:srgbClr val="13ff0f"/>
                </a:solidFill>
                <a:latin typeface="Comic Sans MS"/>
              </a:rPr>
              <a:t>IV Domingo de Pascua </a:t>
            </a:r>
            <a:endParaRPr b="0" lang="en-US" sz="4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71680" y="2857680"/>
            <a:ext cx="33051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000" spc="-1" strike="noStrike">
                <a:solidFill>
                  <a:srgbClr val="13ff0f"/>
                </a:solidFill>
                <a:latin typeface="Comic Sans MS"/>
              </a:rPr>
              <a:t>25 de abril de 2010</a:t>
            </a:r>
            <a:r>
              <a:rPr b="0" i="1" lang="ca-ES" sz="4800" spc="-1" strike="noStrike">
                <a:solidFill>
                  <a:srgbClr val="13ff0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28800" y="5786280"/>
            <a:ext cx="82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Imágenes de las montañas de Montserrat,</a:t>
            </a:r>
            <a:br>
              <a:rPr sz="3000"/>
            </a:b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cedidas por el fotografo Jaume Balanyà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14200" y="4929120"/>
            <a:ext cx="73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13ff0f"/>
                </a:solidFill>
                <a:latin typeface="Comic Sans MS"/>
              </a:rPr>
              <a:t>Música: Salmo que evoca la alegría de ser de las ovejas de Jesús (Sinagoga hebrea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  <p:sndAc>
      <p:stSnd>
        <p:snd r:embed="rId2" name="s121Alegria%20anar%20Jerusalem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st benet\Mis documentos\Mis imágenes\bíblics\Nacions\Antioquia de Pisídia (Yalvaç).jpg"/>
          <p:cNvPicPr/>
          <p:nvPr/>
        </p:nvPicPr>
        <p:blipFill>
          <a:blip r:embed="rId1"/>
          <a:stretch/>
        </p:blipFill>
        <p:spPr>
          <a:xfrm>
            <a:off x="914400" y="0"/>
            <a:ext cx="51530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0" y="214200"/>
            <a:ext cx="9144000" cy="5277600"/>
          </a:xfrm>
          <a:prstGeom prst="rect">
            <a:avLst/>
          </a:prstGeom>
          <a:solidFill>
            <a:srgbClr val="707c8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Hch 13,14, 43-5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En aquellos días</a:t>
            </a:r>
            <a:r>
              <a:rPr b="1" lang="ca-ES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eorgia"/>
                <a:ea typeface="Times New Roman"/>
              </a:rPr>
              <a:t>Pablo y Bernabé desde Perge, llegaron a Antioquía de Pisidia. El sábado entraron en la sinagoga y tomaron asiento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Disuelta la reunión, muchos judíos y prosélitos que adoraban a Dios siguieron a Pablo y a Bernabé; éstos conversaban con ellos y les persuadían a perseverar fieles a la gracia de Dios. El sábado siguiente se congregó casi toda la ciudad para escuchar la Palabra de Dios. Los judíos, al ver a la multitud, se llenaron de envidia y contradecían con blasfemias cuanto Pablo decí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Entonces dijeron con valentía Pablo y Bernabé: « Era necesario anunciaros a vosotros en primer lugar la Palabra  de Dios; pero ya que la rechazáis y vosotros mismos no os juzgáis dignos de la vida eterna, mirad que nos volvemos a los gentiles. Pues así nos lo ordenó el Señor: Te he puesto como la luz de los gentiles, para que lleves la salvación hasta el fin de la tierra. 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288760" y="6461280"/>
            <a:ext cx="39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ntioquia de Pisidia (Turquí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st benet\Mis documentos\Mis imágenes\bíblics\Nacions\Antioquia de Pisídia (Yalvaç).jpg"/>
          <p:cNvPicPr/>
          <p:nvPr/>
        </p:nvPicPr>
        <p:blipFill>
          <a:blip r:embed="rId1"/>
          <a:stretch/>
        </p:blipFill>
        <p:spPr>
          <a:xfrm>
            <a:off x="914400" y="0"/>
            <a:ext cx="51530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0" y="214200"/>
            <a:ext cx="9144000" cy="3143160"/>
          </a:xfrm>
          <a:prstGeom prst="rect">
            <a:avLst/>
          </a:prstGeom>
          <a:solidFill>
            <a:srgbClr val="707c8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vantGarde Bk BT"/>
                <a:ea typeface="Times New Roman"/>
              </a:rPr>
              <a:t>Hch 13,14, 43-5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l oír esto los gentiles se alegraron y se pusieron a glorificar la Palabra del Señor; y creyeron cuantos estaban destinados a una vida eterna. Y la Palabra del Señor se difundía por toda la región. Pero los judíos incitaron a mujeres distinguidas que adoraban a Dios, y a los principales de la ciudad; promovieron una persecución contra Pablo y Bernabé y les echaron de su territorio. Estos sacudieron contra ellos el polvo de sus pies y se fueron a Iconio. Los discípulos quedaron llenos de gozo y del Espíritu San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88760" y="6461280"/>
            <a:ext cx="39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ntioquia de Pisidia (Turquí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_x0012_119 Montserrat.jpg                                             00022A85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27"/>
          <p:cNvSpPr/>
          <p:nvPr/>
        </p:nvSpPr>
        <p:spPr>
          <a:xfrm>
            <a:off x="383400" y="480960"/>
            <a:ext cx="287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3ff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a0eff"/>
                </a:solidFill>
                <a:latin typeface="Comic Sans MS"/>
              </a:rPr>
              <a:t>Salmo 99</a:t>
            </a:r>
            <a:r>
              <a:rPr b="1" i="1" lang="ca-ES" sz="2800" spc="-1" strike="noStrike">
                <a:solidFill>
                  <a:srgbClr val="0a0e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029"/>
          <p:cNvSpPr/>
          <p:nvPr/>
        </p:nvSpPr>
        <p:spPr>
          <a:xfrm>
            <a:off x="508680" y="2654280"/>
            <a:ext cx="79408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13ff0f"/>
                </a:solidFill>
                <a:latin typeface="Comic Sans MS"/>
              </a:rPr>
              <a:t>Somos su pueblo y ovejas que él apacient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380880" y="44197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¡Aclamad al Señor, habitantes de toda </a:t>
            </a:r>
            <a:br>
              <a:rPr sz="3000"/>
            </a:b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la tierra, servid al Señor con alegría,</a:t>
            </a:r>
            <a:br>
              <a:rPr sz="3000"/>
            </a:b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entrad ante él con cantos de júbilo!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_x0012_107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08680" y="1752480"/>
            <a:ext cx="7940880" cy="550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Somos su pueblo y ovejas que él apacient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4495680"/>
            <a:ext cx="8381880" cy="1373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a8f08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0a8f08"/>
                </a:solidFill>
                <a:latin typeface="Comic Sans MS"/>
              </a:rPr>
              <a:t>Sabed que el Señor es Dios, él nos ha hecho</a:t>
            </a:r>
            <a:br>
              <a:rPr sz="2800"/>
            </a:br>
            <a:r>
              <a:rPr b="1" i="1" lang="ca-ES" sz="2800" spc="-1" strike="noStrike">
                <a:solidFill>
                  <a:srgbClr val="0a8f08"/>
                </a:solidFill>
                <a:latin typeface="Comic Sans MS"/>
              </a:rPr>
              <a:t>y suyos somos, su pueblo y ovejas que él</a:t>
            </a:r>
            <a:br>
              <a:rPr sz="2800"/>
            </a:br>
            <a:r>
              <a:rPr b="1" i="1" lang="ca-ES" sz="2800" spc="-1" strike="noStrike">
                <a:solidFill>
                  <a:srgbClr val="0a8f08"/>
                </a:solidFill>
                <a:latin typeface="Comic Sans MS"/>
              </a:rPr>
              <a:t>apacient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_x0012_132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508680" y="1752480"/>
            <a:ext cx="7940880" cy="550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13ff0f"/>
                </a:solidFill>
                <a:latin typeface="Comic Sans MS"/>
              </a:rPr>
              <a:t>Somos su pueblo y ovejas que él apacienta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3520" y="4246560"/>
            <a:ext cx="845820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3300"/>
                </a:solidFill>
                <a:latin typeface="Comic Sans MS"/>
              </a:rPr>
              <a:t>El Señor es bueno, y su amor es eterno, su fidelidad permanece de generación </a:t>
            </a:r>
            <a:br>
              <a:rPr sz="3200"/>
            </a:br>
            <a:r>
              <a:rPr b="1" i="1" lang="ca-ES" sz="3200" spc="-1" strike="noStrike">
                <a:solidFill>
                  <a:srgbClr val="ff3300"/>
                </a:solidFill>
                <a:latin typeface="Comic Sans MS"/>
              </a:rPr>
              <a:t>en generació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st benet\Mis documentos\Mis imágenes\anyell9n.jpg"/>
          <p:cNvPicPr/>
          <p:nvPr/>
        </p:nvPicPr>
        <p:blipFill>
          <a:blip r:embed="rId1"/>
          <a:stretch/>
        </p:blipFill>
        <p:spPr>
          <a:xfrm>
            <a:off x="0" y="0"/>
            <a:ext cx="37148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3733920" y="228600"/>
            <a:ext cx="541008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p. 7,9, 14b-17 </a:t>
            </a:r>
            <a:br>
              <a:rPr sz="2200"/>
            </a:br>
            <a:r>
              <a:rPr b="1" lang="ca-ES" sz="1800" spc="-1" strike="noStrike">
                <a:solidFill>
                  <a:srgbClr val="000000"/>
                </a:solidFill>
                <a:latin typeface="Georgia"/>
                <a:ea typeface="Arial Unicode MS"/>
              </a:rPr>
              <a:t>Yo Juan </a:t>
            </a: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vi una muchedumbre inmensa, que nadie podría contar, de toda nación, razas, pueblos y lenguas, de pie delante del trono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y el Cordero, vestidos con vestiduras blancas y con palmas en sus manos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 Y uno de los ancianos me dijo: « Esos son los que vienen de la gran tribulación; han lavado sus vestiduras y las han blanqueado con la sangre del Corder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Por esto están delante del trono de Dios, dándole culto día y noche en su Santuario;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y el que está sentado en el trono extenderá su tienda sobre ello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Ya no tendrán hambre ni sed; ya nos les molestará el sol ni bochorno alguno.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Porque el Cordero que está en medio del trono los apacentará y los guiará a los manantiales de las aguas de  la vida. Y Dios enjugará toda lágrima de sus ojos. 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_x0012_071 Montserrat.jpg                                             00022A85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0" y="3627360"/>
            <a:ext cx="9144000" cy="2044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942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942000"/>
                </a:solidFill>
                <a:latin typeface="Comic Sans MS"/>
              </a:rPr>
              <a:t>Aleluya </a:t>
            </a:r>
            <a:r>
              <a:rPr b="1" i="1" lang="ca-ES" sz="1800" spc="-1" strike="noStrike">
                <a:solidFill>
                  <a:srgbClr val="942000"/>
                </a:solidFill>
                <a:latin typeface="Comic Sans MS"/>
              </a:rPr>
              <a:t>Juan 10, 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609a1"/>
                </a:solidFill>
                <a:latin typeface="Comic Sans MS"/>
              </a:rPr>
              <a:t>       </a:t>
            </a:r>
            <a:r>
              <a:rPr b="1" i="1" lang="ca-ES" sz="3600" spc="-1" strike="noStrike">
                <a:solidFill>
                  <a:srgbClr val="0a0eff"/>
                </a:solidFill>
                <a:latin typeface="Comic Sans MS"/>
              </a:rPr>
              <a:t>Yo soy el Buen Pastor,dice el Señor,</a:t>
            </a:r>
            <a:br>
              <a:rPr sz="3600"/>
            </a:br>
            <a:r>
              <a:rPr b="1" i="1" lang="ca-ES" sz="3600" spc="-1" strike="noStrike">
                <a:solidFill>
                  <a:srgbClr val="0a0eff"/>
                </a:solidFill>
                <a:latin typeface="Comic Sans MS"/>
              </a:rPr>
              <a:t>conozco a mis ovejas y ellas me conocen</a:t>
            </a:r>
            <a:r>
              <a:rPr b="1" i="1" lang="ca-ES" sz="2800" spc="-1" strike="noStrike">
                <a:solidFill>
                  <a:srgbClr val="0609a1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07_038.jpg      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7543800" y="60958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Jerusalé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28600"/>
            <a:ext cx="8991720" cy="30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9811"/>
                </a:solidFill>
                <a:latin typeface="Comic Sans MS"/>
              </a:rPr>
              <a:t>Juan 10, 27-3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s-ES" sz="2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is ovejas escuchan mi voz; yo las conozco y ellas mi siguen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 les doy vida eterna y no perecerán jamás, y nadie las arrebatará de mi mano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Padre, que me las ha dado, es más grande que todos, y nadie puede arrebatar nada de la mano del Padre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 y el Padre somos uno. »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4:22:33Z</dcterms:created>
  <dc:creator>JOAN RAMIREZ</dc:creator>
  <dc:description/>
  <dc:language>en-US</dc:language>
  <cp:lastModifiedBy>Usuario</cp:lastModifiedBy>
  <dcterms:modified xsi:type="dcterms:W3CDTF">2010-04-20T15:55:13Z</dcterms:modified>
  <cp:revision>17</cp:revision>
  <dc:subject/>
  <dc:title>Presentación de PowerPoint</dc:title>
</cp:coreProperties>
</file>