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1Alegria%20anar%20Jerusalem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AE-7DD7-43A1-971A-EAE1E2CA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5AF-C7EF-47C4-9609-6290A22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9FB-3CF5-4EF1-B4F5-B44F4A2A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B98-AF36-44A8-8673-17C97B0F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E9C-724E-4731-9712-918B3CBB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52D-AD43-45E9-A945-7AD8E68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BB6-42B2-4CA7-9B47-1449C36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34F-71A6-4FDD-AE2D-EAE10023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D5C-A6C2-414D-BAB9-80274AA9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6E4-71E8-4D7A-A2EF-AFF1CC34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B31-66B2-4880-8C34-0DCBE7A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968-C9B6-47A1-BBE6-5F627FF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8481-8C34-4326-8E09-51353A08670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1Alegria%20anar%20Jerusalem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12_045 Montserrat.jpg                                             00022A85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81720" y="9907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13ff0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13ff0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13ff0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0"/>
            <a:ext cx="8839080" cy="1008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000" spc="-1" strike="noStrike">
                <a:solidFill>
                  <a:srgbClr val="13ff0f"/>
                </a:solidFill>
                <a:latin typeface="Comic Sans MS"/>
              </a:rPr>
              <a:t>  </a:t>
            </a:r>
            <a:r>
              <a:rPr b="1" i="1" lang="ca-ES" sz="4700" spc="-1" strike="noStrike">
                <a:solidFill>
                  <a:srgbClr val="13ff0f"/>
                </a:solidFill>
                <a:latin typeface="Comic Sans MS"/>
              </a:rPr>
              <a:t>IV Domingo de Pascua 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71680" y="2857680"/>
            <a:ext cx="3305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13ff0f"/>
                </a:solidFill>
                <a:latin typeface="Comic Sans MS"/>
              </a:rPr>
              <a:t>25 de abril de 2010</a:t>
            </a:r>
            <a:r>
              <a:rPr b="0" i="1" lang="ca-ES" sz="4800" spc="-1" strike="noStrike">
                <a:solidFill>
                  <a:srgbClr val="13ff0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28800" y="5786280"/>
            <a:ext cx="82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Imágenes de las montañas de Montserrat,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cedidas por el fotografo Jaume Balanyà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14200" y="492912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13ff0f"/>
                </a:solidFill>
                <a:latin typeface="Comic Sans MS"/>
              </a:rPr>
              <a:t>Música: Salmo que evoca la alegría de ser de las ovejas de Jesús (Sinagoga hebrea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  <p:sndAc>
      <p:stSnd>
        <p:snd r:embed="rId2" name="s121Alegria%20anar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st benet\Mis documentos\Mis imágenes\bíblics\Nacions\Antioquia de Pisídia (Yalvaç).jpg"/>
          <p:cNvPicPr/>
          <p:nvPr/>
        </p:nvPicPr>
        <p:blipFill>
          <a:blip r:embed="rId1"/>
          <a:stretch/>
        </p:blipFill>
        <p:spPr>
          <a:xfrm>
            <a:off x="91440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0" y="214200"/>
            <a:ext cx="9144000" cy="5277600"/>
          </a:xfrm>
          <a:prstGeom prst="rect">
            <a:avLst/>
          </a:prstGeom>
          <a:solidFill>
            <a:srgbClr val="707c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Hch 13,14, 43-5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En aquellos días</a:t>
            </a:r>
            <a:r>
              <a:rPr b="1" lang="ca-E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Pablo y Bernabé desde Perge, llegaron a Antioquía de Pisidia. El sábado entraron en la sinagoga y tomaron asiento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Disuelta la reunión, muchos judíos y prosélitos que adoraban a Dios siguieron a Pablo y a Bernabé; éstos conversaban con ellos y les persuadían a perseverar fieles a la gracia de Dios. El sábado siguiente se congregó casi toda la ciudad para escuchar la Palabra de Dios. Los judíos, al ver a la multitud, se llenaron de envidia y contradecían con blasfemias cuanto Pablo decí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tonces dijeron con valentía Pablo y Bernabé: « Era necesario anunciaros a vosotros en primer lugar la Palabra  de Dios; pero ya que la rechazáis y vosotros mismos no os juzgáis dignos de la vida eterna, mirad que nos volvemos a los gentiles. Pues así nos lo ordenó el Señor: Te he puesto como la luz de los gentiles, para que lleves la salvación hasta el fin de la tierra. 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288760" y="646128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tioquia de Pisidia (Turqu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st benet\Mis documentos\Mis imágenes\bíblics\Nacions\Antioquia de Pisídia (Yalvaç).jpg"/>
          <p:cNvPicPr/>
          <p:nvPr/>
        </p:nvPicPr>
        <p:blipFill>
          <a:blip r:embed="rId1"/>
          <a:stretch/>
        </p:blipFill>
        <p:spPr>
          <a:xfrm>
            <a:off x="91440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0" y="214200"/>
            <a:ext cx="9144000" cy="3143160"/>
          </a:xfrm>
          <a:prstGeom prst="rect">
            <a:avLst/>
          </a:prstGeom>
          <a:solidFill>
            <a:srgbClr val="707c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Hch 13,14, 43-5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l oír esto los gentiles se alegraron y se pusieron a glorificar la Palabra del Señor; y creyeron cuantos estaban destinados a una vida eterna. Y la Palabra del Señor se difundía por toda la región. Pero los judíos incitaron a mujeres distinguidas que adoraban a Dios, y a los principales de la ciudad; promovieron una persecución contra Pablo y Bernabé y les echaron de su territorio. Estos sacudieron contra ellos el polvo de sus pies y se fueron a Iconio. Los discípulos quedaron llenos de gozo y del Espíritu Sa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88760" y="646128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tioquia de Pisidia (Turqu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_x0012_119 Montserrat.jpg                                             00022A85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27"/>
          <p:cNvSpPr/>
          <p:nvPr/>
        </p:nvSpPr>
        <p:spPr>
          <a:xfrm>
            <a:off x="383400" y="480960"/>
            <a:ext cx="287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ff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0eff"/>
                </a:solidFill>
                <a:latin typeface="Comic Sans MS"/>
              </a:rPr>
              <a:t>Salmo 99</a:t>
            </a:r>
            <a:r>
              <a:rPr b="1" i="1" lang="ca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508680" y="2654280"/>
            <a:ext cx="79408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13ff0f"/>
                </a:solidFill>
                <a:latin typeface="Comic Sans MS"/>
              </a:rPr>
              <a:t>Somos su pueblo y ovejas que él apacient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380880" y="44197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¡Aclamad al Señor, habitantes de toda 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la tierra, servid al Señor con alegría,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entrad ante él con cantos de júbilo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12_107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08680" y="1752480"/>
            <a:ext cx="7940880" cy="55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Somos su pueblo y ovejas que él apacient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4495680"/>
            <a:ext cx="8381880" cy="137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a8f08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a8f08"/>
                </a:solidFill>
                <a:latin typeface="Comic Sans MS"/>
              </a:rPr>
              <a:t>Sabed que el Señor es Dios, él nos ha hecho</a:t>
            </a:r>
            <a:br>
              <a:rPr sz="2800"/>
            </a:br>
            <a:r>
              <a:rPr b="1" i="1" lang="ca-ES" sz="2800" spc="-1" strike="noStrike">
                <a:solidFill>
                  <a:srgbClr val="0a8f08"/>
                </a:solidFill>
                <a:latin typeface="Comic Sans MS"/>
              </a:rPr>
              <a:t>y suyos somos, su pueblo y ovejas que él</a:t>
            </a:r>
            <a:br>
              <a:rPr sz="2800"/>
            </a:br>
            <a:r>
              <a:rPr b="1" i="1" lang="ca-ES" sz="2800" spc="-1" strike="noStrike">
                <a:solidFill>
                  <a:srgbClr val="0a8f08"/>
                </a:solidFill>
                <a:latin typeface="Comic Sans MS"/>
              </a:rPr>
              <a:t>apacien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12_132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08680" y="1752480"/>
            <a:ext cx="7940880" cy="55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13ff0f"/>
                </a:solidFill>
                <a:latin typeface="Comic Sans MS"/>
              </a:rPr>
              <a:t>Somos su pueblo y ovejas que él apacient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520" y="4246560"/>
            <a:ext cx="845820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3300"/>
                </a:solidFill>
                <a:latin typeface="Comic Sans MS"/>
              </a:rPr>
              <a:t>El Señor es bueno, y su amor es eterno, su fidelidad permanece de generación </a:t>
            </a:r>
            <a:br>
              <a:rPr sz="3200"/>
            </a:br>
            <a:r>
              <a:rPr b="1" i="1" lang="ca-ES" sz="3200" spc="-1" strike="noStrike">
                <a:solidFill>
                  <a:srgbClr val="ff3300"/>
                </a:solidFill>
                <a:latin typeface="Comic Sans MS"/>
              </a:rPr>
              <a:t>en generació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st benet\Mis documentos\Mis imágenes\anyell9n.jpg"/>
          <p:cNvPicPr/>
          <p:nvPr/>
        </p:nvPicPr>
        <p:blipFill>
          <a:blip r:embed="rId1"/>
          <a:stretch/>
        </p:blipFill>
        <p:spPr>
          <a:xfrm>
            <a:off x="0" y="0"/>
            <a:ext cx="37148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3733920" y="228600"/>
            <a:ext cx="54100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. 7,9, 14b-17 </a:t>
            </a:r>
            <a:br>
              <a:rPr sz="2200"/>
            </a:br>
            <a:r>
              <a:rPr b="1" lang="ca-ES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Yo Juan </a:t>
            </a: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vi una muchedumbre inmensa, que nadie podría contar, de toda nación, razas, pueblos y lenguas, de pie delante del tron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y el Cordero, vestidos con vestiduras blancas y con palmas en sus manos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Y uno de los ancianos me dijo: « Esos son los que vienen de la gran tribulación; han lavado sus vestiduras y las han blanqueado con la sangre del Corder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Por esto están delante del trono de Dios, dándole culto día y noche en su Santuario;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y el que está sentado en el trono extenderá su tienda sobre ello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Ya no tendrán hambre ni sed; ya nos les molestará el sol ni bochorno alguno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Porque el Cordero que está en medio del trono los apacentará y los guiará a los manantiales de las aguas de  la vida. Y Dios enjugará toda lágrima de sus ojos. 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12_071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3627360"/>
            <a:ext cx="9144000" cy="2044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942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942000"/>
                </a:solidFill>
                <a:latin typeface="Comic Sans MS"/>
              </a:rPr>
              <a:t>Aleluya </a:t>
            </a:r>
            <a:r>
              <a:rPr b="1" i="1" lang="ca-ES" sz="1800" spc="-1" strike="noStrike">
                <a:solidFill>
                  <a:srgbClr val="942000"/>
                </a:solidFill>
                <a:latin typeface="Comic Sans MS"/>
              </a:rPr>
              <a:t>Juan 10, 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609a1"/>
                </a:solidFill>
                <a:latin typeface="Comic Sans MS"/>
              </a:rPr>
              <a:t>       </a:t>
            </a:r>
            <a:r>
              <a:rPr b="1" i="1" lang="ca-ES" sz="3600" spc="-1" strike="noStrike">
                <a:solidFill>
                  <a:srgbClr val="0a0eff"/>
                </a:solidFill>
                <a:latin typeface="Comic Sans MS"/>
              </a:rPr>
              <a:t>Yo soy el Buen Pastor,dice el Señor,</a:t>
            </a:r>
            <a:br>
              <a:rPr sz="3600"/>
            </a:br>
            <a:r>
              <a:rPr b="1" i="1" lang="ca-ES" sz="3600" spc="-1" strike="noStrike">
                <a:solidFill>
                  <a:srgbClr val="0a0eff"/>
                </a:solidFill>
                <a:latin typeface="Comic Sans MS"/>
              </a:rPr>
              <a:t>conozco a mis ovejas y ellas me conocen</a:t>
            </a:r>
            <a:r>
              <a:rPr b="1" i="1" lang="ca-ES" sz="2800" spc="-1" strike="noStrike">
                <a:solidFill>
                  <a:srgbClr val="0609a1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7_038.jpg    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543800" y="60958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Jerusalé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28600"/>
            <a:ext cx="8991720" cy="30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9811"/>
                </a:solidFill>
                <a:latin typeface="Comic Sans MS"/>
              </a:rPr>
              <a:t>Juan 10, 27-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is ovejas escuchan mi voz; yo las conozco y ellas mi siguen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 les doy vida eterna y no perecerán jamás, y nadie las arrebatará de mi mano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Padre, que me las ha dado, es más grande que todos, y nadie puede arrebatar nada de la mano del Padre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 y el Padre somos uno. »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4:22:33Z</dcterms:created>
  <dc:creator>JOAN RAMIREZ</dc:creator>
  <dc:description/>
  <dc:language>en-US</dc:language>
  <cp:lastModifiedBy>Usuario</cp:lastModifiedBy>
  <dcterms:modified xsi:type="dcterms:W3CDTF">2010-04-20T15:55:13Z</dcterms:modified>
  <cp:revision>17</cp:revision>
  <dc:subject/>
  <dc:title>Presentación de PowerPoint</dc:title>
</cp:coreProperties>
</file>