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wave_song_for_peace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B411-27B9-468D-A2FE-5CB8B8223FB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C537-0E83-4D7D-A556-72EBB489DE9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0C9-37BA-4FDC-9712-1EFCCC4988E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2827-F53C-48ED-8308-925AAEE84B6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9CE-32B0-4EEB-B094-6117B075765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0275-7D15-4D17-ADC6-5CAF70E2C7F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B7D-FEAC-44A8-832A-020CD8A839F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5079-E260-4F0D-ACDA-103AF54F672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5E51-C75E-41D8-9261-FC75CC5DE6D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26AE-2954-4EB8-8EE9-AD1AE471041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B04D-5DF4-4E04-B4BB-1DB36A4CBB4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59ED-4C3F-411D-9DFA-89D17DA0EAE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A0D1-5B8C-4941-81C3-6AB5351073A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DAA6-E31C-43E7-88C9-28412E72ADF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D2A-F744-4F05-8647-D09BE675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FBE-47E6-45EB-9E3E-45CAA130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083-57B4-4349-A581-170EC908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10F-B2B8-49DD-9DEF-A03847FE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A8D-8E77-43E8-A4FE-A6E5F398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A18-8F8C-411A-A5E6-160E912D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EB0-8799-4484-A6B9-AD6E5DCE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F0A-474A-4BA1-9953-168B16A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729-16A6-465E-A1A8-5DF83C52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135-B00B-45FF-ACBE-F027AABB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BBD-0DBD-4B33-8A2B-B38EB2AC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20B-BD95-463F-8D49-79466CE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4746-CCE1-4AF8-849A-DB3448069A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ave_song_for_peac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30"/>
          <p:cNvSpPr/>
          <p:nvPr/>
        </p:nvSpPr>
        <p:spPr>
          <a:xfrm>
            <a:off x="0" y="3294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b0f0"/>
                </a:solidFill>
                <a:latin typeface="French Script MT"/>
              </a:rPr>
              <a:t>El Collar de Turques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57243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ccff"/>
                </a:solidFill>
                <a:latin typeface="Arial"/>
                <a:ea typeface="Arial"/>
              </a:rPr>
              <a:t>Hacer click para continu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wave_song_for_pe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8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http://tupianku.com/bin/1294/cczxl/28--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57160" y="284040"/>
            <a:ext cx="4621320" cy="6288120"/>
          </a:xfrm>
          <a:prstGeom prst="rect">
            <a:avLst/>
          </a:prstGeom>
          <a:ln w="0">
            <a:noFill/>
          </a:ln>
        </p:spPr>
      </p:pic>
      <p:sp>
        <p:nvSpPr>
          <p:cNvPr id="89" name="14 CuadroTexto"/>
          <p:cNvSpPr/>
          <p:nvPr/>
        </p:nvSpPr>
        <p:spPr>
          <a:xfrm>
            <a:off x="5643720" y="4071960"/>
            <a:ext cx="350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l hombre tomó el estuche, rehizo el envoltorio casi ceremoniosamente, y con mucho cariño colocó de nuevo la cinta diciendo mientras se lo devolvía a la jov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16 CuadroTexto"/>
          <p:cNvSpPr/>
          <p:nvPr/>
        </p:nvSpPr>
        <p:spPr>
          <a:xfrm>
            <a:off x="5572080" y="142920"/>
            <a:ext cx="3571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“…</a:t>
            </a: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Pero mi hermana sólo tenía algunas monedas que ha juntado haciendo muñecas de trapo con ropa vieja, pues mi sueldo es demasiado modesto y apenas nos alcanza para sobrevivir. Este collar ciertamente no es de fantasía, y ella simplemente no tendría dinero suficiente para pagarlo…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22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7360" y="52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El silencio llenó el local y las lágrimas rodaron por el rostro de la joven, mientras sus manos tomaban el paquete y saía de allí lentamente, abrazándolo fuerte contra su pech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Click to view a larger picture"/>
          <p:cNvPicPr/>
          <p:nvPr/>
        </p:nvPicPr>
        <p:blipFill>
          <a:blip r:embed="rId1"/>
          <a:stretch/>
        </p:blipFill>
        <p:spPr>
          <a:xfrm>
            <a:off x="168120" y="-914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Click to view a larger picture"/>
          <p:cNvPicPr/>
          <p:nvPr/>
        </p:nvPicPr>
        <p:blipFill>
          <a:blip r:embed="rId2"/>
          <a:stretch/>
        </p:blipFill>
        <p:spPr>
          <a:xfrm>
            <a:off x="168120" y="-914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Click to view a larger picture"/>
          <p:cNvPicPr/>
          <p:nvPr/>
        </p:nvPicPr>
        <p:blipFill>
          <a:blip r:embed="rId3"/>
          <a:stretch/>
        </p:blipFill>
        <p:spPr>
          <a:xfrm>
            <a:off x="168120" y="-914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Click to view a larger picture"/>
          <p:cNvPicPr/>
          <p:nvPr/>
        </p:nvPicPr>
        <p:blipFill>
          <a:blip r:embed="rId4"/>
          <a:stretch/>
        </p:blipFill>
        <p:spPr>
          <a:xfrm>
            <a:off x="168120" y="-914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7" name="20 CuadroTexto"/>
          <p:cNvSpPr/>
          <p:nvPr/>
        </p:nvSpPr>
        <p:spPr>
          <a:xfrm>
            <a:off x="2714760" y="2790720"/>
            <a:ext cx="36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99"/>
                </a:solidFill>
                <a:latin typeface="Times New Roman"/>
                <a:ea typeface="Arial"/>
              </a:rPr>
              <a:t>“</a:t>
            </a:r>
            <a:r>
              <a:rPr b="0" i="1" lang="es-MX" sz="2000" spc="-1" strike="noStrike">
                <a:solidFill>
                  <a:srgbClr val="ffff99"/>
                </a:solidFill>
                <a:latin typeface="Times New Roman"/>
                <a:ea typeface="Arial"/>
              </a:rPr>
              <a:t>Ella pagó el precio más alto que cualquier persona puede pag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2714760" y="36432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99"/>
                </a:solidFill>
                <a:latin typeface="Times New Roman"/>
                <a:ea typeface="Arial"/>
              </a:rPr>
              <a:t>Ella dio todo lo que tenía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2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9 CuadroTexto"/>
          <p:cNvSpPr/>
          <p:nvPr/>
        </p:nvSpPr>
        <p:spPr>
          <a:xfrm>
            <a:off x="1000080" y="2057400"/>
            <a:ext cx="72867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“</a:t>
            </a: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Si un día tienes que elegir entre el mundo y el am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Recuer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Si eliges el mundo quedarás sin am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pero si eliges el amor, con él conquistarás al mundo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5357880" y="5038560"/>
            <a:ext cx="2357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French Script MT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1 CuadroTexto"/>
          <p:cNvSpPr/>
          <p:nvPr/>
        </p:nvSpPr>
        <p:spPr>
          <a:xfrm>
            <a:off x="0" y="2995560"/>
            <a:ext cx="9144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French Script MT"/>
              </a:rPr>
              <a:t>F  i 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12 CuadroTexto"/>
          <p:cNvSpPr/>
          <p:nvPr/>
        </p:nvSpPr>
        <p:spPr>
          <a:xfrm>
            <a:off x="0" y="57927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70c0"/>
                </a:solidFill>
                <a:latin typeface="Arial"/>
                <a:ea typeface="Arial"/>
              </a:rPr>
              <a:t>Historia original de autor desconocido por el creador de este p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4054"/>
                </a:solidFill>
                <a:latin typeface="Arial"/>
                <a:ea typeface="Arial"/>
              </a:rPr>
              <a:t>Montaje original cortesía de Carlos Ran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4054"/>
                </a:solidFill>
                <a:latin typeface="Arial"/>
                <a:ea typeface="Arial"/>
              </a:rPr>
              <a:t>Santiago de Querétaro, Mex. Mar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4054"/>
                </a:solidFill>
                <a:latin typeface="Arial"/>
                <a:ea typeface="Arial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29"/>
          <p:cNvSpPr/>
          <p:nvPr/>
        </p:nvSpPr>
        <p:spPr>
          <a:xfrm>
            <a:off x="5072040" y="211068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Detrás del mostrador el hombre miraba distraídamente hacia la calle mientras una pequeña niña se aproximaba al lo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5072040" y="43725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Ella aplastó su naricita contra el vidrio del espectacular aparador y de pronto sus ojos color miel brillaron cuando vio determinado obje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ttp://www.klimt02.net/uploaded_images/5481.jpg"/>
          <p:cNvPicPr/>
          <p:nvPr/>
        </p:nvPicPr>
        <p:blipFill>
          <a:blip r:embed="rId1"/>
          <a:stretch/>
        </p:blipFill>
        <p:spPr>
          <a:xfrm>
            <a:off x="214200" y="195120"/>
            <a:ext cx="4710240" cy="644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http://www.klimt02.net/uploaded_images/9439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285840"/>
            <a:ext cx="7500960" cy="5357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7160" y="5770440"/>
            <a:ext cx="75009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Ella entró decididamente en el local y pidió ver un hermoso collar azul</a:t>
            </a:r>
            <a:br>
              <a:rPr sz="1800"/>
            </a:b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que le había llamado la atención y le dijo al vende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857160" y="6286680"/>
            <a:ext cx="7500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i="1" lang="pt-BR" sz="1800" spc="-1" strike="noStrike">
                <a:solidFill>
                  <a:srgbClr val="ffffcc"/>
                </a:solidFill>
                <a:latin typeface="Times New Roman"/>
              </a:rPr>
              <a:t>Es para mi hermana. Podría hacerme un lindo paquet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 CLICK TO ENLARGE"/>
          <p:cNvPicPr/>
          <p:nvPr/>
        </p:nvPicPr>
        <p:blipFill>
          <a:blip r:embed="rId1"/>
          <a:stretch/>
        </p:blipFill>
        <p:spPr>
          <a:xfrm>
            <a:off x="857160" y="284040"/>
            <a:ext cx="5857920" cy="4792680"/>
          </a:xfrm>
          <a:prstGeom prst="rect">
            <a:avLst/>
          </a:prstGeom>
          <a:ln w="0">
            <a:noFill/>
          </a:ln>
        </p:spPr>
      </p:pic>
      <p:sp>
        <p:nvSpPr>
          <p:cNvPr id="61" name="6 CuadroTexto"/>
          <p:cNvSpPr/>
          <p:nvPr/>
        </p:nvSpPr>
        <p:spPr>
          <a:xfrm>
            <a:off x="6786720" y="2120760"/>
            <a:ext cx="207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l dueño del local, quien estaba a un lado, miró a la chica con cierta desconfianza y con toda tranquilidad le pregunt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7 CuadroTexto"/>
          <p:cNvSpPr/>
          <p:nvPr/>
        </p:nvSpPr>
        <p:spPr>
          <a:xfrm>
            <a:off x="6786720" y="44974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Cuánto dinero tienes, pequeña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8 CuadroTexto"/>
          <p:cNvSpPr/>
          <p:nvPr/>
        </p:nvSpPr>
        <p:spPr>
          <a:xfrm>
            <a:off x="785880" y="5219640"/>
            <a:ext cx="77151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Sin alterarse ni un instante, la niña sacó de su bolsillo un atadito lleno de nudos, los cuales delicadamente fue deshaciendo uno por u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Cuando terminó, colocó orgullosamente el pañuelo sobre el mostrador y con inusitado aplomo, dij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9 CuadroTexto"/>
          <p:cNvSpPr/>
          <p:nvPr/>
        </p:nvSpPr>
        <p:spPr>
          <a:xfrm>
            <a:off x="3571920" y="61437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“… 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Esto alcanza, no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 CLICK TO ENLARGE"/>
          <p:cNvPicPr/>
          <p:nvPr/>
        </p:nvPicPr>
        <p:blipFill>
          <a:blip r:embed="rId1"/>
          <a:stretch/>
        </p:blipFill>
        <p:spPr>
          <a:xfrm>
            <a:off x="857160" y="284040"/>
            <a:ext cx="5856480" cy="4792680"/>
          </a:xfrm>
          <a:prstGeom prst="rect">
            <a:avLst/>
          </a:prstGeom>
          <a:ln w="0">
            <a:noFill/>
          </a:ln>
        </p:spPr>
      </p:pic>
      <p:sp>
        <p:nvSpPr>
          <p:cNvPr id="67" name="7 CuadroTexto"/>
          <p:cNvSpPr/>
          <p:nvPr/>
        </p:nvSpPr>
        <p:spPr>
          <a:xfrm>
            <a:off x="785880" y="52196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Mirando al dueño con una tierna mirada que expresaba una mezcla de ilusión y tristeza le dij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8 CuadroTexto"/>
          <p:cNvSpPr/>
          <p:nvPr/>
        </p:nvSpPr>
        <p:spPr>
          <a:xfrm>
            <a:off x="785880" y="5929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Sabe, desde que nuestra madre murió, mi hermana me ha cuidado con mucho cariño y la pobre nunca tiene tiempo para ella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10 CuadroTexto"/>
          <p:cNvSpPr/>
          <p:nvPr/>
        </p:nvSpPr>
        <p:spPr>
          <a:xfrm>
            <a:off x="6786720" y="3025800"/>
            <a:ext cx="1581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n el pañuelo solamente había unas cuantas moneda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http://tupianku.com/bin/1294/cczxl/28--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57160" y="284040"/>
            <a:ext cx="4621320" cy="6288120"/>
          </a:xfrm>
          <a:prstGeom prst="rect">
            <a:avLst/>
          </a:prstGeom>
          <a:ln w="0">
            <a:noFill/>
          </a:ln>
        </p:spPr>
      </p:pic>
      <p:sp>
        <p:nvSpPr>
          <p:cNvPr id="72" name="7 CuadroTexto"/>
          <p:cNvSpPr/>
          <p:nvPr/>
        </p:nvSpPr>
        <p:spPr>
          <a:xfrm>
            <a:off x="5643720" y="121428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oy es su cumpleaños y estoy segura que ella estará feliz con este collar, porque es justo del color de sus ojos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5643720" y="3286080"/>
            <a:ext cx="321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l empleado miraba al dueño sin saber qué hacer o decir, pero éste sólo le sonrió a la niña, y se fue a la trastienda, y personalmente lo envolvió en un espectacular papel plateado e hizo un hermoso moño con una cinta az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klimt02.net/uploaded_images/9439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285840"/>
            <a:ext cx="7500960" cy="5357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82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Ante el estupor del empleado, el dueño colocó el hermoso paquete en una de las exclusivas bolsas de la joyería y se lo entregó a la pequeña diciéndole:</a:t>
            </a:r>
            <a:br>
              <a:rPr sz="1800"/>
            </a:br>
            <a:r>
              <a:rPr b="0" i="1" lang="pt-BR" sz="1800" spc="-1" strike="noStrike">
                <a:solidFill>
                  <a:srgbClr val="ffff99"/>
                </a:solidFill>
                <a:latin typeface="Times New Roman"/>
              </a:rPr>
              <a:t>“Toma, llévalo con  cuidado.”</a:t>
            </a:r>
            <a:br>
              <a:rPr sz="1800"/>
            </a:b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Ella se fue feliz saltando calle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 CLICK TO ENLARGE"/>
          <p:cNvPicPr/>
          <p:nvPr/>
        </p:nvPicPr>
        <p:blipFill>
          <a:blip r:embed="rId1"/>
          <a:stretch/>
        </p:blipFill>
        <p:spPr>
          <a:xfrm>
            <a:off x="857160" y="285840"/>
            <a:ext cx="7500960" cy="5357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5773320"/>
            <a:ext cx="828216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Todavía no había terminado el día cuando una encantadora joven de cabellos rubios y maravillosos ojos azules entró en el negocio.</a:t>
            </a:r>
            <a:br>
              <a:rPr sz="1800"/>
            </a:b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Colocó sobre el mostrador el paquete desenvuelto y pregunt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0" descr="http://tupianku.com/bin/1294/cczxl/28--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57160" y="284040"/>
            <a:ext cx="4621320" cy="6288120"/>
          </a:xfrm>
          <a:prstGeom prst="rect">
            <a:avLst/>
          </a:prstGeom>
          <a:ln w="0">
            <a:noFill/>
          </a:ln>
        </p:spPr>
      </p:pic>
      <p:sp>
        <p:nvSpPr>
          <p:cNvPr id="82" name="10 CuadroTexto"/>
          <p:cNvSpPr/>
          <p:nvPr/>
        </p:nvSpPr>
        <p:spPr>
          <a:xfrm>
            <a:off x="5643720" y="12636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l empleado cortésmente le pidió que esperara un momento y fue a llamar al dueño, quien de inmediato regresó, y con la más respetuosa sonrisa le dij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11 CuadroTexto"/>
          <p:cNvSpPr/>
          <p:nvPr/>
        </p:nvSpPr>
        <p:spPr>
          <a:xfrm>
            <a:off x="5572080" y="7858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Este collar fue comprado aquí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13 CuadroTexto"/>
          <p:cNvSpPr/>
          <p:nvPr/>
        </p:nvSpPr>
        <p:spPr>
          <a:xfrm>
            <a:off x="5572080" y="305928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Sí, señora, este collar es una de las piezas especiales de nuestra colección exclusiva y en efecto, fue comprado aquí esta maña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14 CuadroTexto"/>
          <p:cNvSpPr/>
          <p:nvPr/>
        </p:nvSpPr>
        <p:spPr>
          <a:xfrm>
            <a:off x="5572080" y="43448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Cuánto costó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15 CuadroTexto"/>
          <p:cNvSpPr/>
          <p:nvPr/>
        </p:nvSpPr>
        <p:spPr>
          <a:xfrm>
            <a:off x="5572080" y="480852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Lamento no poder brindarle esa información, señora. Es nuestra política que el precio de cualquier artículo siempre es un asunto confidencial entre la empresa y el clien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5:45:47Z</dcterms:created>
  <dc:creator>aparecida santana</dc:creator>
  <dc:description/>
  <dc:language>en-US</dc:language>
  <cp:lastModifiedBy>Carlos Rangel</cp:lastModifiedBy>
  <dcterms:modified xsi:type="dcterms:W3CDTF">2008-03-16T22:43:06Z</dcterms:modified>
  <cp:revision>18</cp:revision>
  <dc:subject/>
  <dc:title>Eu pedi a Deus</dc:title>
</cp:coreProperties>
</file>