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2CA-4438-430D-8BC8-D344AB3A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E5C-AFC9-4938-97A1-9E12150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22A-FD55-4822-8ED5-E204A80D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9C4-38BC-4EF8-AEDD-9514FCFB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08C-ED1F-474C-A88A-5C9AB9C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94A-F842-4E57-9B2A-9F43150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C32-107C-47F7-9224-451D4FDB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317-2DFA-4951-89BE-51DD148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1E8-3D37-4F98-8C90-92ECB218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439-8192-45BA-86CE-69237A1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011-DAC6-4173-BA68-72300BF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934-4FED-44B5-8669-8E747FC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7E3-0C0A-448A-B172-7291C5F7E91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755640" y="765000"/>
            <a:ext cx="7416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600" spc="-1" strike="noStrike">
                <a:solidFill>
                  <a:srgbClr val="000000"/>
                </a:solidFill>
                <a:latin typeface="Calibri"/>
              </a:rPr>
              <a:t>Des célébrités que vous connaissez bien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600" spc="-1" strike="noStrike">
                <a:solidFill>
                  <a:srgbClr val="000000"/>
                </a:solidFill>
                <a:latin typeface="Calibri"/>
              </a:rPr>
              <a:t>En 2015 ils auront de 70 ans à 85 an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Peter Fonda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2" descr="Peter fonda 75.jpg"/>
          <p:cNvPicPr/>
          <p:nvPr/>
        </p:nvPicPr>
        <p:blipFill>
          <a:blip r:embed="rId1"/>
          <a:stretch/>
        </p:blipFill>
        <p:spPr>
          <a:xfrm>
            <a:off x="250920" y="620640"/>
            <a:ext cx="8599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aquel Welch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2" descr="raquel welch 75.jpg"/>
          <p:cNvPicPr/>
          <p:nvPr/>
        </p:nvPicPr>
        <p:blipFill>
          <a:blip r:embed="rId1"/>
          <a:stretch/>
        </p:blipFill>
        <p:spPr>
          <a:xfrm>
            <a:off x="468360" y="476280"/>
            <a:ext cx="82198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Anthony Hopkins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2" descr="anthony hopkins 78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ustin hoffmann 78.jpg"/>
          <p:cNvPicPr/>
          <p:nvPr/>
        </p:nvPicPr>
        <p:blipFill>
          <a:blip r:embed="rId1"/>
          <a:stretch/>
        </p:blipFill>
        <p:spPr>
          <a:xfrm>
            <a:off x="468360" y="476280"/>
            <a:ext cx="8253360" cy="5256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Dustin Hoffmann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ack Nicholson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2" descr="jack  78nicholson.jpg"/>
          <p:cNvPicPr/>
          <p:nvPr/>
        </p:nvPicPr>
        <p:blipFill>
          <a:blip r:embed="rId1"/>
          <a:stretch/>
        </p:blipFill>
        <p:spPr>
          <a:xfrm>
            <a:off x="738360" y="333360"/>
            <a:ext cx="772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ane Fonda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2" descr="jane fonda 78.jpg"/>
          <p:cNvPicPr/>
          <p:nvPr/>
        </p:nvPicPr>
        <p:blipFill>
          <a:blip r:embed="rId1"/>
          <a:stretch/>
        </p:blipFill>
        <p:spPr>
          <a:xfrm>
            <a:off x="468360" y="476280"/>
            <a:ext cx="82198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Vanessa Redgrave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2" descr="vanessa redgrave 78.jpg"/>
          <p:cNvPicPr/>
          <p:nvPr/>
        </p:nvPicPr>
        <p:blipFill>
          <a:blip r:embed="rId1"/>
          <a:stretch/>
        </p:blipFill>
        <p:spPr>
          <a:xfrm>
            <a:off x="539640" y="549360"/>
            <a:ext cx="81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Warren Beatty 78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 2" descr="warren beatty 78.jpg"/>
          <p:cNvPicPr/>
          <p:nvPr/>
        </p:nvPicPr>
        <p:blipFill>
          <a:blip r:embed="rId1"/>
          <a:stretch/>
        </p:blipFill>
        <p:spPr>
          <a:xfrm>
            <a:off x="826920" y="476280"/>
            <a:ext cx="7409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Burt Reynolds 79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Burt Reynolds 79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Redford 79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2" descr="robert redford 79.jpg"/>
          <p:cNvPicPr/>
          <p:nvPr/>
        </p:nvPicPr>
        <p:blipFill>
          <a:blip r:embed="rId1"/>
          <a:stretch/>
        </p:blipFill>
        <p:spPr>
          <a:xfrm>
            <a:off x="431640" y="476280"/>
            <a:ext cx="83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Robert\Pictures\tom selleck 70.jpg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ZoneTexte 4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Tom Selleck 7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Donald Sutherland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 2" descr="donald sutherland 80.jpg"/>
          <p:cNvPicPr/>
          <p:nvPr/>
        </p:nvPicPr>
        <p:blipFill>
          <a:blip r:embed="rId1"/>
          <a:stretch/>
        </p:blipFill>
        <p:spPr>
          <a:xfrm>
            <a:off x="730080" y="404640"/>
            <a:ext cx="76582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ulie Andrews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2" descr="julie andrews 80.jpg"/>
          <p:cNvPicPr/>
          <p:nvPr/>
        </p:nvPicPr>
        <p:blipFill>
          <a:blip r:embed="rId1"/>
          <a:stretch/>
        </p:blipFill>
        <p:spPr>
          <a:xfrm>
            <a:off x="1258920" y="333360"/>
            <a:ext cx="6791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Woody Allen 80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2" descr="woody allen 80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hirley McLaine 81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2" descr="shirley mclaine 81.jpg"/>
          <p:cNvPicPr/>
          <p:nvPr/>
        </p:nvPicPr>
        <p:blipFill>
          <a:blip r:embed="rId1"/>
          <a:stretch/>
        </p:blipFill>
        <p:spPr>
          <a:xfrm>
            <a:off x="611280" y="333360"/>
            <a:ext cx="79772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ophia Loren 81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 2" descr="sophia loren 81.jpg"/>
          <p:cNvPicPr/>
          <p:nvPr/>
        </p:nvPicPr>
        <p:blipFill>
          <a:blip r:embed="rId1"/>
          <a:stretch/>
        </p:blipFill>
        <p:spPr>
          <a:xfrm>
            <a:off x="684360" y="260280"/>
            <a:ext cx="7780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oan Collins 8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 2" descr="joan collins 82.jpg"/>
          <p:cNvPicPr/>
          <p:nvPr/>
        </p:nvPicPr>
        <p:blipFill>
          <a:blip r:embed="rId1"/>
          <a:stretch/>
        </p:blipFill>
        <p:spPr>
          <a:xfrm>
            <a:off x="814320" y="404640"/>
            <a:ext cx="7574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ichael Caine 8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2" descr="michael caine 82.jpg"/>
          <p:cNvPicPr/>
          <p:nvPr/>
        </p:nvPicPr>
        <p:blipFill>
          <a:blip r:embed="rId1"/>
          <a:stretch/>
        </p:blipFill>
        <p:spPr>
          <a:xfrm>
            <a:off x="468360" y="476280"/>
            <a:ext cx="8157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Duvall 84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 2" descr="robert duvall 84.jpg"/>
          <p:cNvPicPr/>
          <p:nvPr/>
        </p:nvPicPr>
        <p:blipFill>
          <a:blip r:embed="rId1"/>
          <a:stretch/>
        </p:blipFill>
        <p:spPr>
          <a:xfrm>
            <a:off x="324000" y="404640"/>
            <a:ext cx="8532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Gene Hackman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2" descr="gene hackman 85.jpg"/>
          <p:cNvPicPr/>
          <p:nvPr/>
        </p:nvPicPr>
        <p:blipFill>
          <a:blip r:embed="rId1"/>
          <a:stretch/>
        </p:blipFill>
        <p:spPr>
          <a:xfrm>
            <a:off x="237960" y="333360"/>
            <a:ext cx="87267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Sean Connery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2" descr="sean connery 85.jpg"/>
          <p:cNvPicPr/>
          <p:nvPr/>
        </p:nvPicPr>
        <p:blipFill>
          <a:blip r:embed="rId1"/>
          <a:stretch/>
        </p:blipFill>
        <p:spPr>
          <a:xfrm>
            <a:off x="179280" y="476280"/>
            <a:ext cx="87282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Robert\Pictures\robert de niro 72.jpg"/>
          <p:cNvPicPr/>
          <p:nvPr/>
        </p:nvPicPr>
        <p:blipFill>
          <a:blip r:embed="rId1"/>
          <a:stretch/>
        </p:blipFill>
        <p:spPr>
          <a:xfrm>
            <a:off x="1258920" y="692280"/>
            <a:ext cx="663732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Robert de Niro 72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Clint Eastwood 8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2" descr="clint eastwood 85.jpg"/>
          <p:cNvPicPr/>
          <p:nvPr/>
        </p:nvPicPr>
        <p:blipFill>
          <a:blip r:embed="rId1"/>
          <a:stretch/>
        </p:blipFill>
        <p:spPr>
          <a:xfrm>
            <a:off x="700200" y="333360"/>
            <a:ext cx="7759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1"/>
          <p:cNvSpPr/>
          <p:nvPr/>
        </p:nvSpPr>
        <p:spPr>
          <a:xfrm>
            <a:off x="1692360" y="285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Longue vie à t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barbara streisand 73.jpg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Barbara Streisan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fred ward 73.jpg"/>
          <p:cNvPicPr/>
          <p:nvPr/>
        </p:nvPicPr>
        <p:blipFill>
          <a:blip r:embed="rId1"/>
          <a:stretch/>
        </p:blipFill>
        <p:spPr>
          <a:xfrm>
            <a:off x="1136520" y="549360"/>
            <a:ext cx="6964560" cy="51116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Fred War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harrison ford 73.jpg"/>
          <p:cNvPicPr/>
          <p:nvPr/>
        </p:nvPicPr>
        <p:blipFill>
          <a:blip r:embed="rId1"/>
          <a:stretch/>
        </p:blipFill>
        <p:spPr>
          <a:xfrm>
            <a:off x="979560" y="620640"/>
            <a:ext cx="704844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1692360" y="5867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Harrison Ford 73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1"/>
          <p:cNvSpPr/>
          <p:nvPr/>
        </p:nvSpPr>
        <p:spPr>
          <a:xfrm>
            <a:off x="1692360" y="6002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Julie Christie 74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2" descr="julie christie 74.jpg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al pacino 75.jpg"/>
          <p:cNvPicPr/>
          <p:nvPr/>
        </p:nvPicPr>
        <p:blipFill>
          <a:blip r:embed="rId1"/>
          <a:stretch/>
        </p:blipFill>
        <p:spPr>
          <a:xfrm>
            <a:off x="1122480" y="587520"/>
            <a:ext cx="6834240" cy="528948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Al Pacino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692360" y="60739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alibri"/>
              </a:rPr>
              <a:t>Martin Sheen 75 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2" descr="martin sheen 75.jpg"/>
          <p:cNvPicPr/>
          <p:nvPr/>
        </p:nvPicPr>
        <p:blipFill>
          <a:blip r:embed="rId1"/>
          <a:stretch/>
        </p:blipFill>
        <p:spPr>
          <a:xfrm>
            <a:off x="755640" y="620640"/>
            <a:ext cx="7691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2:58:58Z</dcterms:created>
  <dc:creator>Robert</dc:creator>
  <dc:description/>
  <dc:language>en-US</dc:language>
  <cp:lastModifiedBy>Robert</cp:lastModifiedBy>
  <dcterms:modified xsi:type="dcterms:W3CDTF">2015-02-16T13:26:40Z</dcterms:modified>
  <cp:revision>1</cp:revision>
  <dc:subject/>
  <dc:title>Diapositive 1</dc:title>
</cp:coreProperties>
</file>