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3.jpeg" ContentType="image/jpeg"/>
  <Override PartName="/ppt/media/image1.jpeg" ContentType="image/jpeg"/>
  <Override PartName="/ppt/media/image7.jpeg" ContentType="image/jpeg"/>
  <Override PartName="/ppt/media/image14.gif" ContentType="image/gif"/>
  <Override PartName="/ppt/media/12%20piensa%20en%20mi.wav" ContentType="audio/x-wav"/>
  <Override PartName="/ppt/media/image3.gif" ContentType="image/gif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72A-8816-4E1B-B47C-78CFA8AF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580-17A1-48DD-BD87-081C4105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67E-2A5C-47DE-ACE8-6E3B48DA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C95-685E-4CB4-82CA-A5A0AC1C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5B5-F290-4F3C-B472-B2211629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0DE-3827-4E82-9742-89B07871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F0F-9DC6-4906-8D6F-A5E49FBF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8C4-11BE-4633-9A33-02A6A21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ABC-0368-4492-86F7-476AB13B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429-0E9B-4982-93C4-71A7367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BF4-A3DE-47D3-9D42-5706282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535-F2AC-4F7F-9A79-7D68E69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9C42-B2A7-4641-98EB-46AEC177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12%20piensa%20en%20m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907920"/>
            <a:ext cx="5616360" cy="172728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mor-1"/>
          <p:cNvPicPr/>
          <p:nvPr/>
        </p:nvPicPr>
        <p:blipFill>
          <a:blip r:embed="rId1"/>
          <a:stretch/>
        </p:blipFill>
        <p:spPr>
          <a:xfrm>
            <a:off x="5435640" y="2852640"/>
            <a:ext cx="332100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050920" y="1268280"/>
            <a:ext cx="4762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No permitas que 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llamen viej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6524640"/>
            <a:ext cx="1552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AVO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827200">
            <a:off x="1258560" y="263700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12%20piensa%20en%20m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604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907920"/>
            <a:ext cx="7201080" cy="504216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363384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907920"/>
            <a:ext cx="7201080" cy="504216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692360" y="1700280"/>
            <a:ext cx="5832360" cy="37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TENGAS UN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6021360"/>
            <a:ext cx="252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up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4797360"/>
            <a:ext cx="5616720" cy="158292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953960"/>
            <a:ext cx="5327640" cy="1191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En la juventud, la belleza es un accid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de la Naturale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En la vejez, es una obra de arte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LIN YU TANG. Escritor chino.(1895-1976)</a:t>
            </a:r>
            <a:r>
              <a:rPr b="0" lang="en-US" sz="18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8424720" cy="622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62064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836280"/>
            <a:ext cx="79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l arte de envejecer consiste en conservar alguna esperanza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ANDRÉ MAUROIS. Novelista y ensayista francés.(1885-1967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50000">
              <a:srgbClr val="ffcc99"/>
            </a:gs>
            <a:gs pos="100000">
              <a:srgbClr val="75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21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5157720"/>
            <a:ext cx="8064360" cy="93672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15736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Cuando envejecemos, la belleza se convierte en cualidad interior. RALPH WALDO EMERSON. Clérigo (1803 – 1882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64000" y="2349360"/>
            <a:ext cx="3313440" cy="237672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79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565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ara el prof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la tercera e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s invier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ara el sab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s la es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de la cosech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61484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33f"/>
            </a:gs>
            <a:gs pos="50000">
              <a:srgbClr val="ad0789"/>
            </a:gs>
            <a:gs pos="100000">
              <a:srgbClr val="4f03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2000" y="620640"/>
            <a:ext cx="6624720" cy="93672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ad0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n los ojos de los jóvenes vemos llamas, pero es en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ojos de los mayores que vemos la lu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VICTOR HUGO. Escritor francés.(1802 - 188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90792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5013360"/>
            <a:ext cx="8207280" cy="1512720"/>
          </a:xfrm>
          <a:prstGeom prst="roundRect">
            <a:avLst>
              <a:gd name="adj" fmla="val 16667"/>
            </a:avLst>
          </a:prstGeom>
          <a:solidFill>
            <a:srgbClr val="ffffff">
              <a:alpha val="45000"/>
            </a:srgbClr>
          </a:solidFill>
          <a:ln w="316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No es viejo aquel que pierde su cabello, sino su última esperanza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No es viejo el que lleva en su corazón el amor siempre ardien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no es viejo el que mantiene su fe en si mismo, el que v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sanamente alegre, convencido de que para el corazón no hay edad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12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1197000"/>
            <a:ext cx="7056360" cy="460836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Goethe concluyó Fausto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82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El Tiziano pintó obras maestras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98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Toscanini dirigió orquestas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87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Edison trabajaba en su laboratorio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83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Benjamín Franklin contribuyó a redac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la Constitu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de los Estados Unidos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81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5"/>
            </a:gs>
            <a:gs pos="5000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72360" cy="547236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692280"/>
            <a:ext cx="6840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Entonces … ¡¡¡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adelante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o habrá fuerza capaz de detener a quien sueñ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a quien construye aún sobre las cenizas,     a quien 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a quien espera de la vida el momento mágico de una ilus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a quien no olvida que el tiempo pas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si … pero no se llevó consigo su cora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Por lo tanto, sueña, construye, ama, espera 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no permitas que te llamen viejo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1:35Z</dcterms:created>
  <dc:creator>Lupe</dc:creator>
  <dc:description/>
  <dc:language>en-US</dc:language>
  <cp:lastModifiedBy>Administrador</cp:lastModifiedBy>
  <dcterms:modified xsi:type="dcterms:W3CDTF">2009-08-10T00:07:16Z</dcterms:modified>
  <cp:revision>3</cp:revision>
  <dc:subject>Presentación en Power Point</dc:subject>
  <dc:title>Nopermitasquetellamenviejo</dc:title>
</cp:coreProperties>
</file>