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gif" ContentType="image/gif"/>
  <Override PartName="/ppt/media/image13.jpeg" ContentType="image/jpeg"/>
  <Override PartName="/ppt/media/image1.jpeg" ContentType="image/jpeg"/>
  <Override PartName="/ppt/media/image7.jpeg" ContentType="image/jpeg"/>
  <Override PartName="/ppt/media/image14.gif" ContentType="image/gif"/>
  <Override PartName="/ppt/media/12%20piensa%20en%20mi.wav" ContentType="audio/x-wav"/>
  <Override PartName="/ppt/media/image3.gif" ContentType="image/gif"/>
  <Override PartName="/ppt/media/image4.jpeg" ContentType="image/jpeg"/>
  <Override PartName="/ppt/media/image5.jpeg" ContentType="image/jpeg"/>
  <Override PartName="/ppt/media/image8.jpeg" ContentType="image/jpeg"/>
  <Override PartName="/ppt/media/image2.gif" ContentType="image/gif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1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EA433-22D9-4EB9-B54E-EAED9C09B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CEE5F-DBE0-45BE-8461-A005E5619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97A65-C62F-429F-9605-88F40AA66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FA19B-FA3A-4A1C-860B-97D12DFDE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D03A1-0CE0-47FC-88C8-ECCF0849B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0A38B-BA0A-4471-A0FC-E38907F14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398CC-A0AC-4E68-A469-44BD7EE0F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B45EE-8E52-4650-B433-A1BC5F823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7478E-2F30-4E46-98AD-7892FD94C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7ED31-DAAE-42E3-8AC3-21729FB5B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A390D-2B7C-47DE-8E7F-A1CF573EB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218A2-19BF-4F67-BF13-842B97505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BCB29-46C7-4FBA-8297-4A5299C618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audio" Target="../media/12%20piensa%20en%20mi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75"/>
            </a:gs>
            <a:gs pos="50000">
              <a:srgbClr val="0066ff"/>
            </a:gs>
            <a:gs pos="100000">
              <a:srgbClr val="002f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92360" y="907920"/>
            <a:ext cx="5616360" cy="1727280"/>
          </a:xfrm>
          <a:prstGeom prst="roundRect">
            <a:avLst>
              <a:gd name="adj" fmla="val 16667"/>
            </a:avLst>
          </a:prstGeom>
          <a:solidFill>
            <a:srgbClr val="ffffff">
              <a:alpha val="10000"/>
            </a:srgbClr>
          </a:solidFill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amor-1"/>
          <p:cNvPicPr/>
          <p:nvPr/>
        </p:nvPicPr>
        <p:blipFill>
          <a:blip r:embed="rId1"/>
          <a:stretch/>
        </p:blipFill>
        <p:spPr>
          <a:xfrm>
            <a:off x="5435640" y="2852640"/>
            <a:ext cx="3321000" cy="37450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>
            <a:off x="2050920" y="1268280"/>
            <a:ext cx="4762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53753" dir="2700000" blurRad="0" rotWithShape="0">
                    <a:srgbClr val="868686">
                      <a:alpha val="50000"/>
                    </a:srgbClr>
                  </a:outerShdw>
                </a:effectLst>
                <a:latin typeface="Arial Black"/>
              </a:rPr>
              <a:t>No permitas que t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53753" dir="2700000" blurRad="0" rotWithShape="0">
                  <a:srgbClr val="868686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53753" dir="2700000" blurRad="0" rotWithShape="0">
                    <a:srgbClr val="868686">
                      <a:alpha val="50000"/>
                    </a:srgbClr>
                  </a:outerShdw>
                </a:effectLst>
                <a:latin typeface="Arial Black"/>
              </a:rPr>
              <a:t>llamen viejo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53753" dir="2700000" blurRad="0" rotWithShape="0">
                  <a:srgbClr val="868686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2484360" y="6524640"/>
            <a:ext cx="1552680" cy="17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ALTAVOCE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 rot="20827200">
            <a:off x="1258560" y="2637000"/>
            <a:ext cx="2519280" cy="251928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3" name="12%20piensa%20en%20mi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4675"/>
            </a:gs>
            <a:gs pos="50000">
              <a:srgbClr val="3399ff"/>
            </a:gs>
            <a:gs pos="100000">
              <a:srgbClr val="1746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68360" y="404640"/>
            <a:ext cx="8351640" cy="60487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1042920" y="907920"/>
            <a:ext cx="7201080" cy="5042160"/>
          </a:xfrm>
          <a:prstGeom prst="roundRect">
            <a:avLst>
              <a:gd name="adj" fmla="val 16667"/>
            </a:avLst>
          </a:prstGeom>
          <a:solidFill>
            <a:srgbClr val="ffffff">
              <a:alpha val="34000"/>
            </a:srgbClr>
          </a:solidFill>
          <a:ln w="316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2843280" y="1197000"/>
            <a:ext cx="3633840" cy="4464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4600"/>
            </a:gs>
            <a:gs pos="50000">
              <a:srgbClr val="ff9900"/>
            </a:gs>
            <a:gs pos="100000">
              <a:srgbClr val="754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8424720" cy="619128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1042920" y="907920"/>
            <a:ext cx="7201080" cy="5042160"/>
          </a:xfrm>
          <a:prstGeom prst="roundRect">
            <a:avLst>
              <a:gd name="adj" fmla="val 16667"/>
            </a:avLst>
          </a:prstGeom>
          <a:solidFill>
            <a:srgbClr val="ffffff">
              <a:alpha val="34000"/>
            </a:srgbClr>
          </a:solidFill>
          <a:ln w="316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2268360" y="1557360"/>
            <a:ext cx="4762800" cy="476244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 txBox="1"/>
          <p:nvPr/>
        </p:nvSpPr>
        <p:spPr>
          <a:xfrm>
            <a:off x="1692360" y="1700280"/>
            <a:ext cx="5832360" cy="37447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QUE TENGAS UN</a:t>
            </a:r>
            <a:endParaRPr b="0" lang="en-US" sz="4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3348000" y="6021360"/>
            <a:ext cx="252108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Lupe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fade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2000"/>
                            </p:stCondLst>
                            <p:childTnLst>
                              <p:par>
                                <p:cTn id="1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4000"/>
                            </p:stCondLst>
                            <p:childTnLst>
                              <p:par>
                                <p:cTn id="16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7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75"/>
            </a:gs>
            <a:gs pos="50000">
              <a:srgbClr val="0066ff"/>
            </a:gs>
            <a:gs pos="100000">
              <a:srgbClr val="002f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24000" y="404640"/>
            <a:ext cx="8424720" cy="6120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9640" y="4797360"/>
            <a:ext cx="5616720" cy="1582920"/>
          </a:xfrm>
          <a:prstGeom prst="roundRect">
            <a:avLst>
              <a:gd name="adj" fmla="val 16667"/>
            </a:avLst>
          </a:prstGeom>
          <a:solidFill>
            <a:srgbClr val="ffffff">
              <a:alpha val="10000"/>
            </a:srgbClr>
          </a:solidFill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4953960"/>
            <a:ext cx="5327640" cy="119124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Georgia"/>
              </a:rPr>
              <a:t>En la juventud, la belleza es un acciden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Georgia"/>
              </a:rPr>
              <a:t>de la Naturalez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Georgia"/>
              </a:rPr>
              <a:t>En la vejez, es una obra de arte.</a:t>
            </a:r>
            <a:br>
              <a:rPr sz="1800"/>
            </a:br>
            <a:r>
              <a:rPr b="1" i="1" lang="en-US" sz="1800" spc="-1" strike="noStrike">
                <a:solidFill>
                  <a:srgbClr val="ffffff"/>
                </a:solidFill>
                <a:latin typeface="Georgia"/>
              </a:rPr>
              <a:t>LIN YU TANG. Escritor chino.(1895-1976)</a:t>
            </a:r>
            <a:r>
              <a:rPr b="0" lang="en-US" sz="1800" spc="-1" strike="noStrike">
                <a:solidFill>
                  <a:srgbClr val="000000"/>
                </a:solidFill>
                <a:latin typeface="Imprint MT Shado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5000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24000" y="297000"/>
            <a:ext cx="8424720" cy="62276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539640" y="620640"/>
            <a:ext cx="8064720" cy="1224000"/>
          </a:xfrm>
          <a:prstGeom prst="roundRect">
            <a:avLst>
              <a:gd name="adj" fmla="val 16667"/>
            </a:avLst>
          </a:prstGeom>
          <a:solidFill>
            <a:srgbClr val="ffffff">
              <a:alpha val="34000"/>
            </a:srgbClr>
          </a:solidFill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39640" y="836280"/>
            <a:ext cx="799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Georgia"/>
              </a:rPr>
              <a:t>El arte de envejecer consiste en conservar alguna esperanza.</a:t>
            </a:r>
            <a:br>
              <a:rPr sz="1800"/>
            </a:br>
            <a:r>
              <a:rPr b="1" i="1" lang="en-US" sz="1800" spc="-1" strike="noStrike">
                <a:solidFill>
                  <a:srgbClr val="000000"/>
                </a:solidFill>
                <a:latin typeface="Georgia"/>
              </a:rPr>
              <a:t>ANDRÉ MAUROIS. Novelista y ensayista francés.(1885-1967)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5e46"/>
            </a:gs>
            <a:gs pos="50000">
              <a:srgbClr val="ffcc99"/>
            </a:gs>
            <a:gs pos="100000">
              <a:srgbClr val="755e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8497800" cy="62118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611280" y="5157720"/>
            <a:ext cx="8064360" cy="936720"/>
          </a:xfrm>
          <a:prstGeom prst="roundRect">
            <a:avLst>
              <a:gd name="adj" fmla="val 16667"/>
            </a:avLst>
          </a:prstGeom>
          <a:solidFill>
            <a:srgbClr val="ffffff">
              <a:alpha val="34000"/>
            </a:srgbClr>
          </a:solidFill>
          <a:ln w="3168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5157360"/>
            <a:ext cx="7991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Georgia"/>
              </a:rPr>
              <a:t>Cuando envejecemos, la belleza se convierte en cualidad interior. RALPH WALDO EMERSON. Clérigo (1803 – 1882)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5e00"/>
            </a:gs>
            <a:gs pos="50000">
              <a:srgbClr val="99cc00"/>
            </a:gs>
            <a:gs pos="100000">
              <a:srgbClr val="465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5364000" y="2349360"/>
            <a:ext cx="3313440" cy="2376720"/>
          </a:xfrm>
          <a:prstGeom prst="roundRect">
            <a:avLst>
              <a:gd name="adj" fmla="val 16667"/>
            </a:avLst>
          </a:prstGeom>
          <a:solidFill>
            <a:srgbClr val="ffffff">
              <a:alpha val="34000"/>
            </a:srgbClr>
          </a:solidFill>
          <a:ln w="31680">
            <a:solidFill>
              <a:srgbClr val="79a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651640" y="2565360"/>
            <a:ext cx="2736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Georgia"/>
              </a:rPr>
              <a:t>Para el profan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Georgia"/>
              </a:rPr>
              <a:t>la tercera eda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Georgia"/>
              </a:rPr>
              <a:t>es invierno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Georgia"/>
              </a:rPr>
              <a:t>para el sabi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Georgia"/>
              </a:rPr>
              <a:t>es la estació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Georgia"/>
              </a:rPr>
              <a:t>de la cosecha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539640" y="260280"/>
            <a:ext cx="4614840" cy="6264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033f"/>
            </a:gs>
            <a:gs pos="50000">
              <a:srgbClr val="ad0789"/>
            </a:gs>
            <a:gs pos="100000">
              <a:srgbClr val="4f033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68360" y="333360"/>
            <a:ext cx="8280360" cy="61912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332000" y="620640"/>
            <a:ext cx="6624720" cy="936720"/>
          </a:xfrm>
          <a:prstGeom prst="roundRect">
            <a:avLst>
              <a:gd name="adj" fmla="val 16667"/>
            </a:avLst>
          </a:prstGeom>
          <a:solidFill>
            <a:srgbClr val="ffffff">
              <a:alpha val="34000"/>
            </a:srgbClr>
          </a:solidFill>
          <a:ln w="31680">
            <a:solidFill>
              <a:srgbClr val="ad078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Georgia"/>
              </a:rPr>
              <a:t>En los ojos de los jóvenes vemos llamas, pero es en l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Georgia"/>
              </a:rPr>
              <a:t>ojos de los mayores que vemos la luz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Georgia"/>
              </a:rPr>
              <a:t>VICTOR HUGO. Escritor francés.(1802 - 1885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258920" y="907920"/>
            <a:ext cx="6697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000"/>
                            </p:stCondLst>
                            <p:childTnLst>
                              <p:par>
                                <p:cTn id="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6768"/>
            </a:gs>
            <a:gs pos="50000">
              <a:srgbClr val="bbe0e3"/>
            </a:gs>
            <a:gs pos="100000">
              <a:srgbClr val="56676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8496000" cy="62643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468360" y="5013360"/>
            <a:ext cx="8207280" cy="1512720"/>
          </a:xfrm>
          <a:prstGeom prst="roundRect">
            <a:avLst>
              <a:gd name="adj" fmla="val 16667"/>
            </a:avLst>
          </a:prstGeom>
          <a:solidFill>
            <a:srgbClr val="ffffff">
              <a:alpha val="45000"/>
            </a:srgbClr>
          </a:solidFill>
          <a:ln w="3168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Georgia"/>
              </a:rPr>
              <a:t>No es viejo aquel que pierde su cabello, sino su última esperanza.</a:t>
            </a:r>
            <a:br>
              <a:rPr sz="1800"/>
            </a:br>
            <a:r>
              <a:rPr b="1" i="1" lang="en-US" sz="1800" spc="-1" strike="noStrike">
                <a:solidFill>
                  <a:srgbClr val="000000"/>
                </a:solidFill>
                <a:latin typeface="Georgia"/>
              </a:rPr>
              <a:t>No es viejo el que lleva en su corazón el amor siempre ardiente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Georgia"/>
              </a:rPr>
              <a:t>no es viejo el que mantiene su fe en si mismo, el que vi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Georgia"/>
              </a:rPr>
              <a:t>sanamente alegre, convencido de que para el corazón no hay edad</a:t>
            </a:r>
            <a:r>
              <a:rPr b="1" i="1" lang="en-US" sz="2000" spc="-1" strike="noStrike">
                <a:solidFill>
                  <a:srgbClr val="000000"/>
                </a:solidFill>
                <a:latin typeface="Georgia"/>
              </a:rPr>
              <a:t>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2f"/>
            </a:gs>
            <a:gs pos="50000">
              <a:srgbClr val="ffff66"/>
            </a:gs>
            <a:gs pos="100000">
              <a:srgbClr val="7575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8497800" cy="6120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1042920" y="1197000"/>
            <a:ext cx="7056360" cy="4608360"/>
          </a:xfrm>
          <a:prstGeom prst="roundRect">
            <a:avLst>
              <a:gd name="adj" fmla="val 16667"/>
            </a:avLst>
          </a:prstGeom>
          <a:solidFill>
            <a:srgbClr val="ffffff">
              <a:alpha val="34000"/>
            </a:srgbClr>
          </a:solidFill>
          <a:ln w="316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Georgia"/>
              </a:rPr>
              <a:t>Goethe concluyó Fausto a los </a:t>
            </a:r>
            <a:r>
              <a:rPr b="1" i="1" lang="es-ES" sz="2400" spc="-1" strike="noStrike">
                <a:solidFill>
                  <a:srgbClr val="ff3300"/>
                </a:solidFill>
                <a:latin typeface="Georgia"/>
              </a:rPr>
              <a:t>82</a:t>
            </a:r>
            <a:r>
              <a:rPr b="1" i="1" lang="es-ES" sz="2000" spc="-1" strike="noStrike">
                <a:solidFill>
                  <a:srgbClr val="000000"/>
                </a:solidFill>
                <a:latin typeface="Georgia"/>
              </a:rPr>
              <a:t> añ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Georgia"/>
              </a:rPr>
              <a:t>El Tiziano pintó obras maestras a los </a:t>
            </a:r>
            <a:r>
              <a:rPr b="1" i="1" lang="es-ES" sz="2400" spc="-1" strike="noStrike">
                <a:solidFill>
                  <a:srgbClr val="ff3300"/>
                </a:solidFill>
                <a:latin typeface="Georgia"/>
              </a:rPr>
              <a:t>98</a:t>
            </a:r>
            <a:r>
              <a:rPr b="1" i="1" lang="es-ES" sz="20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Georgia"/>
              </a:rPr>
              <a:t>Toscanini dirigió orquestas a los </a:t>
            </a:r>
            <a:r>
              <a:rPr b="1" i="1" lang="es-ES" sz="2400" spc="-1" strike="noStrike">
                <a:solidFill>
                  <a:srgbClr val="ff3300"/>
                </a:solidFill>
                <a:latin typeface="Georgia"/>
              </a:rPr>
              <a:t>87</a:t>
            </a:r>
            <a:r>
              <a:rPr b="1" i="1" lang="es-ES" sz="20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Georgia"/>
              </a:rPr>
              <a:t>Edison trabajaba en su laboratorio a los </a:t>
            </a:r>
            <a:r>
              <a:rPr b="1" i="1" lang="es-ES" sz="2400" spc="-1" strike="noStrike">
                <a:solidFill>
                  <a:srgbClr val="ff3300"/>
                </a:solidFill>
                <a:latin typeface="Georgia"/>
              </a:rPr>
              <a:t>83</a:t>
            </a:r>
            <a:r>
              <a:rPr b="1" i="1" lang="es-ES" sz="20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Georgia"/>
              </a:rPr>
              <a:t>Benjamín Franklin contribuyó a redacta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Georgia"/>
              </a:rPr>
              <a:t>la Constitució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Georgia"/>
              </a:rPr>
              <a:t>de los Estados Unidos a los </a:t>
            </a:r>
            <a:r>
              <a:rPr b="1" i="1" lang="es-ES" sz="2400" spc="-1" strike="noStrike">
                <a:solidFill>
                  <a:srgbClr val="ff3300"/>
                </a:solidFill>
                <a:latin typeface="Georgia"/>
              </a:rPr>
              <a:t>81</a:t>
            </a:r>
            <a:r>
              <a:rPr b="1" i="1" lang="es-ES" sz="2000" spc="-1" strike="noStrike">
                <a:solidFill>
                  <a:srgbClr val="000000"/>
                </a:solidFill>
                <a:latin typeface="Georgia"/>
              </a:rPr>
              <a:t>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2f75"/>
            </a:gs>
            <a:gs pos="50000">
              <a:srgbClr val="cc66ff"/>
            </a:gs>
            <a:gs pos="100000">
              <a:srgbClr val="5e2f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8424720" cy="61754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971640" y="620640"/>
            <a:ext cx="7272360" cy="5472360"/>
          </a:xfrm>
          <a:prstGeom prst="roundRect">
            <a:avLst>
              <a:gd name="adj" fmla="val 16667"/>
            </a:avLst>
          </a:prstGeom>
          <a:solidFill>
            <a:srgbClr val="ffffff">
              <a:alpha val="34000"/>
            </a:srgbClr>
          </a:solidFill>
          <a:ln w="31680">
            <a:solidFill>
              <a:srgbClr val="cc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042920" y="692280"/>
            <a:ext cx="6840720" cy="533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Entonces … ¡¡¡ </a:t>
            </a:r>
            <a:r>
              <a:rPr b="1" i="1" lang="en-US" sz="3200" spc="-1" strike="noStrike">
                <a:solidFill>
                  <a:srgbClr val="000000"/>
                </a:solidFill>
                <a:latin typeface="Georgia"/>
              </a:rPr>
              <a:t>adelante</a:t>
            </a: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 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No habrá fuerza capaz de detener a quien sueña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a quien construye aún sobre las cenizas,     a quien ama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a quien espera de la vida el momento mágico de una ilusión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a quien no olvida que el tiempo pasó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si … pero no se llevó consigo su coraz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Por lo tanto, sueña, construye, ama, espera y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Georgia"/>
              </a:rPr>
              <a:t>no permitas que te llamen viejo !!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5" dur="2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9" dur="20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4000"/>
                            </p:stCondLst>
                            <p:childTnLst>
                              <p:par>
                                <p:cTn id="12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3" dur="20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6000"/>
                            </p:stCondLst>
                            <p:childTnLst>
                              <p:par>
                                <p:cTn id="12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7" dur="2000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8000"/>
                            </p:stCondLst>
                            <p:childTnLst>
                              <p:par>
                                <p:cTn id="12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1" dur="200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0000"/>
                            </p:stCondLst>
                            <p:childTnLst>
                              <p:par>
                                <p:cTn id="13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5" dur="2000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3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9" dur="2000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4000"/>
                            </p:stCondLst>
                            <p:childTnLst>
                              <p:par>
                                <p:cTn id="14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3" dur="2000"/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0T12:51:35Z</dcterms:created>
  <dc:creator>Lupe</dc:creator>
  <dc:description/>
  <dc:language>en-US</dc:language>
  <cp:lastModifiedBy>Administrador</cp:lastModifiedBy>
  <dcterms:modified xsi:type="dcterms:W3CDTF">2009-08-10T00:07:16Z</dcterms:modified>
  <cp:revision>3</cp:revision>
  <dc:subject>Presentación en Power Point</dc:subject>
  <dc:title>Nopermitasquetellamenviejo</dc:title>
</cp:coreProperties>
</file>