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Chamras%20Saewataporn%20-%20Stream.wav" ContentType="audio/x-wav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C33-5D81-4409-B132-8DDA0296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23D-587E-4771-9208-6A8CDF65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DD3-D1C5-4B47-A71D-9E2909C9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9B9-B732-4E97-9CFE-D01BA690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FD9-76A5-43B6-9834-4147B7F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747-9CCB-4BD4-A692-30A677BC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71FB-B975-4923-9F42-E518993E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3E8-AF86-470C-85FA-D8631205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EDA-F8D5-4E62-BD03-0B3D5F10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646-B2C8-4938-A7B7-E26F1FD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4C1-A6B0-436A-80B8-00F3E931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913-1E54-41B6-A5BB-20A0946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ABFB-3EE9-4425-9CA3-94C3ECB507C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amras%20Saewataporn%20-%20Stream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70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önleges pillan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tógaléria 2005 legjobb képei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029120" cy="38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9040" y="630864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xto agregado por José Luis Chávez Ramí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Chamras%20Saewataporn%20-%20St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9960" y="423720"/>
            <a:ext cx="81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omos responsables por lo que hacemos, no importa cómo nos sinta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1440" y="423720"/>
            <a:ext cx="53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 no controlas tu actitud, ella te controlará a 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765000"/>
            <a:ext cx="848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n importar que tan excitante es una relación al principio, la pasión desvanece y más vale que haya otra cosa que tome su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83664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os héroes son las personas que hacen lo que se tiene que hacer, cuando se necesita hacerlo y sin importar las consecu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60" y="3933720"/>
            <a:ext cx="65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dinero es una pésima forma de mantener el marcado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1360" y="5157720"/>
            <a:ext cx="82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mi mejor amigo y yo podemos hacer cualquier cosa, o no hacer nada, y pasar el mejor tiemp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 veces las personas que esperas que te pateen cuando estás derrotado, son las que te ayudarán a levanta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83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 veces, cuando estoy enojado, y aunque tenga derecho para estarlo, eso no me da el derecho de ser cr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8920" y="1073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or el hecho de que una persona no te quiera como tú quisieras que lo hiciera, no significa que no te quiera con todo lo que tien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496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 madurez tiene más que ver con las experiencias que has tenido y lo que has aprendido de ellas, que con el número de cumpleaños que has celeb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3280" y="1268280"/>
            <a:ext cx="37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has aprendido en la vida?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0720" y="18900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iempre es suficiente ser perdonado por los demás. A veces tienes que aprender a perdonarte a ti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5000" y="5661000"/>
            <a:ext cx="86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importa qué tanto está roto tu corazón, el mundo no se detiene por tu p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364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uestro pasado y nuestras circunstancias pueden haber influenciado en quiénes somos, pero somos responsables por quién llegamos a s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360" y="33336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hecho de que dos personas discutan no significa que no se quieran el uno al otro. Y el hecho de que no discutan, no significa que sí se quieran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3280" y="189000"/>
            <a:ext cx="880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debes insistir tanto en encontrar un secreto. Podría cambiar tu vida para siempr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136440"/>
            <a:ext cx="84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dos personas pueden ver exactamente la misma cosa, y ver algo totalmente difer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240" y="260280"/>
            <a:ext cx="88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tu vida puede ser cambiada en cuestión de horas por personas que ni siquiera te cono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515772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ún cuando piensas que no tienes más que dar, cuando un amigo te llora, encontrarás la fuerza para ayud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87560" y="26028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s credenciales en la pared no te hacen una persona de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24720" y="5589720"/>
            <a:ext cx="743040" cy="571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9400" y="1052640"/>
            <a:ext cx="615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s personas por las que más te preocupas en la vida se van demasiado pro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64320" y="494172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éntale esto a todas las personas en las que crees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 lo acabo de ha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8080" y="549360"/>
            <a:ext cx="87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tenemos que cambiar a los amigos, si entendemos que los amigos camb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4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 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importa qué tan bueno es un amigo, te van a lastimar en algún momento y los debes perdonar por 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2960" y="476280"/>
            <a:ext cx="785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 Que la amistad verdadera continua creciendo, aún más allá de la distancia. Lo mismo pasa con el amo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17200" y="559584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uedes hacer algo en un instante que te causará dolor de por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2120" y="5157720"/>
            <a:ext cx="79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 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me está tomando mucho tiempo llegar a ser la persona que quiero se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549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empre debes dejar con palabras de amor a las personas que quieres. Puede ser la última vez que las v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6640" y="260280"/>
            <a:ext cx="66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uedes seguir adelante mucho después de que no pue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9:04:50Z</dcterms:created>
  <dc:creator>Csondy</dc:creator>
  <dc:description/>
  <dc:language>en-US</dc:language>
  <cp:lastModifiedBy>Grupo Financiero Banamex</cp:lastModifiedBy>
  <dcterms:modified xsi:type="dcterms:W3CDTF">2007-12-18T23:19:20Z</dcterms:modified>
  <cp:revision>4</cp:revision>
  <dc:subject/>
  <dc:title>a National Geographic</dc:title>
</cp:coreProperties>
</file>