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png" ContentType="image/png"/>
  <Override PartName="/ppt/media/image7.jpeg" ContentType="image/jpeg"/>
  <Override PartName="/ppt/media/image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29C-4500-4089-8BDA-B4B2294F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736-46CB-4C3F-B7ED-AF59ECB5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D914-FB71-4557-A2A0-D3AEAFCE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A892-8A63-448E-A9B6-1A41AD94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7F6-F90F-4DAE-932F-C7C1E7D8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AD30-C646-4A02-8B0D-04988608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3AB-87AD-4DAB-9D2E-D8F849DB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A10A-A073-4984-9FB7-CE4A28E2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A3E4-6810-493A-9C32-95206C96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D3D-80CE-4727-97C9-2BC18FEC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14C6-BEC0-42AF-9144-501EB30F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78E-C9E0-4F1C-B80A-9B1B4C26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A37C-EBB2-4DE8-A4B6-57865BBD4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Pescador" TargetMode="External"/><Relationship Id="rId3" Type="http://schemas.microsoft.com/office/2007/relationships/media" Target="file:///tmp/home/.config/libreoffice/4/user/gallery/Pescador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03640" y="907920"/>
            <a:ext cx="3816360" cy="528732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cc"/>
                </a:solidFill>
                <a:latin typeface="Comic Sans MS"/>
              </a:rPr>
              <a:t>HOMENAJE   DE  LOS  DIBUJANTES DEL MUNDO A JUAN PABLO I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cc"/>
                </a:solidFill>
                <a:latin typeface="Comic Sans MS"/>
              </a:rPr>
              <a:t>EL DÍA DE SU MU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0920" y="241200"/>
            <a:ext cx="383688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LAS 23 RESPUESTAS D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MADRE TERESA DE CALCUTA.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716360" y="7389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590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395280" y="638172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13.- ¿CUÁL ES LA PERSONA MÁS PELIGROSA?     LA MENTIRO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5832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602136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14.- ¿CUÁL ES EL SENTIMIENTO MÁS RUIN?         EL REN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15.- ¿CUÁL ES EL REGALO MÁS BELLO?                 EL PERD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5975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1370160" y="6380280"/>
            <a:ext cx="65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16.- ¿QUÉ ES LO MÁS IMPRESCINDIBLE?            EL HOGAR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561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87280" y="609300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17.- ¿CUÁL ES LA RUTA MÁS RÁPIDA?              EL CAMINO REC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</a:t>
            </a: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18.- ¿CUÁL ES LA SENSACIÓN MÁS GRANDE?      LA PAZ INTER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975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974880" y="6381720"/>
            <a:ext cx="71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19.- ¿CUÁL ES EL RESGUARDO MÁS EFICAZ?       EL OPTIMISMO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975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286000" y="6308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60930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20- ¿CUÁL ES LA MAYOR SATISFACCIÓN?        EL DEBER CUMPLIDO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5329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611280" y="638820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713560"/>
            <a:ext cx="88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21.- ¿CUÁL ES LA FUERZA MÁS POTENTE DEL MUNDO?           LA 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22.- ¿CUÁLES SON LAS PERSONAS MÁS NECESARIAS?    LOS PAD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497200" cy="5832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2286000" y="62755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-176040"/>
            <a:ext cx="2772000" cy="47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cc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VOY A PASAR POR LA VIDA UNA SOLA VEZ: POR ESO CUALQUIER COSA BUENA QUE     YO PUEDA HACER, O ALGUNA AMABILIDAD QUE PUEDA HACERLE      A ALGÚN SER HUMANO, DEBO HACERLO AHORA..PORQUE NO PASARÉ DE NUEVO          POR AQU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mic Sans MS"/>
              </a:rPr>
              <a:t>TERESA DE CALC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020000" y="4797360"/>
            <a:ext cx="1019160" cy="933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626256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23.- ¿CUÁL ES LA COSA MÁS BELLA DE TODAS?                         EL AM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272880"/>
            <a:ext cx="8497800" cy="6035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332000" y="609300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Comic Sans MS"/>
              </a:rPr>
              <a:t>1.- ¿CUÁL ES EL DÍA MÁS BELLO?         HO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Comic Sans MS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5977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828720" y="630864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Comic Sans MS"/>
              </a:rPr>
              <a:t>2.- ¿CUÁL ES LA COSA MÁS FÁCIL?     EQUIVOCAR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Comic Sans MS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590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538200" y="630864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3.- ¿CUÁL ES EL OBSTÁCULO MÁS GRANDE?             EL MIE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34920" y="287280"/>
            <a:ext cx="7272360" cy="5373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58388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4.- ¿CUÁL ES EL MAYOR ERROR?                     ABANDONAR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5.- ¿CUÁL ES LA RAÍZ DE TODOS LOS MALES?      EL EGOÍS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5689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66560" y="6093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6.- ¿CUÁL ES LA DISTRACCIÓN MÁS BELLA?           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7.- ¿CUÁL ES LA PEOR DERROTA?                    EL DESALIENTO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048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4000" y="645336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8.- ¿QUIÉNES SON LOS MEJORES PROFESORES?        LOS NI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61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4000" y="60278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9.- ¿CUÁL ES LA PRIMERA NECESIDAD?                COMUNICAR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10.- ¿QUÉ ES LO QUE HACE MÁS FELIZ?    SER ÚTIL A LOS DEM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61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576360" y="6093000"/>
            <a:ext cx="799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11.- ¿CUÁL ES EL MISTERIO MÁS GRANDE?           LA MU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12.- ¿CUÁL ES EL PEOR DEFECTO?                  EL MAL HUM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692280"/>
            <a:ext cx="2664000" cy="1512720"/>
          </a:xfrm>
          <a:prstGeom prst="wedgeEllipseCallout">
            <a:avLst>
              <a:gd name="adj1" fmla="val -21037"/>
              <a:gd name="adj2" fmla="val -792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ienveni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uen y F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er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7:31:32Z</dcterms:created>
  <dc:creator>Veronica Vivot</dc:creator>
  <dc:description/>
  <dc:language>en-US</dc:language>
  <cp:lastModifiedBy>Centro de Cómputo Académico</cp:lastModifiedBy>
  <dcterms:modified xsi:type="dcterms:W3CDTF">2008-07-28T14:09:43Z</dcterms:modified>
  <cp:revision>5</cp:revision>
  <dc:subject/>
  <dc:title> </dc:title>
</cp:coreProperties>
</file>