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1C6-2E56-467D-B1B1-7D5F5E20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76A-2895-483B-BE1D-A8D54D74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9F2-0DCE-4513-8170-2F08A972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710-AF89-437A-B318-097F54A9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D26-67E2-4122-B17C-91EB5F30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1DC-D410-4903-A05C-3213BC6E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C30-E15A-456B-BF66-24F35EE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15C-BF48-4F1D-8203-C13CBED5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0EF-D1A9-4529-9FEA-DB4399A4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4CA-3100-42E0-BDB7-66765CC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38B-7C11-4957-92D9-2710F112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B77-B8CB-4D54-8BE9-A502AF9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5DAE-3321-4E6C-A2F2-E1CF9FB25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escador" TargetMode="External"/><Relationship Id="rId3" Type="http://schemas.microsoft.com/office/2007/relationships/media" Target="file:///tmp/home/.config/libreoffice/4/user/gallery/Pescador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03640" y="907920"/>
            <a:ext cx="3816360" cy="528732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cc"/>
                </a:solidFill>
                <a:latin typeface="Comic Sans MS"/>
              </a:rPr>
              <a:t>HOMENAJE   DE  LOS  DIBUJANTES DEL MUNDO A JUAN PABLO 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cc"/>
                </a:solidFill>
                <a:latin typeface="Comic Sans MS"/>
              </a:rPr>
              <a:t>EL DÍA DE SU MU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0920" y="241200"/>
            <a:ext cx="3836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LAS 23 RESPUESTAS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MADRE TERESA DE CALCUTA.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716360" y="738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90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95280" y="63817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3.- ¿CUÁL ES LA PERSONA MÁS PELIGROSA?     LA MENTI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83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602136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4.- ¿CUÁL ES EL SENTIMIENTO MÁS RUIN?         EL RE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5.- ¿CUÁL ES EL REGALO MÁS BELLO?                 EL PERD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370160" y="6380280"/>
            <a:ext cx="65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6.- ¿QUÉ ES LO MÁS IMPRESCINDIBLE?            EL HOGA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61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87280" y="6093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7.- ¿CUÁL ES LA RUTA MÁS RÁPIDA?              EL CAMINO REC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8.- ¿CUÁL ES LA SENSACIÓN MÁS GRANDE?      LA PAZ INT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9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974880" y="6381720"/>
            <a:ext cx="71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9.- ¿CUÁL ES EL RESGUARDO MÁS EFICAZ?       EL OPTIMISM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9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286000" y="6308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093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20- ¿CUÁL ES LA MAYOR SATISFACCIÓN?        EL DEBER CUMPLID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329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11280" y="638820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71356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21.- ¿CUÁL ES LA FUERZA MÁS POTENTE DEL MUNDO?           LA 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22.- ¿CUÁLES SON LAS PERSONAS MÁS NECESARIAS?    LOS PAD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497200" cy="583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2286000" y="62755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-176040"/>
            <a:ext cx="277200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VOY A PASAR POR LA VIDA UNA SOLA VEZ: POR ESO CUALQUIER COSA BUENA QUE     YO PUEDA HACER, O ALGUNA AMABILIDAD QUE PUEDA HACERLE      A ALGÚN SER HUMANO, DEBO HACERLO AHORA..PORQUE NO PASARÉ DE NUEVO          POR AQU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TERESA DE CALC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020000" y="4797360"/>
            <a:ext cx="1019160" cy="933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62625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23.- ¿CUÁL ES LA COSA MÁS BELLA DE TODAS?                         EL A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272880"/>
            <a:ext cx="8497800" cy="6035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332000" y="60930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1.- ¿CUÁL ES EL DÍA MÁS BELLO?         HO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7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828720" y="6308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2.- ¿CUÁL ES LA COSA MÁS FÁCIL?     EQUIVOCA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90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38200" y="6308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3.- ¿CUÁL ES EL OBSTÁCULO MÁS GRANDE?             EL MIE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34920" y="287280"/>
            <a:ext cx="7272360" cy="537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58388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4.- ¿CUÁL ES EL MAYOR ERROR?                     ABANDONA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5.- ¿CUÁL ES LA RAÍZ DE TODOS LOS MALES?      EL EGOÍS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68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6656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6.- ¿CUÁL ES LA DISTRACCIÓN MÁS BELLA?          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7.- ¿CUÁL ES LA PEOR DERROTA?                    EL DESALIENTO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04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645336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8.- ¿QUIÉNES SON LOS MEJORES PROFESORES?        LOS NI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60278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9.- ¿CUÁL ES LA PRIMERA NECESIDAD?                COMUNICA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0.- ¿QUÉ ES LO QUE HACE MÁS FELIZ?    SER ÚTIL A LOS DE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61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76360" y="6093000"/>
            <a:ext cx="799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1.- ¿CUÁL ES EL MISTERIO MÁS GRANDE?           LA MU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2.- ¿CUÁL ES EL PEOR DEFECTO?                  EL MAL HUM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692280"/>
            <a:ext cx="2664000" cy="1512720"/>
          </a:xfrm>
          <a:prstGeom prst="wedgeEllipseCallout">
            <a:avLst>
              <a:gd name="adj1" fmla="val -21037"/>
              <a:gd name="adj2" fmla="val -79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ienveni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uen y F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er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7:31:32Z</dcterms:created>
  <dc:creator>Veronica Vivot</dc:creator>
  <dc:description/>
  <dc:language>en-US</dc:language>
  <cp:lastModifiedBy>Centro de Cómputo Académico</cp:lastModifiedBy>
  <dcterms:modified xsi:type="dcterms:W3CDTF">2008-07-28T14:09:43Z</dcterms:modified>
  <cp:revision>5</cp:revision>
  <dc:subject/>
  <dc:title> </dc:title>
</cp:coreProperties>
</file>