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1.jpeg" ContentType="image/jpeg"/>
  <Override PartName="/ppt/media/TANGO%20-%20Accordion%20-%20LA%20CUMPARSITA-16%20X%2011025%20MONO%20-%20COMBINADA.wav" ContentType="audio/x-wav"/>
  <Override PartName="/ppt/media/image23.jpeg" ContentType="image/jpeg"/>
  <Override PartName="/ppt/media/image29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2913-C6DC-4BD5-8B83-E1A5CBFA7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UNTA DEL ESTE - 02 - CAPA INICIAL-700 – FONTE ALGERIAND 12 e IMPRINT MT SHADOW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5FC-A9A4-4B20-9D44-69EF63CB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CA4-EC9A-46E0-83A4-A942F2E4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C60-DF43-4308-91F0-70656322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C45-1822-4052-BD8A-FD83B1B3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3F2-D275-48C9-A6A6-E69E1F78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91E-5700-4F87-878B-DA45C80B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2E6-13BF-480C-AA40-6B30738F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924-B5A9-4CC5-96C6-063C4D3D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893C-F20E-4551-898C-4418BB87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4C6-012C-464D-8065-458B532D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1C5-2DA1-4250-A020-6B877770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A2E-1C00-4C4C-AFAB-41BAE36F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9F51-A3E6-426A-8025-A3822A3A1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ANGO%20-%20Accordion%20-%20LA%20CUMPARSITA-16%20X%2011025%20MONO%20-%20COMBINAD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Uruguay de Peta Pan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16360" y="407664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ff3300"/>
                </a:solidFill>
                <a:latin typeface="Arial"/>
              </a:rPr>
              <a:t>Música a ritmo de tango por: A .P . G .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971640" y="4224600"/>
            <a:ext cx="34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3300"/>
                </a:solidFill>
                <a:latin typeface="Arial"/>
              </a:rPr>
              <a:t>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3300"/>
                </a:solidFill>
                <a:latin typeface="Arial"/>
              </a:rPr>
              <a:t>LOS 7 LAGOS DE ARGEN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blinds dir="horz"/>
    <p:sndAc>
      <p:stSnd>
        <p:snd r:embed="rId2" name="TANGO%20-%20Accordion%20-%20LA%20CUMPARSITA-16%20X%2011025%20MONO%20-%20COMBINAD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47520" y="-38160"/>
            <a:ext cx="9239040" cy="6934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457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lla la Angos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124080" y="380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go “Correntos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19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803160"/>
            <a:ext cx="9144000" cy="6054840"/>
          </a:xfrm>
          <a:prstGeom prst="rect">
            <a:avLst/>
          </a:prstGeom>
          <a:ln w="15840">
            <a:solidFill>
              <a:srgbClr val="ffff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600200" y="304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n Carlos de Barilo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47520" y="0"/>
            <a:ext cx="9239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47520" y="-38160"/>
            <a:ext cx="9239040" cy="6934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81280" y="457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go “Espej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53080" y="15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go Escon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43560" y="4492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go F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47520" y="-38160"/>
            <a:ext cx="9239040" cy="6934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47520" y="-38160"/>
            <a:ext cx="9239040" cy="6934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95400" y="0"/>
            <a:ext cx="92394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71800" y="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go “Falkn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47520" y="-38160"/>
            <a:ext cx="9239040" cy="6934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62320" y="525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go Mach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1952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go “Villariñ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52480" y="7621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n Martín de los Andes sobre el lago “Laca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35120" y="568440"/>
            <a:ext cx="383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F I 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7520" y="0"/>
            <a:ext cx="92390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304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ahuel Huap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4:27Z</dcterms:created>
  <dc:creator>Eliza Torres</dc:creator>
  <dc:description/>
  <dc:language>en-US</dc:language>
  <cp:lastModifiedBy>angel cortes perez</cp:lastModifiedBy>
  <dcterms:modified xsi:type="dcterms:W3CDTF">2010-03-12T00:29:26Z</dcterms:modified>
  <cp:revision>1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50000000000001024120</vt:lpwstr>
  </property>
</Properties>
</file>