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gif" ContentType="image/gif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AMIGOS%20P%20SIEMPRE.wav" ContentType="audio/x-wav"/>
  <Override PartName="/ppt/media/image18.gif" ContentType="image/gif"/>
  <Override PartName="/ppt/media/image13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F5DD-95E9-4910-B1E2-801DA270D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ACFB-617A-41EF-9E9A-084233D3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23F7-DCDA-4BD0-BB73-1500CF9D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802E-61A9-4C59-A5C3-C16C8120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7D94-FED5-417E-A0D0-8CACF9BB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6710-185B-4B20-ABC2-A44DC38F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870B-843C-4A99-8F4E-20CEE3CE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D0B0-E07D-4FB1-AFD2-92248098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A992-8599-4025-9166-090D2F02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2EDE-A937-4CB4-90BA-BAC2D822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0F47-3EA2-498E-835C-002F37D9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7B63-5E59-4FA9-8628-F59783B5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ECF3-2622-4DA4-8515-A5B3EA132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audio" Target="../media/AMIGOS%20P%20SIEMPRE.wav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peque-semillitas.blogspot.com/" TargetMode="External"/><Relationship Id="rId3" Type="http://schemas.openxmlformats.org/officeDocument/2006/relationships/hyperlink" Target="http://peque-semillitas.blogspot.com/" TargetMode="External"/><Relationship Id="rId4" Type="http://schemas.openxmlformats.org/officeDocument/2006/relationships/hyperlink" Target="http://peque-semillitas.blogspot.com/" TargetMode="External"/><Relationship Id="rId5" Type="http://schemas.openxmlformats.org/officeDocument/2006/relationships/hyperlink" Target="http://peque-semillitas.blogspot.com/" TargetMode="External"/><Relationship Id="rId6" Type="http://schemas.openxmlformats.org/officeDocument/2006/relationships/hyperlink" Target="http://juanpabloinolvidable.blogspot.com/" TargetMode="External"/><Relationship Id="rId7" Type="http://schemas.openxmlformats.org/officeDocument/2006/relationships/hyperlink" Target="http://juanpabloinolvidable.blogspot.com/" TargetMode="External"/><Relationship Id="rId8" Type="http://schemas.openxmlformats.org/officeDocument/2006/relationships/hyperlink" Target="http://juanpabloinolvidable.blogspot.com/" TargetMode="External"/><Relationship Id="rId9" Type="http://schemas.openxmlformats.org/officeDocument/2006/relationships/hyperlink" Target="mailto:feluzul@gmail.com" TargetMode="External"/><Relationship Id="rId10" Type="http://schemas.openxmlformats.org/officeDocument/2006/relationships/image" Target="../media/image18.gif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333360"/>
            <a:ext cx="8569080" cy="626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8136000" cy="583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04640"/>
            <a:ext cx="8280360" cy="60487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692280"/>
            <a:ext cx="7632720" cy="54734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47640" y="5300640"/>
            <a:ext cx="599148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Comic Sans MS"/>
              </a:rPr>
              <a:t>Gotitas de amistad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</p:spTree>
  </p:cSld>
  <p:transition spd="slow" advTm="10000">
    <p:push dir="r"/>
    <p:sndAc>
      <p:stSnd>
        <p:snd r:embed="rId7" name="AMIGOS%20P%20SIEMPR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0000"/>
              </a:gs>
              <a:gs pos="100000">
                <a:srgbClr val="0099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0000"/>
              </a:gs>
              <a:gs pos="100000">
                <a:srgbClr val="00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324000" cy="685800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0000"/>
              </a:gs>
              <a:gs pos="100000">
                <a:srgbClr val="0099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20000" y="0"/>
            <a:ext cx="324000" cy="685800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0000"/>
              </a:gs>
              <a:gs pos="100000">
                <a:srgbClr val="00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1268280"/>
            <a:ext cx="6172200" cy="441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40000" y="1125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1484280"/>
            <a:ext cx="563868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La amistad es una planta 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que hay que regar continuamente 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para que crezca bella y fuerte. 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No la descuides, 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no dejes que se marchi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132000" y="1413000"/>
            <a:ext cx="3124440" cy="215712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push dir="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360" y="1523880"/>
            <a:ext cx="8280360" cy="3810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488040" y="1564200"/>
            <a:ext cx="4726800" cy="36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Te invito a conocer mis dos blog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"Pequeñas Semillitas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ttp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://peque-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semillitas.blogspot.com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"Juan Pablo II inolvidabl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Comic Sans MS"/>
                <a:hlinkClick r:id="rId6"/>
              </a:rPr>
              <a:t>http://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Comic Sans MS"/>
                <a:hlinkClick r:id="rId7"/>
              </a:rPr>
              <a:t>juanpabloinolvidable.blogspot.com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Comic Sans MS"/>
                <a:hlinkClick r:id="rId8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Comic Sans MS"/>
                <a:hlinkClick r:id="rId9"/>
              </a:rPr>
              <a:t>Felipe de Ur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Dove"/>
          <p:cNvPicPr/>
          <p:nvPr/>
        </p:nvPicPr>
        <p:blipFill>
          <a:blip r:embed="rId10"/>
          <a:stretch/>
        </p:blipFill>
        <p:spPr>
          <a:xfrm>
            <a:off x="5508720" y="4149720"/>
            <a:ext cx="714240" cy="6476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101520">
            <a:solidFill>
              <a:srgbClr val="c69c5e"/>
            </a:solidFill>
            <a:miter/>
          </a:ln>
          <a:effectLst>
            <a:outerShdw dist="107932" dir="18900000" blurRad="0" rotWithShape="0">
              <a:srgbClr val="c69c5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2488800">
            <a:off x="755280" y="836640"/>
            <a:ext cx="4464000" cy="53290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08720" y="1341360"/>
            <a:ext cx="2950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Comic Sans MS"/>
              </a:rPr>
              <a:t>“</a:t>
            </a:r>
            <a:r>
              <a:rPr b="0" lang="es-MX" sz="2000" spc="-1" strike="noStrike">
                <a:solidFill>
                  <a:srgbClr val="003300"/>
                </a:solidFill>
                <a:latin typeface="Comic Sans MS"/>
              </a:rPr>
              <a:t>La verdadera amistad es planta de lento crecimiento que debe sufrir y vencer los embates del infortunio antes de que sus frutos lleguen a completa madurez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s-MX" sz="2000" spc="-1" strike="noStrike">
                <a:solidFill>
                  <a:srgbClr val="003300"/>
                </a:solidFill>
                <a:latin typeface="Comic Sans MS"/>
              </a:rPr>
              <a:t>George Washingt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push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-3266640" y="3267000"/>
            <a:ext cx="6858000" cy="324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5552640" y="3267000"/>
            <a:ext cx="6858000" cy="324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76280"/>
            <a:ext cx="9144000" cy="287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093000"/>
            <a:ext cx="9144000" cy="287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2390760" cy="2009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372360" y="836640"/>
            <a:ext cx="2390760" cy="2009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390760" cy="2009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300720" y="3933720"/>
            <a:ext cx="2390760" cy="2009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68360" y="4005360"/>
            <a:ext cx="2390760" cy="2009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3492360" y="4005360"/>
            <a:ext cx="2390760" cy="200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08200" y="2997360"/>
            <a:ext cx="721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00"/>
                </a:solidFill>
                <a:latin typeface="Comic Sans MS"/>
              </a:rPr>
              <a:t>“</a:t>
            </a:r>
            <a:r>
              <a:rPr b="0" lang="es-MX" sz="2400" spc="-1" strike="noStrike">
                <a:solidFill>
                  <a:srgbClr val="006600"/>
                </a:solidFill>
                <a:latin typeface="Comic Sans MS"/>
              </a:rPr>
              <a:t>La amistad no pide nada a cambio, excepto un poco de mantenimiento”         Georges Brass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6000">
    <p:push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000"/>
                            </p:stCondLst>
                            <p:childTnLst>
                              <p:par>
                                <p:cTn id="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0000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49360"/>
            <a:ext cx="9144000" cy="3603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0000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5877000"/>
            <a:ext cx="9144000" cy="287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0000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-2601720" y="3213000"/>
            <a:ext cx="6858000" cy="43164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000000"/>
              </a:gs>
              <a:gs pos="100000">
                <a:srgbClr val="ff3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4959000" y="3213000"/>
            <a:ext cx="6858000" cy="4320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000000"/>
              </a:gs>
              <a:gs pos="100000">
                <a:srgbClr val="ff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5498640" y="3213000"/>
            <a:ext cx="6858000" cy="43164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000000"/>
              </a:gs>
              <a:gs pos="100000">
                <a:srgbClr val="ff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-3213000" y="3213000"/>
            <a:ext cx="6858000" cy="43164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000000"/>
              </a:gs>
              <a:gs pos="100000">
                <a:srgbClr val="ff3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58920" y="1197000"/>
            <a:ext cx="6697800" cy="36720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1413000"/>
            <a:ext cx="6337440" cy="324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4894200"/>
            <a:ext cx="730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Guarda a tu amigo bajo la llave de tu propia vida”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William Shakespe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7000">
    <p:push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000"/>
                            </p:stCondLst>
                            <p:childTnLst>
                              <p:par>
                                <p:cTn id="1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 rot="16200000">
            <a:off x="-3042000" y="3293280"/>
            <a:ext cx="6804000" cy="217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-2682720" y="3294000"/>
            <a:ext cx="6804000" cy="215640"/>
          </a:xfrm>
          <a:prstGeom prst="rect">
            <a:avLst/>
          </a:prstGeom>
          <a:gradFill rotWithShape="0">
            <a:gsLst>
              <a:gs pos="0">
                <a:srgbClr val="004600"/>
              </a:gs>
              <a:gs pos="50000">
                <a:srgbClr val="009900"/>
              </a:gs>
              <a:gs pos="100000">
                <a:srgbClr val="004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5877000"/>
            <a:ext cx="9144000" cy="216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99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308640"/>
            <a:ext cx="9144000" cy="216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cc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55640" y="4724280"/>
            <a:ext cx="1079640" cy="987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340000" y="476280"/>
            <a:ext cx="6480000" cy="518472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50000">
                <a:srgbClr val="000000"/>
              </a:gs>
              <a:gs pos="100000">
                <a:srgbClr val="66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620640"/>
            <a:ext cx="5832720" cy="4753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492360" y="2133720"/>
            <a:ext cx="3829320" cy="2876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679840" y="692280"/>
            <a:ext cx="5708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El amigo ha de ser como la sangre, </a:t>
            </a:r>
            <a:br>
              <a:rPr sz="2400"/>
            </a:b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que acude a la herida </a:t>
            </a:r>
            <a:br>
              <a:rPr sz="2400"/>
            </a:b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sin esperar que le llamen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Francisco de Queved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6000">
    <p:push dir="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60280"/>
            <a:ext cx="9144000" cy="36036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5000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237360"/>
            <a:ext cx="9144000" cy="36036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5000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431800">
            <a:off x="4381560" y="1557360"/>
            <a:ext cx="5759280" cy="28728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50000">
                <a:srgbClr val="99cc00"/>
              </a:gs>
              <a:gs pos="100000">
                <a:srgbClr val="669900"/>
              </a:gs>
            </a:gsLst>
            <a:lin ang="29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2860800">
            <a:off x="5327640" y="1375920"/>
            <a:ext cx="4824360" cy="28728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50000">
                <a:srgbClr val="99cc00"/>
              </a:gs>
              <a:gs pos="100000">
                <a:srgbClr val="669900"/>
              </a:gs>
            </a:gsLst>
            <a:lin ang="25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-2988000" y="3312360"/>
            <a:ext cx="6913440" cy="28872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50000">
                <a:srgbClr val="99cc00"/>
              </a:gs>
              <a:gs pos="100000">
                <a:srgbClr val="66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 rot="19281600">
            <a:off x="7380360" y="333000"/>
            <a:ext cx="1276200" cy="2143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55640" y="692280"/>
            <a:ext cx="4824360" cy="5400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48200" y="3070080"/>
            <a:ext cx="2827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Amigo es no sólo quien perdona un error, 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sino también quien ayuda a que no 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vuelva a cometerlo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Sócrat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push dir="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0920" y="404640"/>
            <a:ext cx="7921440" cy="5616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33b5a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907920"/>
            <a:ext cx="7704000" cy="453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33b5a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937800">
            <a:off x="7740360" y="2923920"/>
            <a:ext cx="220680" cy="3617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33b5a"/>
              </a:gs>
              <a:gs pos="100000">
                <a:srgbClr val="000000"/>
              </a:gs>
            </a:gsLst>
            <a:lin ang="44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709200">
            <a:off x="7057800" y="3978360"/>
            <a:ext cx="1836720" cy="215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33b5a"/>
              </a:gs>
              <a:gs pos="100000">
                <a:srgbClr val="000000"/>
              </a:gs>
            </a:gsLst>
            <a:lin ang="100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16000" y="1052640"/>
            <a:ext cx="5761080" cy="424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87280" y="1341360"/>
            <a:ext cx="5776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s-MX" sz="2000" spc="-1" strike="noStrike">
                <a:solidFill>
                  <a:srgbClr val="ffffff"/>
                </a:solidFill>
                <a:latin typeface="Comic Sans MS"/>
              </a:rPr>
              <a:t>El hombre que tiene amigos ha de mostrarse </a:t>
            </a:r>
            <a:br>
              <a:rPr sz="2000"/>
            </a:br>
            <a:r>
              <a:rPr b="0" lang="es-MX" sz="2000" spc="-1" strike="noStrike">
                <a:solidFill>
                  <a:srgbClr val="ffffff"/>
                </a:solidFill>
                <a:latin typeface="Comic Sans MS"/>
              </a:rPr>
              <a:t>amigo; Y amigo hay más unido que un hermano” </a:t>
            </a:r>
            <a:br>
              <a:rPr sz="2000"/>
            </a:br>
            <a:r>
              <a:rPr b="0" lang="es-MX" sz="2000" spc="-1" strike="noStrike">
                <a:solidFill>
                  <a:srgbClr val="ffffff"/>
                </a:solidFill>
                <a:latin typeface="Comic Sans MS"/>
              </a:rPr>
              <a:t>Proverbios 18: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6000">
    <p:push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11280" y="549360"/>
            <a:ext cx="7921440" cy="575928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993300"/>
              </a:gs>
              <a:gs pos="100000">
                <a:srgbClr val="cc99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765000"/>
            <a:ext cx="7490160" cy="5328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907920"/>
            <a:ext cx="7129440" cy="49690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58920" y="1197000"/>
            <a:ext cx="6553080" cy="446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76360" y="1413000"/>
            <a:ext cx="3382920" cy="40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1341360"/>
            <a:ext cx="3240000" cy="4103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79840" y="1916280"/>
            <a:ext cx="3116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9900"/>
                </a:solidFill>
                <a:latin typeface="Comic Sans MS"/>
              </a:rPr>
              <a:t>“</a:t>
            </a:r>
            <a:r>
              <a:rPr b="0" lang="es-MX" sz="2000" spc="-1" strike="noStrike">
                <a:solidFill>
                  <a:srgbClr val="cc9900"/>
                </a:solidFill>
                <a:latin typeface="Comic Sans MS"/>
              </a:rPr>
              <a:t>No busques amigos sin defectos, pues te quedarás sin amigos </a:t>
            </a:r>
            <a:br>
              <a:rPr sz="2000"/>
            </a:br>
            <a:r>
              <a:rPr b="0" lang="es-MX" sz="2000" spc="-1" strike="noStrike">
                <a:solidFill>
                  <a:srgbClr val="cc9900"/>
                </a:solidFill>
                <a:latin typeface="Comic Sans MS"/>
              </a:rPr>
              <a:t>toda la vida. Tampoco busques defectos en tus amigos, pues poco a poco te quedarás solo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MX" sz="2000" spc="-1" strike="noStrike">
                <a:solidFill>
                  <a:srgbClr val="cc9900"/>
                </a:solidFill>
                <a:latin typeface="Comic Sans MS"/>
              </a:rPr>
              <a:t>Alfonso Milagr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7000">
    <p:push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0"/>
                            </p:stCondLst>
                            <p:childTnLst>
                              <p:par>
                                <p:cTn id="2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00000" y="692280"/>
            <a:ext cx="7775640" cy="5400720"/>
          </a:xfrm>
          <a:prstGeom prst="rtTriangle">
            <a:avLst/>
          </a:prstGeom>
          <a:gradFill rotWithShape="0">
            <a:gsLst>
              <a:gs pos="0">
                <a:srgbClr val="99ccff"/>
              </a:gs>
              <a:gs pos="50000">
                <a:srgbClr val="0099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333360"/>
            <a:ext cx="7200720" cy="5040360"/>
          </a:xfrm>
          <a:prstGeom prst="rtTriangle">
            <a:avLst/>
          </a:prstGeom>
          <a:gradFill rotWithShape="0">
            <a:gsLst>
              <a:gs pos="0">
                <a:srgbClr val="0099ff"/>
              </a:gs>
              <a:gs pos="50000">
                <a:srgbClr val="99ccff"/>
              </a:gs>
              <a:gs pos="100000">
                <a:srgbClr val="00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rot="16178400">
            <a:off x="3595680" y="-895680"/>
            <a:ext cx="4653000" cy="6445080"/>
          </a:xfrm>
          <a:prstGeom prst="rtTriangle">
            <a:avLst/>
          </a:prstGeom>
          <a:gradFill rotWithShape="0">
            <a:gsLst>
              <a:gs pos="0">
                <a:srgbClr val="0099ff"/>
              </a:gs>
              <a:gs pos="50000">
                <a:srgbClr val="99ccff"/>
              </a:gs>
              <a:gs pos="100000">
                <a:srgbClr val="0099ff"/>
              </a:gs>
            </a:gsLst>
            <a:lin ang="215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95640" y="836640"/>
            <a:ext cx="5256000" cy="403236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50000">
                <a:srgbClr val="99c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56000" y="1341360"/>
            <a:ext cx="4537080" cy="5112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71640" y="1484280"/>
            <a:ext cx="4105440" cy="324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00360" y="1413000"/>
            <a:ext cx="4248000" cy="482436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50000">
                <a:srgbClr val="0099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74872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50000">
                <a:srgbClr val="0099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50000">
                <a:srgbClr val="0099ff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50000">
                <a:srgbClr val="0099ff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87640" y="4797360"/>
            <a:ext cx="374508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s-MX" sz="2000" spc="-1" strike="noStrike">
                <a:solidFill>
                  <a:srgbClr val="ffffff"/>
                </a:solidFill>
                <a:latin typeface="Comic Sans MS"/>
              </a:rPr>
              <a:t>En todo tiempo ama el amigo, </a:t>
            </a:r>
            <a:br>
              <a:rPr sz="2000"/>
            </a:br>
            <a:r>
              <a:rPr b="0" lang="es-MX" sz="2000" spc="-1" strike="noStrike">
                <a:solidFill>
                  <a:srgbClr val="ffffff"/>
                </a:solidFill>
                <a:latin typeface="Comic Sans MS"/>
              </a:rPr>
              <a:t>y es como un hermano en </a:t>
            </a:r>
            <a:br>
              <a:rPr sz="2000"/>
            </a:br>
            <a:r>
              <a:rPr b="0" lang="es-MX" sz="2000" spc="-1" strike="noStrike">
                <a:solidFill>
                  <a:srgbClr val="ffffff"/>
                </a:solidFill>
                <a:latin typeface="Comic Sans MS"/>
              </a:rPr>
              <a:t>tiempo de angustia” </a:t>
            </a:r>
            <a:br>
              <a:rPr sz="2000"/>
            </a:br>
            <a:r>
              <a:rPr b="0" lang="es-MX" sz="2000" spc="-1" strike="noStrike">
                <a:solidFill>
                  <a:srgbClr val="ffffff"/>
                </a:solidFill>
                <a:latin typeface="Comic Sans MS"/>
              </a:rPr>
              <a:t>Proverbios 17: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8000">
    <p:push dir="r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0"/>
                            </p:stCondLst>
                            <p:childTnLst>
                              <p:par>
                                <p:cTn id="3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6000"/>
                            </p:stCondLst>
                            <p:childTnLst>
                              <p:par>
                                <p:cTn id="31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7000"/>
                            </p:stCondLst>
                            <p:childTnLst>
                              <p:par>
                                <p:cTn id="3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1T19:56:11Z</dcterms:created>
  <dc:creator/>
  <dc:description/>
  <dc:language>en-US</dc:language>
  <cp:lastModifiedBy>Windows</cp:lastModifiedBy>
  <dcterms:modified xsi:type="dcterms:W3CDTF">2010-06-13T22:53:52Z</dcterms:modified>
  <cp:revision>22</cp:revision>
  <dc:subject/>
  <dc:title>Gotitas de amistad</dc:title>
</cp:coreProperties>
</file>