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AMIGOS%20P%20SIEMPRE.wav" ContentType="audio/x-wav"/>
  <Override PartName="/ppt/media/image18.gif" ContentType="image/gif"/>
  <Override PartName="/ppt/media/image13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C40-7FE2-4295-8766-90CAFFF3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2CE-1E9C-4F71-B1C0-5C888C3E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735-83D2-472A-8E25-3146F562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472-62B6-47DA-808F-77ACEDA1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232-74EE-4ACF-9CA2-487E371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B66-112E-4DF3-A69E-58BF83D9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C70-DD13-4EA4-956A-2E6EC5E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97F-84D3-4FFA-A3A5-04B5B499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EB1-A770-41EB-A689-85787D98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16E-D233-4E08-B631-C55D799E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FF9-F2AB-4E41-A3BE-CBCBDFF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D07-DAAB-416F-8E79-59D70D0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ED1-0C2A-46AB-B68D-4C92345CA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audio" Target="../media/AMIGOS%20P%20SIEMPRE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peque-semillitas.blogspot.com/" TargetMode="External"/><Relationship Id="rId3" Type="http://schemas.openxmlformats.org/officeDocument/2006/relationships/hyperlink" Target="http://peque-semillitas.blogspot.com/" TargetMode="External"/><Relationship Id="rId4" Type="http://schemas.openxmlformats.org/officeDocument/2006/relationships/hyperlink" Target="http://peque-semillitas.blogspot.com/" TargetMode="External"/><Relationship Id="rId5" Type="http://schemas.openxmlformats.org/officeDocument/2006/relationships/hyperlink" Target="http://peque-semillitas.blogspot.com/" TargetMode="External"/><Relationship Id="rId6" Type="http://schemas.openxmlformats.org/officeDocument/2006/relationships/hyperlink" Target="http://juanpabloinolvidable.blogspot.com/" TargetMode="External"/><Relationship Id="rId7" Type="http://schemas.openxmlformats.org/officeDocument/2006/relationships/hyperlink" Target="http://juanpabloinolvidable.blogspot.com/" TargetMode="External"/><Relationship Id="rId8" Type="http://schemas.openxmlformats.org/officeDocument/2006/relationships/hyperlink" Target="http://juanpabloinolvidable.blogspot.com/" TargetMode="External"/><Relationship Id="rId9" Type="http://schemas.openxmlformats.org/officeDocument/2006/relationships/hyperlink" Target="mailto:feluzul@gmail.com" TargetMode="External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8569080" cy="626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8136000" cy="583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280360" cy="6048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692280"/>
            <a:ext cx="7632720" cy="54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5300640"/>
            <a:ext cx="599148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Gotitas de amista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ransition spd="slow" advTm="10000">
    <p:push dir="r"/>
    <p:sndAc>
      <p:stSnd>
        <p:snd r:embed="rId7" name="AMIGOS%20P%20SIEMPR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0000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1268280"/>
            <a:ext cx="6172200" cy="441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112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484280"/>
            <a:ext cx="56386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a amistad es una planta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que hay que regar continuamente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para que crezca bella y fuerte.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o la descuides,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o dejes que se marchi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132000" y="1413000"/>
            <a:ext cx="3124440" cy="21571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push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1523880"/>
            <a:ext cx="8280360" cy="3810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488040" y="1564200"/>
            <a:ext cx="472680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e invito a conocer mis dos blog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mic Sans MS"/>
              </a:rPr>
              <a:t>"Pequeñas Semillita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://peque-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semillitas.blogspot.com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"Juan Pablo II inolvidabl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http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juanpabloinolvidable.blogspot.com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Felipe de U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Dove"/>
          <p:cNvPicPr/>
          <p:nvPr/>
        </p:nvPicPr>
        <p:blipFill>
          <a:blip r:embed="rId10"/>
          <a:stretch/>
        </p:blipFill>
        <p:spPr>
          <a:xfrm>
            <a:off x="5508720" y="4149720"/>
            <a:ext cx="714240" cy="647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101520">
            <a:solidFill>
              <a:srgbClr val="c69c5e"/>
            </a:solidFill>
            <a:miter/>
          </a:ln>
          <a:effectLst>
            <a:outerShdw dist="107932" dir="18900000" blurRad="0" rotWithShape="0">
              <a:srgbClr val="c69c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2488800">
            <a:off x="755280" y="836640"/>
            <a:ext cx="4464000" cy="5329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1341360"/>
            <a:ext cx="295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La verdadera amistad es planta de lento crecimiento que debe sufrir y vencer los embates del infortunio antes de que sus frutos lleguen a completa madurez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MX" sz="2000" spc="-1" strike="noStrike">
                <a:solidFill>
                  <a:srgbClr val="003300"/>
                </a:solidFill>
                <a:latin typeface="Comic Sans MS"/>
              </a:rPr>
              <a:t>George Washingt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push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3266640" y="3267000"/>
            <a:ext cx="6858000" cy="32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5552640" y="3267000"/>
            <a:ext cx="6858000" cy="32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6280"/>
            <a:ext cx="914400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3000"/>
            <a:ext cx="9144000" cy="287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72360" y="83664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00720" y="3933720"/>
            <a:ext cx="239076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8360" y="4005360"/>
            <a:ext cx="2390760" cy="200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492360" y="4005360"/>
            <a:ext cx="2390760" cy="200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8200" y="2997360"/>
            <a:ext cx="72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006600"/>
                </a:solidFill>
                <a:latin typeface="Comic Sans MS"/>
              </a:rPr>
              <a:t>La amistad no pide nada a cambio, excepto un poco de mantenimiento”         Georges Bras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push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9360"/>
            <a:ext cx="9144000" cy="360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77000"/>
            <a:ext cx="9144000" cy="287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2601720" y="3213000"/>
            <a:ext cx="6858000" cy="43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959000" y="3213000"/>
            <a:ext cx="6858000" cy="432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5498640" y="3213000"/>
            <a:ext cx="6858000" cy="43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3213000" y="3213000"/>
            <a:ext cx="6858000" cy="43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000000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1197000"/>
            <a:ext cx="6697800" cy="367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13000"/>
            <a:ext cx="6337440" cy="32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894200"/>
            <a:ext cx="73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Guarda a tu amigo bajo la llave de tu propia vida”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-3042000" y="3293280"/>
            <a:ext cx="6804000" cy="217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2682720" y="3294000"/>
            <a:ext cx="6804000" cy="215640"/>
          </a:xfrm>
          <a:prstGeom prst="rect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87700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30864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4724280"/>
            <a:ext cx="1079640" cy="987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40000" y="476280"/>
            <a:ext cx="6480000" cy="51847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50000">
                <a:srgbClr val="000000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620640"/>
            <a:ext cx="5832720" cy="4753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92360" y="2133720"/>
            <a:ext cx="382932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79840" y="692280"/>
            <a:ext cx="570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l amigo ha de ser como la sangre,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que acude a la herida </a:t>
            </a:r>
            <a:br>
              <a:rPr sz="2400"/>
            </a:b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in esperar que le llame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Francisco de Queved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237360"/>
            <a:ext cx="9144000" cy="360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431800">
            <a:off x="4381560" y="1557360"/>
            <a:ext cx="5759280" cy="28728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29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860800">
            <a:off x="5327640" y="1375920"/>
            <a:ext cx="4824360" cy="28728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2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-2988000" y="3312360"/>
            <a:ext cx="6913440" cy="2887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19281600">
            <a:off x="7380360" y="333000"/>
            <a:ext cx="127620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5640" y="692280"/>
            <a:ext cx="4824360" cy="540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48200" y="3070080"/>
            <a:ext cx="282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migo es no sólo quien perdona un error,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ino también quien ayuda a que no 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vuelva a cometerl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ócrat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push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404640"/>
            <a:ext cx="7921440" cy="5616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907920"/>
            <a:ext cx="7704000" cy="453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37800">
            <a:off x="7740360" y="2923920"/>
            <a:ext cx="220680" cy="361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4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709200">
            <a:off x="7057800" y="3978360"/>
            <a:ext cx="1836720" cy="215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33b5a"/>
              </a:gs>
              <a:gs pos="100000">
                <a:srgbClr val="000000"/>
              </a:gs>
            </a:gsLst>
            <a:lin ang="10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1052640"/>
            <a:ext cx="5761080" cy="424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341360"/>
            <a:ext cx="57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El hombre que tiene amigos ha de mostrarse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amigo; Y amigo hay más unido que un hermano”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Proverbios 18: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push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549360"/>
            <a:ext cx="7921440" cy="5759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993300"/>
              </a:gs>
              <a:gs pos="100000">
                <a:srgbClr val="cc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765000"/>
            <a:ext cx="7490160" cy="532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907920"/>
            <a:ext cx="7129440" cy="49690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197000"/>
            <a:ext cx="6553080" cy="446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413000"/>
            <a:ext cx="3382920" cy="40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1341360"/>
            <a:ext cx="3240000" cy="410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79840" y="1916280"/>
            <a:ext cx="311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No busques amigos sin defectos, pues te quedarás sin amigos </a:t>
            </a:r>
            <a:br>
              <a:rPr sz="2000"/>
            </a:b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toda la vida. Tampoco busques defectos en tus amigos, pues poco a poco te quedarás sol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MX" sz="2000" spc="-1" strike="noStrike">
                <a:solidFill>
                  <a:srgbClr val="cc9900"/>
                </a:solidFill>
                <a:latin typeface="Comic Sans MS"/>
              </a:rPr>
              <a:t>Alfonso Milagr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692280"/>
            <a:ext cx="7775640" cy="5400720"/>
          </a:xfrm>
          <a:prstGeom prst="rtTriangle">
            <a:avLst/>
          </a:prstGeom>
          <a:gradFill rotWithShape="0">
            <a:gsLst>
              <a:gs pos="0">
                <a:srgbClr val="99ccff"/>
              </a:gs>
              <a:gs pos="50000">
                <a:srgbClr val="00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333360"/>
            <a:ext cx="7200720" cy="5040360"/>
          </a:xfrm>
          <a:prstGeom prst="rtTriangle">
            <a:avLst/>
          </a:prstGeom>
          <a:gradFill rotWithShape="0">
            <a:gsLst>
              <a:gs pos="0">
                <a:srgbClr val="0099ff"/>
              </a:gs>
              <a:gs pos="50000">
                <a:srgbClr val="99ccff"/>
              </a:gs>
              <a:gs pos="100000">
                <a:srgbClr val="00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rot="16178400">
            <a:off x="3595680" y="-895680"/>
            <a:ext cx="4653000" cy="6445080"/>
          </a:xfrm>
          <a:prstGeom prst="rtTriangle">
            <a:avLst/>
          </a:prstGeom>
          <a:gradFill rotWithShape="0">
            <a:gsLst>
              <a:gs pos="0">
                <a:srgbClr val="0099ff"/>
              </a:gs>
              <a:gs pos="50000">
                <a:srgbClr val="99ccff"/>
              </a:gs>
              <a:gs pos="100000">
                <a:srgbClr val="0099ff"/>
              </a:gs>
            </a:gsLst>
            <a:lin ang="215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836640"/>
            <a:ext cx="5256000" cy="40323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99c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1341360"/>
            <a:ext cx="4537080" cy="5112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1484280"/>
            <a:ext cx="4105440" cy="32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1413000"/>
            <a:ext cx="4248000" cy="48243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99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4797360"/>
            <a:ext cx="37450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En todo tiempo ama el amigo,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y es como un hermano en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tiempo de angustia” 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Proverbios 17: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push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9:56:11Z</dcterms:created>
  <dc:creator/>
  <dc:description/>
  <dc:language>en-US</dc:language>
  <cp:lastModifiedBy>Windows</cp:lastModifiedBy>
  <dcterms:modified xsi:type="dcterms:W3CDTF">2010-06-13T22:53:52Z</dcterms:modified>
  <cp:revision>22</cp:revision>
  <dc:subject/>
  <dc:title>Gotitas de amistad</dc:title>
</cp:coreProperties>
</file>