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Forest%20walk%20mix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BF0-54EF-40D0-8A76-56F91E06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A28-F32D-40BE-B32A-CB14A3BD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357-7B99-4528-A9D9-2F41E80B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512-35CE-4FFC-93BE-619FBCC4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5AA-4571-44A8-ADA1-BEDEDF39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F16-2839-4B48-A0EE-3FCA1B72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B8D-7CA5-478F-8FF0-16C90F69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FCF-B1BF-45AB-AF68-9695B312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583-EE67-4B6E-8305-6420CA60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3D8E-762A-4571-B05B-B0905B63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490-ED93-44A6-9141-6A52933F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048-81A5-4A62-8752-2C76DE83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09EB-8076-4013-850F-57AEA2D74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Forest%20walk%20mix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205000"/>
            <a:ext cx="6912000" cy="739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PARA UNA MEJOR VISUALIZACION POR FA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NO TOQUES EL MOUSE….GRA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3640" cy="2422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3097080" cy="238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3097080" cy="2519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916360" y="4567320"/>
            <a:ext cx="3058920" cy="2290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830920" y="4581360"/>
            <a:ext cx="3313080" cy="2276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12000" y="0"/>
            <a:ext cx="3132000" cy="2349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2637000"/>
            <a:ext cx="7417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N  EL     AMOR  NO SE TRATA DE  ENCONTRAR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LGUIEN  CON QUIEN VIVIR SINO DE ENCONT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 ALGUIEN CON  QUIEN  NO  SE PUEDE DEJAR 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VI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3141720"/>
            <a:ext cx="324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7840" y="3144960"/>
            <a:ext cx="59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STO SI QUE ES CIERTO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USICA: FOREST VAL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ORGEOS DE PAJA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ÁGENES: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DICION : JJ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03640" y="6240600"/>
            <a:ext cx="4213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9AE1-20D4-4532-8C49-713F8E774CAF}" type="datetime">
              <a:rPr b="0" lang="en-US" sz="2000" spc="-1" strike="noStrike">
                <a:solidFill>
                  <a:srgbClr val="000000"/>
                </a:solidFill>
                <a:latin typeface="Arial Black"/>
              </a:rPr>
              <a:t>07/31/26</a:t>
            </a:fld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fld id="{602A1477-72E7-4738-97D6-3A3994942934}" type="datetime12">
              <a:rPr b="0" lang="en-US" sz="2000" spc="-1" strike="noStrike">
                <a:solidFill>
                  <a:srgbClr val="000000"/>
                </a:solidFill>
                <a:latin typeface="Arial Black"/>
              </a:rPr>
              <a:t>04:51 PM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-1035000"/>
            <a:ext cx="8280360" cy="588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623880"/>
            <a:ext cx="8516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STA SI QUE ES UNA HISTORIA QUE DEJA ENSEÑAN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L TITULO SERIA:   “ ESTO SI ES FIDEL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 dice que las fotos de dos pájaros han sido to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n la República de Ucrania donde un pájaro trata desesperadamente de salvar a su compañ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l fotógrafo cedió estas fotos por un precio módico a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eriódico de Francia y todas las copias del mismo fueron vendidas en el día que se publicar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5473800"/>
            <a:ext cx="78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PRESTEN MUCHA ATENCION AL RELATO  DE CADA F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1000">
    <p:zoom dir="out"/>
    <p:sndAc>
      <p:stSnd>
        <p:snd r:embed="rId1" name="Forest%20walk%20mix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84360" y="64764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LLA ESTA GRAVEMENTE HERID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62360" y="72072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L LE TRAE COMIDA Y SE OCUPA DE ELL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57840" y="623880"/>
            <a:ext cx="69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A VEZ SIGUIENTE QUE  EL REGRESA SE DA CUENTA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LLA YA ESTA MUERT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86760" y="0"/>
            <a:ext cx="69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EL TRATA  DE MOVERLA, QUIERE QUE REACCIONE, PERO T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ES INUTI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69880" y="480960"/>
            <a:ext cx="694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L NO SE CONFORMA, SE PARA A SU LADO Y GRITA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DAS SUS FUERZAS PARA QUE ELLA DESPIERTE Y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UEV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757080" y="0"/>
            <a:ext cx="10225080" cy="7821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20120" y="264960"/>
            <a:ext cx="71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FINALMENTE VIENDO QUE YA NO PUEDE REACCIONAR,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PARA A SU LADO GRITANDO SU DESOLAC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216240"/>
            <a:ext cx="520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16200" y="3216240"/>
            <a:ext cx="50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NSEÑ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0T19:42:08Z</dcterms:created>
  <dc:creator>juan jose ramirez</dc:creator>
  <dc:description/>
  <dc:language>en-US</dc:language>
  <cp:lastModifiedBy>juan jose ramirez</cp:lastModifiedBy>
  <dcterms:modified xsi:type="dcterms:W3CDTF">2009-06-21T23:46:30Z</dcterms:modified>
  <cp:revision>3</cp:revision>
  <dc:subject/>
  <dc:title>Diapositiva 1</dc:title>
</cp:coreProperties>
</file>