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orest%20walk%20mix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E53-05BA-431D-BF59-C20E2529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D46-4A44-4307-AE55-1EA88E2A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D4A-D7E7-4D14-8C06-68F4156F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DDF-2CFA-4627-AC85-8C3CF774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C52-AF6F-4199-8927-9A323103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602-5490-44D2-8705-19275695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695-36A7-4A2D-846E-80B78737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AB9-83FF-4DBD-A041-6044E231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F94-8F9C-4123-8C9B-FBF1B8B4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AF8-F28A-4D15-B7B2-5DF417BE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001-24DB-43B5-A268-04CC0E25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3BC-10EB-48DE-8495-89550E05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C274-F1DC-4424-8AC9-DB9F4A52A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orest%20walk%20mix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205000"/>
            <a:ext cx="6912000" cy="739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PARA UNA MEJOR VISUALIZACION POR FA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NO TOQUES EL MOUSE….GRA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422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3097080" cy="238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3097080" cy="2519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916360" y="4567320"/>
            <a:ext cx="3058920" cy="2290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830920" y="4581360"/>
            <a:ext cx="3313080" cy="2276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12000" y="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2637000"/>
            <a:ext cx="7417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N  EL     AMOR  NO SE TRATA DE  ENCONTRAR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GUIEN  CON QUIEN VIVIR SINO DE ENCONT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 ALGUIEN CON  QUIEN  NO  SE PUEDE DEJAR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VI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3141720"/>
            <a:ext cx="324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7840" y="3144960"/>
            <a:ext cx="59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STO SI QUE ES CIERTO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SICA: FOREST VAL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ORGEOS DE PAJA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ÁGENES: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ICION : JJ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03640" y="6240600"/>
            <a:ext cx="421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6C7A-54D4-4005-9FC9-6A11D0BA8C7C}" type="datetime">
              <a:rPr b="0" lang="en-US" sz="2000" spc="-1" strike="noStrike">
                <a:solidFill>
                  <a:srgbClr val="000000"/>
                </a:solidFill>
                <a:latin typeface="Arial Black"/>
              </a:rPr>
              <a:t>07/29/26</a:t>
            </a:fld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fld id="{E431D25C-F7A4-42A6-A7A8-09FB7C851182}" type="datetime12">
              <a:rPr b="0" lang="en-US" sz="2000" spc="-1" strike="noStrike">
                <a:solidFill>
                  <a:srgbClr val="000000"/>
                </a:solidFill>
                <a:latin typeface="Arial Black"/>
              </a:rPr>
              <a:t>07:24 AM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-1035000"/>
            <a:ext cx="8280360" cy="588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23880"/>
            <a:ext cx="8516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STA SI QUE ES UNA HISTORIA QUE DEJA ENSEÑ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L TITULO SERIA:   “ ESTO SI ES FIDEL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 dice que las fotos de dos pájaros han sido to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n la República de Ucrania donde un pájaro trata desesperadamente de salvar a su compañ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l fotógrafo cedió estas fotos por un precio módico a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eriódico de Francia y todas las copias del mismo fueron vendidas en el día que se publicar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473800"/>
            <a:ext cx="78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PRESTEN MUCHA ATENCION AL RELATO  DE CADA F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1000">
    <p:zoom dir="out"/>
    <p:sndAc>
      <p:stSnd>
        <p:snd r:embed="rId1" name="Forest%20walk%20mix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84360" y="64764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LLA ESTA GRAVEMENTE HERI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62360" y="72072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L LE TRAE COMIDA Y SE OCUPA DE ELL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7840" y="62388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A VEZ SIGUIENTE QUE  EL REGRESA SE DA CUENTA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LLA YA ESTA MUERT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86760" y="0"/>
            <a:ext cx="69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EL TRATA  DE MOVERLA, QUIERE QUE REACCIONE, PERO T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ES INUTI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69880" y="480960"/>
            <a:ext cx="694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L NO SE CONFORMA, SE PARA A SU LADO Y GRITA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DAS SUS FUERZAS PARA QUE ELLA DESPIERTE Y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UEV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225080" cy="7821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20120" y="264960"/>
            <a:ext cx="71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FINALMENTE VIENDO QUE YA NO PUEDE REACCIONAR,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PARA A SU LADO GRITANDO SU DESOLAC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216240"/>
            <a:ext cx="520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16200" y="3216240"/>
            <a:ext cx="50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SEÑ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0T19:42:08Z</dcterms:created>
  <dc:creator>juan jose ramirez</dc:creator>
  <dc:description/>
  <dc:language>en-US</dc:language>
  <cp:lastModifiedBy>juan jose ramirez</cp:lastModifiedBy>
  <dcterms:modified xsi:type="dcterms:W3CDTF">2009-06-21T23:46:30Z</dcterms:modified>
  <cp:revision>3</cp:revision>
  <dc:subject/>
  <dc:title>Diapositiva 1</dc:title>
</cp:coreProperties>
</file>