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ango_Sound_Sexteto_Mayor_______tangu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6E-B05C-4FA7-9DAE-AA53137E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529-3C3B-46D3-B921-820C0028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C68-EC91-4DFA-BF07-733BFA74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97C-BD72-4473-AAC3-9C7BEF44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FF2-4AE3-4FCA-B457-4359ED1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510-53B8-4AB5-8009-27A265C4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54C-75BF-458A-8A36-2ECABD27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367-B325-4DAD-A130-722F130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F69-0539-4742-AC06-CBABD85C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EB9-1409-499E-8F08-05432E0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3AE-46BC-4505-A581-EAA7C6D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257-56F8-4F28-8203-7110AD5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349-A2EE-40D8-B535-F6628E2C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ango_Sound_Sexteto_Mayor_______tanguera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  <p:sndAc>
      <p:stSnd>
        <p:snd r:embed="rId1" name="Tango_Sound_Sexteto_Mayor_______tangu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66360" y="297036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argen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capaz de lograr todo en el mu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el aplauso de otro argen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08880" y="2558880"/>
            <a:ext cx="67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le habléis de lógic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La lógica implica razonamiento y mes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son hiperbólicos y desmesur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n de un extremo a otro con sus opiniones y sus a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discuten no dicen: no estoy de acuer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o: Usted esta absolutamente equivo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7960" y="2284560"/>
            <a:ext cx="542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an tanto la contradicción que lla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árbara” a una mujer li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erudito lo bautizan “Bestia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mero futbolista “Gen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uando manifiestan extrema ami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califican de “Bolu..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i el afecto y confianza es mucho más gra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es un “Hijo de P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3400" y="1871640"/>
            <a:ext cx="4956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alguien les pide un 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icen simplemente “Sí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o “Como N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el único pueblo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comienza sus frases con la palabra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alguien les agradece, dic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, de na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”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una sonr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15280" y="2146320"/>
            <a:ext cx="51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dos problemas para cada solu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intuyen las soluciones a tod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lquier argentino dirá que 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se debe pagar la deuda exter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erezar a los militares,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consejar al resto de América lati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minuir el hambre de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señar economía en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4800" y="1596960"/>
            <a:ext cx="6854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tienen metáf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referirse a lo común con palabras extrañ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aumento de sueldos le llam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balanceo de Ingreso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incremento de im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ificación de la Base Imponi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 una simple devaluació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Una Variación Brusca del Tipo de Cambio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Plan Económico es siemp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Plan de Ajus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 una Operación Financiera de Especulación la denomina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icicle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5560" y="2284560"/>
            <a:ext cx="639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en, como dijo Ortega y Gas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permanente dis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 la imagen que tienen de si mismos y la re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altísimo numero de psicólogos y psiquia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ufanan de estar siempre al tanto de la última tera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tremendo súper 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no se lo mencionen porque se 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tran en cr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72440" y="2146320"/>
            <a:ext cx="519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espantoso temor al ridícu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se describen a si mismo como liberad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prejuicio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creen ser amplios, generosos y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tolerant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Son racistas al punto de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hablar de... “Cabecitas Negr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6280" y="773280"/>
            <a:ext cx="441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so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Italianos que hablan en españ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tenden sueldos norteameri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vivir como ingl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Dicen discursos franceses y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votan como senegal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Piensan como zur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viven como burgu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laban el emprendimiento 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tienen una organización bolivian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dmiran el orden su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practican un desorden tunecin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En fin los argentinos s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90960" y="313848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MISTERI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9160" y="2695680"/>
            <a:ext cx="6025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alguien le pidió a un filósofo españ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lián Marí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y conocedor del pueblo argentino y de sus costu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n un gran cariño por nosotr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blara de los argentin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con visión desde fuera del b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iberado de toda pasió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73120" y="32194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fue lo que dij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1520" y="2558880"/>
            <a:ext cx="534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está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entre vosotros, pero no son como vosotr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ntéis conocerlos,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porque su alma vive en el mundo impenet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dualida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35040" y="2421000"/>
            <a:ext cx="427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beben en un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misma copa la alegría y la amargur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Hacen música de su llanto (el tang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ríen de la música de otr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man en seriolos ch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 todo lo serio hacen br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12920" y="2009880"/>
            <a:ext cx="471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los mismos no se conocen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Creen en la interpretación de los sueñ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reud y el horóscopo chi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sitan al médico y también al curan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al mismo tiemp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Tratan a Dios como ”El Barb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mofan de los ritos religio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nque los presidentes no se pi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Tedeum en la Cated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5160" y="2284560"/>
            <a:ext cx="451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renuncian a sus i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 aprenden de sus desilu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iscutáis con ellos jamá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nacen con sabiduría !!!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Saben y opinan de to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a mesa de caf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 programas de periodistas-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reglan 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54120" y="2558880"/>
            <a:ext cx="42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los argentinos viaj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lo comparan con Buenos Ai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manos, ello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ueblo Elegido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llos m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4280" y="2284560"/>
            <a:ext cx="68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vidualm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 caracterizan por su simpatía y su intelig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grupo son insoportables por su griterío y apasionamient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Cada uno es un g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 genios no se llevan bien entre el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so es fácil reunirl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unirlos...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22:16:34Z</dcterms:created>
  <dc:creator>xx</dc:creator>
  <dc:description/>
  <dc:language>en-US</dc:language>
  <cp:lastModifiedBy>xx</cp:lastModifiedBy>
  <dcterms:modified xsi:type="dcterms:W3CDTF">2009-09-11T23:17:17Z</dcterms:modified>
  <cp:revision>18</cp:revision>
  <dc:subject/>
  <dc:title>Diapositiva 1</dc:title>
</cp:coreProperties>
</file>