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ango_Sound_Sexteto_Mayor_______tangu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B3D-D5E6-404D-AECA-1D2954CB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037-8DE9-4819-894C-F9394D34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CD9-1A4A-4B14-A6DA-E38690F6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B61-916D-46E4-94B1-56F9B7B8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A55-98EE-4B1C-96CC-9547E6B8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A52-39B6-4A65-AB23-D29C9153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7B3-8C7B-4908-B5DD-5ADF26C8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E20-D28F-4D6A-832C-1E01CF85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943-D7DC-4FE6-980E-D1428684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8AF-EFD2-48D9-B3C9-BE03FE76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F8E-5596-4515-AF04-71D71A5F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CF3-28B0-4C1D-B883-08A5A433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A651-E371-4670-9DA1-8CFDC3F38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ango_Sound_Sexteto_Mayor_______tanguera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  <p:sndAc>
      <p:stSnd>
        <p:snd r:embed="rId1" name="Tango_Sound_Sexteto_Mayor_______tangu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66360" y="297036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 argen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capaz de lograr todo en el mun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os el aplauso de otro argen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08880" y="2558880"/>
            <a:ext cx="672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le habléis de lógica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La lógica implica razonamiento y mes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 son hiperbólicos y desmesura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n de un extremo a otro con sus opiniones y sus ac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do discuten no dicen: no estoy de acuer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no: Usted esta absolutamente equivo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57960" y="2284560"/>
            <a:ext cx="542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an tanto la contradicción que lla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árbara” a una mujer li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un erudito lo bautizan “Bestia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un mero futbolista “Gen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cuando manifiestan extrema amis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califican de “Bolu...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si el afecto y confianza es mucho más gra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res un “Hijo de P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93400" y="1871640"/>
            <a:ext cx="4956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do alguien les pide un fa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dicen simplemente “Sí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no “Como N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el único pueblo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comienza sus frases con la palabra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do alguien les agradece, dic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, de na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”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una sonr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15280" y="2146320"/>
            <a:ext cx="51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dos problemas para cada solu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 intuyen las soluciones a todo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lquier argentino dirá que s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o se debe pagar la deuda exter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derezar a los militares,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aconsejar al resto de América lati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minuir el hambre de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enseñar economía en 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4800" y="1596960"/>
            <a:ext cx="6854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 tienen metáf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referirse a lo común con palabras extrañ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un aumento de sueldos le llam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balanceo de Ingresos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un incremento de im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dificación de la Base Imponib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 una simple devaluación: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Una Variación Brusca del Tipo de Cambio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 Plan Económico es siemp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 Plan de Ajust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 una Operación Financiera de Especulación la denominan: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Bicicle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5560" y="2284560"/>
            <a:ext cx="639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ven, como dijo Ortega y Gas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permanente diso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re la imagen que tienen de si mismos y la rea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un altísimo numero de psicólogos y psiquia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se ufanan de estar siempre al tanto de la última terap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un tremendo súper 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 no se lo mencionen porque se desestabi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entran en cri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72440" y="2146320"/>
            <a:ext cx="519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un espantoso temor al ridícul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 se describen a si mismo como liberados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prejuicio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 creen ser amplios, generosos y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tolerante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Son racistas al punto de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hablar de... “Cabecitas Negra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66280" y="773280"/>
            <a:ext cx="4411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 son: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Italianos que hablan en españ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tenden sueldos norteameric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vivir como inglese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Dicen discursos franceses y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votan como senegalese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Piensan como zur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viven como burguese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Alaban el emprendimiento canadi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tienen una organización boliviana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Admiran el orden sui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practican un desorden tunecino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En fin los argentinos s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90960" y="3138480"/>
            <a:ext cx="29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MISTERI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9160" y="2695680"/>
            <a:ext cx="6025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alguien le pidió a un filósofo españo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ulián Marí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y conocedor del pueblo argentino y de sus costum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con un gran cariño por nosotr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blara de los argentin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con visión desde fuera del bo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iberado de toda pasió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73120" y="321948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 fue lo que dij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1520" y="2558880"/>
            <a:ext cx="534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 están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entre vosotros, pero no son como vosotros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intentéis conocerlos,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porque su alma vive en el mundo impenet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dualida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35040" y="2421000"/>
            <a:ext cx="427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 beben en un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misma copa la alegría y la amargura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Hacen música de su llanto (el tang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se ríen de la música de otr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man en seriolos ch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e todo lo serio hacen br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12920" y="2009880"/>
            <a:ext cx="471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los mismos no se conocen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Creen en la interpretación de los sueñ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reud y el horóscopo chi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sitan al médico y también al curand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do al mismo tiempo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Tratan a Dios como ”El Barb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se mofan de los ritos religio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nque los presidentes no se pi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 Tedeum en la Cated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15160" y="2284560"/>
            <a:ext cx="451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renuncian a sus ilu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 aprenden de sus desilus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discutáis con ellos jamás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argentinos nacen con sabiduría !!!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Saben y opinan de todo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na mesa de caf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en programas de periodistas-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reglan 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54120" y="2558880"/>
            <a:ext cx="423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do los argentinos viaj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do lo comparan con Buenos Ai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manos, ellos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ueblo Elegido”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llos m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24280" y="2284560"/>
            <a:ext cx="689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vidualm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 caracterizan por su simpatía y su intelig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grupo son insoportables por su griterío y apasionamiento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Cada uno es un ge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 genios no se llevan bien entre ell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so es fácil reunirl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o unirlos... im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22:16:34Z</dcterms:created>
  <dc:creator>xx</dc:creator>
  <dc:description/>
  <dc:language>en-US</dc:language>
  <cp:lastModifiedBy>xx</cp:lastModifiedBy>
  <dcterms:modified xsi:type="dcterms:W3CDTF">2009-09-11T23:17:17Z</dcterms:modified>
  <cp:revision>18</cp:revision>
  <dc:subject/>
  <dc:title>Diapositiva 1</dc:title>
</cp:coreProperties>
</file>