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E7F-13E0-47C5-9049-A8C3144B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992-FB68-4C54-93B8-9CD70A1D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EE9-7402-4FEE-94EC-FC115673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393-05A0-4FAF-8117-C0F9E33C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8BE-EBFA-4BCA-8CC4-92164BD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4CB-3854-4632-BE14-2597F98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AC7-77B0-4AEF-8B87-915C728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5B9-B65B-418B-86B1-26212163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A99-40AB-49D7-BE04-4C3AAEB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5E9-456E-457C-8627-DFF92DD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B08-D1BC-4CD8-97FA-7A6CD3B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A90-A9C4-40CA-AC11-87DCFD7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C07A-6D28-4414-B0DB-250D1CCAE7D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341360"/>
            <a:ext cx="7921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99"/>
                </a:solidFill>
                <a:latin typeface="Arial"/>
              </a:rPr>
              <a:t>Un millonario promueve una fiesta en una de sus mansiones y, en determinado</a:t>
            </a:r>
            <a:br>
              <a:rPr sz="4000"/>
            </a:br>
            <a:r>
              <a:rPr b="0" lang="es-AR" sz="4000" spc="-1" strike="noStrike">
                <a:solidFill>
                  <a:srgbClr val="333399"/>
                </a:solidFill>
                <a:latin typeface="Arial"/>
              </a:rPr>
              <a:t>momento pide que la música pare y dice, mirando para la piscina donde cría</a:t>
            </a:r>
            <a:br>
              <a:rPr sz="4000"/>
            </a:br>
            <a:r>
              <a:rPr b="0" lang="es-AR" sz="4000" spc="-1" strike="noStrike">
                <a:solidFill>
                  <a:srgbClr val="333399"/>
                </a:solidFill>
                <a:latin typeface="Arial"/>
              </a:rPr>
              <a:t>cocodrilos australian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56000" y="1916280"/>
            <a:ext cx="62640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Hasta Un hijo de pu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n ciertos cas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s útil en nuestra vida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43280" y="2205000"/>
            <a:ext cx="5614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Quien se tire a la piscina, consiga atravesarla y salga vivo del otro lado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ganará mis autos, mis aviones y mis mansione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4000" y="1773360"/>
            <a:ext cx="6696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n ese momento, alguien salta a la piscina...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 escena es impresionante. Lucha intensa, el intrépido se defiende como puede,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sostiene la boca de los cocodrilos con pies y manos, tuerce la cola de los reptiles.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Mucha violencia y emoción. Parecía una película de Cocodrilo Dundee 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2637000"/>
            <a:ext cx="7057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Después de algunos minutos de terror y pánico, sale el valiente hombre, lleno de arañones, hematomas y casi desnudo.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l millonario se aproxima, lo felicita y le pregun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27280" y="2421000"/>
            <a:ext cx="6192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Dónde quiere que le entregue los autos y los av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Graci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pero no quiero sus autos ni sus avion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¿Y las mans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40000" y="2492280"/>
            <a:ext cx="6553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Tengo una hermosa casa, no preciso de las suya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Puede quedarse con ellas. No quiero nada que sea suy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0920" y="1557360"/>
            <a:ext cx="6769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Impresionado, el millonario pregunta: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- Pero si Ud. no quiere nada de lo que ofrecí, entonces ¿qué quier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1628640"/>
            <a:ext cx="61898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Y el hombre responde irritad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¡Encontrar al hijo de puta que me empujó a la piscin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19280" y="1989000"/>
            <a:ext cx="72007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ffff"/>
                </a:solidFill>
                <a:latin typeface="Arial"/>
              </a:rPr>
              <a:t>Moralej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Somos capaces de realizar muchas cosas que,  nosotros mismos no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reemos, basta solo un empujonci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3:33:20Z</dcterms:created>
  <dc:creator/>
  <dc:description>hijo de puta: jlm</dc:description>
  <dc:language>en-US</dc:language>
  <cp:lastModifiedBy>Mutual La Paz</cp:lastModifiedBy>
  <dcterms:modified xsi:type="dcterms:W3CDTF">2007-10-16T18:41:53Z</dcterms:modified>
  <cp:revision>7</cp:revision>
  <dc:subject/>
  <dc:title>Presentación de PowerPoint</dc:title>
</cp:coreProperties>
</file>