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D67-F864-4420-89C3-48119387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843-FB43-4FD9-BA34-8BF4287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26D-557E-406F-B724-619E7C75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1CF-0DD3-488A-A6EB-CDF9037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BAC-0C6D-436F-B8B8-EFC53D87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CB6-CF1D-43B6-BA17-D057BB4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72A-14F8-45E7-8E27-0FA73586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EDD-7DF4-41E2-B5D4-32DBB6F0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A22-3381-4DCF-9F76-EE3F4118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5B9-4355-4192-91F7-A3BE2AE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36F-D824-4221-A621-B3BAC99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92B-95BE-4C90-9E0E-73E1873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174-A18E-490F-BA85-779BEC77875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341360"/>
            <a:ext cx="792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Un millonario promueve una fiesta en una de sus mansiones y, en determinado</a:t>
            </a:r>
            <a:br>
              <a:rPr sz="4000"/>
            </a:b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momento pide que la música pare y dice, mirando para la piscina donde cría</a:t>
            </a:r>
            <a:br>
              <a:rPr sz="4000"/>
            </a:br>
            <a:r>
              <a:rPr b="0" lang="es-AR" sz="4000" spc="-1" strike="noStrike">
                <a:solidFill>
                  <a:srgbClr val="333399"/>
                </a:solidFill>
                <a:latin typeface="Arial"/>
              </a:rPr>
              <a:t>cocodrilos australian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56000" y="1916280"/>
            <a:ext cx="62640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Hasta Un hijo de pu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n ciertos cas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s útil en nuestra vida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43280" y="2205000"/>
            <a:ext cx="561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Quien se tire a la piscina, consiga atravesarla y salga vivo del otro lado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anará mis autos, mis aviones y mis mansione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4000" y="1773360"/>
            <a:ext cx="6696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n ese momento, alguien salta a la piscina..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escena es impresionante. Lucha intensa, el intrépido se defiende como puede,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sostiene la boca de los cocodrilos con pies y manos, tuerce la cola de los reptiles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Mucha violencia y emoción. Parecía una película de Cocodrilo Dundee 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2637000"/>
            <a:ext cx="7057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espués de algunos minutos de terror y pánico, sale el valiente hombre, lleno de arañones, hematomas y casi desnudo.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l millonario se aproxima, lo felicita y le pregun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27280" y="2421000"/>
            <a:ext cx="6192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Dónde quiere que le entregue los autos y los av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rac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ero no quiero sus autos ni sus avion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¿Y las mans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0000" y="2492280"/>
            <a:ext cx="655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Tengo una hermosa casa, no preciso de las suy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uede quedarse con ellas. No quiero nada que sea suy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0920" y="1557360"/>
            <a:ext cx="6769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mpresionado, el millonario pregunta: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- Pero si Ud. no quiere nada de lo que ofrecí, entonces ¿qué quier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1628640"/>
            <a:ext cx="61898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Y el hombre responde irritad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¡Encontrar al hijo de puta que me empujó a la piscin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19280" y="1989000"/>
            <a:ext cx="7200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Arial"/>
              </a:rPr>
              <a:t>Morale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Somos capaces de realizar muchas cosas que,  nosotros mismos no</a:t>
            </a:r>
            <a:br>
              <a:rPr sz="3200"/>
            </a:b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reemos, basta solo un empujonci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3:33:20Z</dcterms:created>
  <dc:creator/>
  <dc:description>hijo de puta: jlm</dc:description>
  <dc:language>en-US</dc:language>
  <cp:lastModifiedBy>Mutual La Paz</cp:lastModifiedBy>
  <dcterms:modified xsi:type="dcterms:W3CDTF">2007-10-16T18:41:53Z</dcterms:modified>
  <cp:revision>7</cp:revision>
  <dc:subject/>
  <dc:title>Presentación de PowerPoint</dc:title>
</cp:coreProperties>
</file>