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942-99E3-456A-97D3-BE510921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1BC-A0BF-440D-9DBD-EF6B606B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6FA-5333-4CFD-BD13-C8678F5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EBA-4DEB-42DE-802F-E4E75AD0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AABA-06FB-4955-84AE-8A953C17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AE08-29B9-4074-A857-6F4E62B0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0749-DF45-4107-BBFC-D96BDAE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490-707D-400F-A67C-7C6DC3D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AE3-78F8-497F-BC4F-3B7C86D3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793D-C74B-4CB6-A85C-852E5765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76B0-7F48-41E5-A7FD-D4CB4EF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9A1-0951-4CDE-B385-58B13F2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E7A-3954-46BB-8071-C678E3B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9D9-CEBE-42DC-9401-F21300BE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715-742D-40A7-B98D-12C5405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E75-FCA4-46B1-9432-95BF1431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4A5-124E-45CA-B082-07E7E8E6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8CC-44A8-4CFE-871A-78EAB5D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32C-8A87-493D-9E56-9F8D88C0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B40-332A-40CD-8E0E-95367F8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51C-6AD6-47ED-A18F-9ECF9A8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7CE-A31D-420F-95E4-ECFA9611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B30-7DDE-4F7C-A074-A41BF0C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E20-D2E2-4C04-882C-D7DDAF7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1C7-E9EB-4984-AFD1-0B807CBFB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280-705A-43BF-84FB-CBD066DC7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Presidente de la República se encuentra con tres bellas damas en una discoteca: una pelirroja, una rubia y una morena. Sentándose junto a ellas y dirigiéndose a la pelirroja le hizo la siguiente pregunta: Soy el Presidente de la República; ¿cuánto me cobra por pasar una noche con migo?</a:t>
            </a:r>
            <a:r>
              <a:rPr b="1" lang="es-ES" sz="4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 lo que la pelirroja le responde: A Ud. señor Presidente, le cuesta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$ 2000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eliroja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61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Luego le hizo la misma pregunta a la rubia, y ésta le respondió: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 usted señor Presidente, le cuesta $ 1000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Sexi_Rubia_Posando_1280x800-226975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967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Al mirar a la morena y hacerle la misma pregunta, ésta fue su respuesta: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morena3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7432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eñor Presidente, si usted puede levantar mi falda tan alto como están los impuestos, bajarme los calzones tan bajo como están los sueldos, sacar esa cosa suya y ponérmela tan dura como está la vida, mantenerla tan alta como están los precios y cogerme en esa forma tan dulce y delicada como usted se está cogiendo al pueblo, a usted señor Presidente, NO LE CUESTA NADA."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24160" y="3713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calderon_sentado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03:08Z</dcterms:created>
  <dc:creator>DEPSA</dc:creator>
  <dc:description/>
  <dc:language>en-US</dc:language>
  <cp:lastModifiedBy>DEPSA</cp:lastModifiedBy>
  <dcterms:modified xsi:type="dcterms:W3CDTF">2009-03-14T16:14:10Z</dcterms:modified>
  <cp:revision>3</cp:revision>
  <dc:subject/>
  <dc:title>Diapositiva 1</dc:title>
</cp:coreProperties>
</file>