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9BD-2EBD-4AE5-B2B1-31E0550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999-B495-4572-83BF-2CDD072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56C-0D25-41D5-BE8E-8F48055A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B8D-73CE-4B81-8644-A4677D6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D30-E5FB-4525-8AFD-843BF2DD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6650-BF88-44C6-A5AA-A076260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261B-0A9D-4F96-A43A-F4E494FF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32B-1394-496D-A330-688C27D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71F8-58A5-424C-9891-66299E0B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5D5-196E-4A10-82C2-F684F4C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F748-4640-41EB-BD1F-9F878B6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7C5-AE2F-4EF6-BB14-E5A48D5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2E49-2485-45DF-A158-412FF41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ACFA-F756-48D3-A287-B7CC66D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D65-87A3-49FC-9EE9-3419D2A3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EB5-E057-4F54-A728-2FE7938B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F31-CDE7-4722-BD37-EAFA16A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AC1-6540-4630-BA10-5221C056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989-CFD6-4D31-9F5C-2585494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B5F-2B35-4046-8BF2-AB41C39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80F-8111-4C7E-B474-A9C13BD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152-3BAC-472F-8692-0954993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8EF-8CB9-48C2-8E39-4B0869E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426-CBDE-4E7A-9531-1E072D5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24D-6212-4D46-93E1-703DE1259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DD2-32B9-4DEF-8013-CF37255B9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Presidente de la República se encuentra con tres bellas damas en una discoteca: una pelirroja, una rubia y una morena. Sentándose junto a ellas y dirigiéndose a la pelirroja le hizo la siguiente pregunta: Soy el Presidente de la República; ¿cuánto me cobra por pasar una noche con migo?</a:t>
            </a: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 lo que la pelirroja le responde: A Ud. señor Presidente, le cuesta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$ 2000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eliroja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61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Luego le hizo la misma pregunta a la rubia, y ésta le respondió: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 usted señor Presidente, le cuesta $ 1000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Sexi_Rubia_Posando_1280x800-226975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967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l mirar a la morena y hacerle la misma pregunta, ésta fue su respuesta: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morena3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7432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eñor Presidente, si usted puede levantar mi falda tan alto como están los impuestos, bajarme los calzones tan bajo como están los sueldos, sacar esa cosa suya y ponérmela tan dura como está la vida, mantenerla tan alta como están los precios y cogerme en esa forma tan dulce y delicada como usted se está cogiendo al pueblo, a usted señor Presidente, NO LE CUESTA NADA."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24160" y="3713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calderon_sentado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03:08Z</dcterms:created>
  <dc:creator>DEPSA</dc:creator>
  <dc:description/>
  <dc:language>en-US</dc:language>
  <cp:lastModifiedBy>DEPSA</cp:lastModifiedBy>
  <dcterms:modified xsi:type="dcterms:W3CDTF">2009-03-14T16:14:10Z</dcterms:modified>
  <cp:revision>3</cp:revision>
  <dc:subject/>
  <dc:title>Diapositiva 1</dc:title>
</cp:coreProperties>
</file>