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932-8E24-4636-AA91-A3EAE921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E09-29EB-4558-B621-ADE1A210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6CB-13E7-4A23-A7C8-CA6551A9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F3D5-674D-4682-94EA-EF53A41B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0F1-595D-44A0-912C-AD81E644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BFB-11C7-4A76-8F10-62C7EF37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CA1-6551-40C9-B767-99231CC0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D55-8ADF-4336-ADBC-F2661CB2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6D2-C502-4F2B-8E46-C435BB11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F4C-76F8-4D29-8E18-986CBFAA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4B2-5231-4939-81D2-63AF880B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006F-7B21-46AE-A540-17497513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65E7-1B8B-4C21-B724-CB4340D13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no%20tapando%20sol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05120" y="5237280"/>
            <a:ext cx="5029200" cy="13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 Escondite</a:t>
            </a:r>
            <a:endParaRPr b="1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380880"/>
            <a:ext cx="807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Una señora regresaba a Caracas en avión después de unas vacaciones y, en el asiento de al lado, viajaba un cu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Antes del aterrizaje, ella le dic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400" spc="-1" strike="noStrike">
                <a:solidFill>
                  <a:srgbClr val="3333cc"/>
                </a:solidFill>
                <a:latin typeface="Times New Roman"/>
              </a:rPr>
              <a:t>- Padre, ¿Puedo pedirle un fav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80880"/>
            <a:ext cx="80769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- Sí, hija mía, ¿Qué quie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400" spc="-1" strike="noStrike">
                <a:solidFill>
                  <a:srgbClr val="3333cc"/>
                </a:solidFill>
                <a:latin typeface="Times New Roman"/>
              </a:rPr>
              <a:t>- Mire, Padre, compré en Miami un depilador eléctrico súper sofisticado, muy caro y tengo miedo de que supere mi límite en la Aduana. ¿Podría usted esconderlo debajo de su sota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380880"/>
            <a:ext cx="807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- Sí puedo, hija mía, solamente debo advertirte que no sé menti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La señora piensa </a:t>
            </a:r>
            <a:r>
              <a:rPr b="1" i="1" lang="es-VE" sz="4400" spc="-1" strike="noStrike">
                <a:solidFill>
                  <a:srgbClr val="3333cc"/>
                </a:solidFill>
                <a:latin typeface="Times New Roman"/>
              </a:rPr>
              <a:t>"¡Ay, ojalá que nadie le pregunte nada al cura!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s-VE" sz="4400" spc="-1" strike="noStrike">
                <a:solidFill>
                  <a:srgbClr val="3333cc"/>
                </a:solidFill>
                <a:latin typeface="Times New Roman"/>
              </a:rPr>
              <a:t>- Está bien, Padre, gracias por su ayuda...</a:t>
            </a: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 Y le entrega el depilad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depilador" descr=""/>
          <p:cNvPicPr/>
          <p:nvPr/>
        </p:nvPicPr>
        <p:blipFill>
          <a:blip r:embed="rId2"/>
          <a:stretch/>
        </p:blipFill>
        <p:spPr>
          <a:xfrm>
            <a:off x="0" y="477720"/>
            <a:ext cx="914400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80880"/>
            <a:ext cx="80769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Al llegar al destino, en el aeropuerto, el Inspector de Aduana le pregunta al sacerdo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- ¿Algo que declarar, Pad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A lo que el cura respond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- De la cabeza a la cintura, nada que declarar, hijo mí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22860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VE" sz="4000" spc="-1" strike="noStrike">
                <a:solidFill>
                  <a:srgbClr val="3333cc"/>
                </a:solidFill>
                <a:latin typeface="Times New Roman"/>
              </a:rPr>
              <a:t>Medio extrañado, el inspector le pregunt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VE" sz="4000" spc="-1" strike="noStrike">
                <a:solidFill>
                  <a:srgbClr val="3333cc"/>
                </a:solidFill>
                <a:latin typeface="Times New Roman"/>
              </a:rPr>
              <a:t>- ¿Y de la cintura para abajo, qué tie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971800"/>
            <a:ext cx="8534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VE" sz="4000" spc="-1" strike="noStrike">
                <a:solidFill>
                  <a:srgbClr val="ff3300"/>
                </a:solidFill>
                <a:latin typeface="Times New Roman"/>
              </a:rPr>
              <a:t>Allí abajo tengo un instrumento para mujeres que nunca he usad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3333cc"/>
                </a:solidFill>
                <a:latin typeface="Times New Roman"/>
              </a:rPr>
              <a:t>El inspector muerto de la risa, le di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VE" sz="4000" spc="-1" strike="noStrike">
                <a:solidFill>
                  <a:srgbClr val="3333cc"/>
                </a:solidFill>
                <a:latin typeface="Times New Roman"/>
              </a:rPr>
              <a:t>- Adelante, ¡el próximo de la fil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02:45:43Z</dcterms:created>
  <dc:creator>Jorge Boada</dc:creator>
  <dc:description/>
  <dc:language>en-US</dc:language>
  <cp:lastModifiedBy>Jorge Boada</cp:lastModifiedBy>
  <dcterms:modified xsi:type="dcterms:W3CDTF">2004-09-27T15:02:14Z</dcterms:modified>
  <cp:revision>1</cp:revision>
  <dc:subject/>
  <dc:title>Sin título de diapositiva</dc:title>
</cp:coreProperties>
</file>