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0A3-71FD-417B-AB90-09CCD98D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380-3448-4B83-BF4F-5894B93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5F8-30D1-476A-9AA0-E011B833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2C4-F669-41AB-80F3-A4897C38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7CA-7FAF-439A-A4FE-0704096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4D1-5409-4C4C-B566-A644E56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E31-F612-4B43-9B32-0958C5D0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BD7-CF25-4F8C-8721-778B3519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F9D-18F2-4A8A-A374-9A1F637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B87-0422-478B-A277-FC971FE3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B2C-4A4C-427A-AAAE-F0A76EB5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C74-0310-40A1-83FB-2454063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AE1-92EF-4B53-A976-5DEB73D3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no%20tapando%20sol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5237280"/>
            <a:ext cx="502920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 Escondite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38088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Una señora regresaba a Caracas en avión después de unas vacaciones y, en el asiento de al lado, viajaba un cu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ntes del aterrizaje, ella le di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Padre, ¿Puedo pedirle un fav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80880"/>
            <a:ext cx="807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Sí, hija mía, ¿Qué qui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Mire, Padre, compré en Miami un depilador eléctrico súper sofisticado, muy caro y tengo miedo de que supere mi límite en la Aduana. ¿Podría usted esconderlo debajo de su sot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38088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Sí puedo, hija mía, solamente debo advertirte que no sé ment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La señora piensa </a:t>
            </a: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"¡Ay, ojalá que nadie le pregunte nada al cura!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VE" sz="4400" spc="-1" strike="noStrike">
                <a:solidFill>
                  <a:srgbClr val="3333cc"/>
                </a:solidFill>
                <a:latin typeface="Times New Roman"/>
              </a:rPr>
              <a:t>- Está bien, Padre, gracias por su ayuda...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Y le entrega el depil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depilador" descr=""/>
          <p:cNvPicPr/>
          <p:nvPr/>
        </p:nvPicPr>
        <p:blipFill>
          <a:blip r:embed="rId2"/>
          <a:stretch/>
        </p:blipFill>
        <p:spPr>
          <a:xfrm>
            <a:off x="0" y="47772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07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l llegar al destino, en el aeropuerto, el Inspector de Aduana le pregunta al sacerdo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¿Algo que declarar, Pad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A lo que el cura respon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400" spc="-1" strike="noStrike">
                <a:solidFill>
                  <a:srgbClr val="3333cc"/>
                </a:solidFill>
                <a:latin typeface="Times New Roman"/>
              </a:rPr>
              <a:t>- De la cabeza a la cintura, nada que declarar, hijo mí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Medio extrañado, el inspector le pregunt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- ¿Y de la cintura para abajo, qué ti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ff3300"/>
                </a:solidFill>
                <a:latin typeface="Times New Roman"/>
              </a:rPr>
              <a:t>Allí abajo tengo un instrumento para mujeres que nunca he usad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El inspector muerto de la risa, le d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VE" sz="4000" spc="-1" strike="noStrike">
                <a:solidFill>
                  <a:srgbClr val="3333cc"/>
                </a:solidFill>
                <a:latin typeface="Times New Roman"/>
              </a:rPr>
              <a:t>- Adelante, ¡el próximo de la fil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2:45:43Z</dcterms:created>
  <dc:creator>Jorge Boada</dc:creator>
  <dc:description/>
  <dc:language>en-US</dc:language>
  <cp:lastModifiedBy>Jorge Boada</cp:lastModifiedBy>
  <dcterms:modified xsi:type="dcterms:W3CDTF">2004-09-27T15:02:14Z</dcterms:modified>
  <cp:revision>1</cp:revision>
  <dc:subject/>
  <dc:title>Sin título de diapositiva</dc:title>
</cp:coreProperties>
</file>