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igRomeros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9DD6-E1C9-4230-B5EF-F13C3D2F3FBF}" type="slidenum">
              <a:rPr b="0" i="1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E4C-9753-44BC-A1AA-E7FF917DC6C7}" type="slidenum">
              <a:rPr b="0" i="1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A7C-9504-4B68-89F2-619602C3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493-66EC-4736-A36D-4ED66F5A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683-16F0-4EA8-BA32-1DC3E375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66F-026F-45FA-8DE3-4B90A1E3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469-C677-494D-B071-8D7E92FA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828-BEDE-470C-B4F1-84AB26B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F6A-CC6F-4C35-A7EC-A6A019D5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A4A-F347-4261-9C67-EF0D6483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D31-9D3B-4795-A6CC-A6354B94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562-B5E3-4E76-859E-0739F2B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F8B-12A6-45F0-B06C-737CC911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FB3-8E49-4009-824F-1CADE6D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F157-C29B-4403-A738-70F95A9CE738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igRomeros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&#9;0412w.jpg                                                      00027EEE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52280" y="685800"/>
            <a:ext cx="8839440" cy="253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0c25"/>
                </a:solidFill>
                <a:latin typeface="Comic Sans MS"/>
              </a:rPr>
              <a:t>17 Domingo Tiempo Ordinario –C-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ff0c25"/>
                </a:solidFill>
                <a:latin typeface="Comic Sans MS"/>
              </a:rPr>
              <a:t>Santiago apóstol.</a:t>
            </a:r>
            <a:endParaRPr b="0" i="1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79480" y="3857760"/>
            <a:ext cx="56595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0c25"/>
                </a:solidFill>
                <a:latin typeface="Comic Sans MS"/>
              </a:rPr>
              <a:t>25 de julio de 2010</a:t>
            </a:r>
            <a:r>
              <a:rPr b="0" i="1" lang="ca-ES" sz="4800" spc="-1" strike="noStrike">
                <a:solidFill>
                  <a:srgbClr val="ff0c25"/>
                </a:solidFill>
                <a:latin typeface="Comic Sans MS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143080" y="585792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2f2f"/>
                </a:solidFill>
                <a:latin typeface="Comic Sans MS"/>
              </a:rPr>
              <a:t>Música: Cántigas de los romeros 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  <p:sndAc>
      <p:stSnd>
        <p:snd r:embed="rId2" name="cantigRomero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17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 Imagen" descr="jaume4.jpg"/>
          <p:cNvPicPr/>
          <p:nvPr/>
        </p:nvPicPr>
        <p:blipFill>
          <a:blip r:embed="rId1"/>
          <a:stretch/>
        </p:blipFill>
        <p:spPr>
          <a:xfrm>
            <a:off x="1714680" y="0"/>
            <a:ext cx="5670360" cy="6912000"/>
          </a:xfrm>
          <a:prstGeom prst="rect">
            <a:avLst/>
          </a:prstGeom>
          <a:ln w="0">
            <a:noFill/>
          </a:ln>
        </p:spPr>
      </p:pic>
      <p:sp>
        <p:nvSpPr>
          <p:cNvPr id="53" name="1 CuadroTexto"/>
          <p:cNvSpPr/>
          <p:nvPr/>
        </p:nvSpPr>
        <p:spPr>
          <a:xfrm>
            <a:off x="228600" y="380880"/>
            <a:ext cx="8643960" cy="5917680"/>
          </a:xfrm>
          <a:prstGeom prst="rect">
            <a:avLst/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mic Sans MS"/>
              </a:rPr>
              <a:t>Hch 4,33;5,12.27-33;12,1b.2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su parte, los apóstoles daban testimonio con gran energía de la resurrección de Jesús, el Señor, y todos gozaban de gran estim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apóstoles realizaban muchos signos y prodigios en medio del pueblo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hicieron entrar para que comparecieran ante el sanedrín, y el sumo sacerdote les preguntó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–¿No os prohibimos terminantemente enseñar en nombre de ése? Y sin embargo habéis llenado Jerusalén con vuestras enseñanzas y queréis hacernos responsables de la muerte de ese hombre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dro y los apóstoles respondieron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–Hay que obedecer a Dios antes que a los hombres. El Dios de nuestros antepasados ha resucitado a Jesús, a quien vosotros matasteis colgándolo de un madero. Dios lo ha exaltado a su derecha como Príncipe y Salvador, para dar a Israel la ocasión de arrepentirse y de alcanzar el perdón de los pecados. Nosotros y el Espíritu Santo que Dios ha dado a los que le obedecen somos testigos de todo esto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los, enfurecidos por tales palabras, querían matarl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ndó ejecutar a Santiago, hermano de Juan.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&#9;0409w.jpg                                                      00027EEE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49200" y="0"/>
            <a:ext cx="323028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0b0f0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00b0f0"/>
                </a:solidFill>
                <a:latin typeface="Comic Sans MS"/>
              </a:rPr>
              <a:t>66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49360" y="1523880"/>
            <a:ext cx="731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61d6ff"/>
                </a:solidFill>
                <a:latin typeface="Comic Sans MS"/>
              </a:rPr>
              <a:t>Señor, que te alaben los pueblos,</a:t>
            </a:r>
            <a:br>
              <a:rPr sz="3600"/>
            </a:br>
            <a:r>
              <a:rPr b="1" i="1" lang="ca-ES" sz="3600" spc="-1" strike="noStrike">
                <a:solidFill>
                  <a:srgbClr val="61d6ff"/>
                </a:solidFill>
                <a:latin typeface="Comic Sans MS"/>
              </a:rPr>
              <a:t>que todos los pueblos te alaben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3341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Que Dios se apiade y nos bendiga,</a:t>
            </a:r>
            <a:br>
              <a:rPr sz="2000"/>
            </a:br>
            <a:r>
              <a:rPr b="0" i="1" lang="ca-ES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que haga brillar su rostro sobre nosotros;</a:t>
            </a:r>
            <a:br>
              <a:rPr sz="2000"/>
            </a:br>
            <a:r>
              <a:rPr b="0" i="1" lang="ca-ES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para que conozcan en la tierra tus caminos,</a:t>
            </a:r>
            <a:br>
              <a:rPr sz="2000"/>
            </a:br>
            <a:r>
              <a:rPr b="0" i="1" lang="ca-ES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tu salvación en todas las naciones.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&#9;1620w.jpg                                                      00027EEE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25680" y="609480"/>
            <a:ext cx="731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1bff0f"/>
                </a:solidFill>
                <a:latin typeface="Comic Sans MS"/>
              </a:rPr>
              <a:t>Señor, que te alaben los pueblos,</a:t>
            </a:r>
            <a:br>
              <a:rPr sz="3600"/>
            </a:br>
            <a:r>
              <a:rPr b="1" i="1" lang="ca-ES" sz="3600" spc="-1" strike="noStrike">
                <a:solidFill>
                  <a:srgbClr val="1bff0f"/>
                </a:solidFill>
                <a:latin typeface="Comic Sans MS"/>
              </a:rPr>
              <a:t>que todos los pueblos te alaben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88960" y="3581280"/>
            <a:ext cx="680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bff0f"/>
                </a:solidFill>
                <a:latin typeface="Comic Sans MS"/>
              </a:rPr>
              <a:t>Que canten de alegría las naciones,</a:t>
            </a:r>
            <a:br>
              <a:rPr sz="3200"/>
            </a:br>
            <a:r>
              <a:rPr b="0" i="1" lang="ca-ES" sz="3200" spc="-1" strike="noStrike">
                <a:solidFill>
                  <a:srgbClr val="1bff0f"/>
                </a:solidFill>
                <a:latin typeface="Comic Sans MS"/>
              </a:rPr>
              <a:t>porque riges el mundo con justicia,</a:t>
            </a:r>
            <a:br>
              <a:rPr sz="3200"/>
            </a:br>
            <a:r>
              <a:rPr b="0" i="1" lang="ca-ES" sz="3200" spc="-1" strike="noStrike">
                <a:solidFill>
                  <a:srgbClr val="1bff0f"/>
                </a:solidFill>
                <a:latin typeface="Comic Sans MS"/>
              </a:rPr>
              <a:t>riges los pueblos con rectitud</a:t>
            </a:r>
            <a:br>
              <a:rPr sz="3200"/>
            </a:br>
            <a:r>
              <a:rPr b="0" i="1" lang="ca-ES" sz="3200" spc="-1" strike="noStrike">
                <a:solidFill>
                  <a:srgbClr val="1bff0f"/>
                </a:solidFill>
                <a:latin typeface="Comic Sans MS"/>
              </a:rPr>
              <a:t>y gobiernas las naciones de la tierra.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&#9;1632w.jpg                                                      00027EEE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465480" y="685800"/>
            <a:ext cx="731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a16ff"/>
                </a:solidFill>
                <a:latin typeface="Comic Sans MS"/>
              </a:rPr>
              <a:t>Señor, que te alaben los pueblos,</a:t>
            </a:r>
            <a:br>
              <a:rPr sz="3600"/>
            </a:br>
            <a:r>
              <a:rPr b="1" i="1" lang="ca-ES" sz="3600" spc="-1" strike="noStrike">
                <a:solidFill>
                  <a:srgbClr val="0a16ff"/>
                </a:solidFill>
                <a:latin typeface="Comic Sans MS"/>
              </a:rPr>
              <a:t>que todos los pueblos te alaben.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11560" y="3151080"/>
            <a:ext cx="6907680" cy="180036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La tierra ha dado su fruto, </a:t>
            </a:r>
            <a:br>
              <a:rPr sz="2800"/>
            </a:b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nos bendice el Señor, nuestro Dios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Que Dios nos bendiga,</a:t>
            </a:r>
            <a:br>
              <a:rPr sz="2800"/>
            </a:b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que le amen hasta los confines del mundo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29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3 Imagen" descr="creuvermellt.jpg"/>
          <p:cNvPicPr/>
          <p:nvPr/>
        </p:nvPicPr>
        <p:blipFill>
          <a:blip r:embed="rId1"/>
          <a:stretch/>
        </p:blipFill>
        <p:spPr>
          <a:xfrm>
            <a:off x="1643040" y="0"/>
            <a:ext cx="5500800" cy="6915240"/>
          </a:xfrm>
          <a:prstGeom prst="rect">
            <a:avLst/>
          </a:prstGeom>
          <a:ln w="0">
            <a:noFill/>
          </a:ln>
        </p:spPr>
      </p:pic>
      <p:sp>
        <p:nvSpPr>
          <p:cNvPr id="65" name="1 CuadroTexto"/>
          <p:cNvSpPr/>
          <p:nvPr/>
        </p:nvSpPr>
        <p:spPr>
          <a:xfrm>
            <a:off x="285840" y="14292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Comic Sans MS"/>
              </a:rPr>
              <a:t>2Co 4, 7-15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Pero este tesoro lo llevamos en vasijas de barro, para que todos vean que una fuerza tan extraordinaria procede de Dios y no de nosotros. Nos acosan por todas partes, pero no estamos abatidos; nos encontramos en apuros, pero no desesperados; somos perseguidos, pero no quedamos a merced del peligro; nos derriban, pero no llegan a rematarnos. Por todas partes vamos llevando en el cuerpo la muerte de Jesús, para que la vida de Jesús se manifieste en nuestro cuerpo. Porque nosotros, mientras vivimos, estamos siempre expuestos a la muerte por causa de Jesús, para que también la vida de Jesús se manifieste en nuestra carne mortal. Así que en nosotros actúa la muerte y en vosotros, en cambio, la vida.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Pero como tenemos aquel mismo espíritu de fe del que dice la Escritura: Creí y por eso hablé, también nosotros creemos y por eso hablamos, sabiendo que el que ha resucitado a Jesús, el Señor, nos resucitará también a nosotros con Jesús y nos dará un puesto junto a él en compañía de vosotros. Porque todo esto es para vuestro bien; para que la gracia, difundida abundantemente en muchos, haga crecer la acción de gracias para gloria de Dios. </a:t>
            </a:r>
            <a:br>
              <a:rPr sz="2000"/>
            </a:b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2 Rectángulo"/>
          <p:cNvSpPr/>
          <p:nvPr/>
        </p:nvSpPr>
        <p:spPr>
          <a:xfrm>
            <a:off x="3505320" y="6324480"/>
            <a:ext cx="4843440" cy="368280"/>
          </a:xfrm>
          <a:prstGeom prst="rect">
            <a:avLst/>
          </a:prstGeom>
          <a:solidFill>
            <a:srgbClr val="e96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Este tesoro lo llevamos en vasijas de barro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8_191w.jpg                                                       00027EEE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762120" y="2133720"/>
            <a:ext cx="7619760" cy="73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94110a"/>
                </a:solidFill>
                <a:latin typeface="Comic Sans MS"/>
              </a:rPr>
              <a:t> </a:t>
            </a:r>
            <a:r>
              <a:rPr b="1" i="1" lang="ca-ES" sz="1800" spc="-1" strike="noStrike">
                <a:solidFill>
                  <a:srgbClr val="bbe0e3"/>
                </a:solidFill>
                <a:latin typeface="Comic Sans MS"/>
              </a:rPr>
              <a:t>Aclamación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Apóstol Santiago, tu cuerpo descansa en paz.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_x0011_122077BONAwww.jpg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52280" y="228600"/>
            <a:ext cx="8686800" cy="554040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940801"/>
                </a:solidFill>
                <a:latin typeface="Comic Sans MS"/>
              </a:rPr>
              <a:t>( Del evangelio según san Mateo )   Mt 20: 20-28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 aquel tiempo, se acercó a Jesús la madre de los Zebedeos con sus hijos y se postró para hacerle una petición. Él le preguntó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¿Qué deseas?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lla contestó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rdena que estos dos hijos míos se sienten en tu reino, uno a tu derecha y el otro a tu izquierda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ero Jesús replicó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o sabéis lo que pedís. ¿Sois capaces de beber el cáliz que yo he de beber?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staron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o somos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Él les dijo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i cáliz lo beberéis; pero el puesto a mi derecha o a mi izquierda no me toca a mí concederlo, es para aquellos para quienes lo tiene reservado mi Padre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os otros diez, que lo habían oído, se indignaron contra los dos hermanos. Pero Jesús, reuniéndolos, les dijo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abéis que los jefes de los pueblos los tiranizan y que los grandes los oprimen. No será así entre vosotros: el que quiera ser grande entre vosotros, que sea vuestro servidor, y el que quiera ser primero entre vosotros, que sea vuestro esclavo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gual que el Hijo del hombre no ha venido para que le sirvan, sino para servir y dar su vida en rescate por muchos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730880" y="6461280"/>
            <a:ext cx="5926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Campos de Cafarnaún. Al fondo el lago de Galilea.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5:08:48Z</dcterms:created>
  <dc:creator>JOAN RAMIREZ</dc:creator>
  <dc:description/>
  <dc:language>en-US</dc:language>
  <cp:lastModifiedBy>Usuario</cp:lastModifiedBy>
  <dcterms:modified xsi:type="dcterms:W3CDTF">2010-07-21T18:27:30Z</dcterms:modified>
  <cp:revision>16</cp:revision>
  <dc:subject/>
  <dc:title>Presentación de PowerPoint</dc:title>
</cp:coreProperties>
</file>