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D4D-5B02-4746-BA13-010A5391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9B4-0FCE-4964-B501-0F8436F2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818-110F-4DD6-BA87-4FF7B412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192-4029-4CE0-8901-8D3EAA94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446-3DCD-4196-95BF-FE182363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D01-32CA-497C-8321-074E5269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AB8-C864-4764-8193-359597E2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A5F-F598-465C-AA1B-65EAE1A8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B73-F8F8-4984-A17C-45CBA3D7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A1E-8B27-4291-A1BA-F50A6C75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F7B-7401-4F79-A768-221D1737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86C-5072-44A2-8232-7B28B7E7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6FD5-45C0-4486-A92A-A20C464C1B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486900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Porque el hombre tiene p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* Para que tuviera un metodo efectivo para callar a su muj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PRIMER MISTERI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450864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Qué significan las protuberancias alrededor de los pezones en los senos de las mujere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* Es un mensaje escrito en braille que ind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"Chupe Aquí".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SEGUNDO MIST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07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443700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Qué pasó con el tipo que finalmente entendió a las mujere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* Se murió de la risa antes de poder contárselo a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TERCER MIST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458100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¿Por qué las mujeres cierran los ojos durante el sexo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* Porque no soportan ver a un hombre disfruta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CUARTO MIST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443700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¿Como hacer para que su mujer grite durante una hora después del sex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* Límpiese el pene en las cortinas o en las sábanas nuev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mic Sans MS"/>
              </a:rPr>
              <a:t>QUINTO MIST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4797000"/>
            <a:ext cx="91440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¿Qué tiene cerca de 15cm de largo mas o menos y vuelve locas a las muje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* Los billetes de $5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SEXTO MIST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450828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¿Por qué no se puede confiar en las muje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* ¿cómo vas a confiar en alguien que sangra durante 5 días... y no se muere? Debe de ser cosa del demo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SEPTIMO MIST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4724280"/>
            <a:ext cx="91440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¿Por qué las mujeres se rascan los ojos cuando se despiertan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* Porque no tienen huevos para rasc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OCTAVO MIST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450828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Por qué los huracanes tienen nombre de muj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* Porque cuando llegan son salvajes y mojados y cuando se van...se llevan la casa, el auto, los muebles, el perro, etc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Comic Sans MS"/>
              </a:rPr>
              <a:t>NOVENO MIST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05:13:09Z</dcterms:created>
  <dc:creator>JAVI</dc:creator>
  <dc:description/>
  <dc:language>en-US</dc:language>
  <cp:lastModifiedBy>jv</cp:lastModifiedBy>
  <dcterms:modified xsi:type="dcterms:W3CDTF">2007-10-15T11:54:33Z</dcterms:modified>
  <cp:revision>24</cp:revision>
  <dc:subject>HUMOR</dc:subject>
  <dc:title>LOS 9 MISTERIOS</dc:title>
</cp:coreProperties>
</file>