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71D-46F3-4389-8B98-E54D19B4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139-D516-4E42-8DC6-28617A1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204-F04A-4608-BB67-AE707AAE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D72-B80A-4E94-AB2E-8D215A56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60B-698E-430E-8730-1F427B0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A4E-9ADF-4AC6-A3B8-8CDCA0D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11D-47F4-47B8-9458-794F6B5D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8E0-3840-4955-905C-256C00E9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B1C-B7E9-4602-8E76-E28761DC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54F-A5AF-4FE9-A614-4808057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32B-E0F1-447C-B05F-352FD0D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1F0-4E17-4A49-960A-F1C530E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33A-533B-466D-8F4C-0199D38A4C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orque el hombre tiene p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* Para que tuviera un metodo efectivo para callar a su muj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PRIMER MISTE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Qué significan las protuberancias alrededor de los pezones en los senos de las mujer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* Es un mensaje escrito en braille que in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"Chupe Aquí".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SEGUND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Qué pasó con el tipo que finalmente entendió a las mujere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Se murió de la risa antes de poder contárselo a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TERCER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Por qué las mujeres cierran los ojos durante el sex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Porque no soportan ver a un hombre disfrut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CUART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Como hacer para que su mujer grite durante una hora después del sex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Límpiese el pene en las cortinas o en las sábanas nue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QUINT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797000"/>
            <a:ext cx="91440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Qué tiene cerca de 15cm de largo mas o menos y vuelve locas a las muj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Los billetes de $5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SEXT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Por qué no se puede confiar en las muj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¿cómo vas a confiar en alguien que sangra durante 5 días... y no se muere? Debe de ser cosa del de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SEPTIM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Por qué las mujeres se rascan los ojos cuando se despierta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Porque no tienen huevos para ras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OCTAV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or qué los huracanes tienen nombre de muj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Porque cuando llegan son salvajes y mojados y cuando se van...se llevan la casa, el auto, los muebles, el perro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NOVEN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5:13:09Z</dcterms:created>
  <dc:creator>JAVI</dc:creator>
  <dc:description/>
  <dc:language>en-US</dc:language>
  <cp:lastModifiedBy>jv</cp:lastModifiedBy>
  <dcterms:modified xsi:type="dcterms:W3CDTF">2007-10-15T11:54:33Z</dcterms:modified>
  <cp:revision>24</cp:revision>
  <dc:subject>HUMOR</dc:subject>
  <dc:title>LOS 9 MISTERIOS</dc:title>
</cp:coreProperties>
</file>