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359717-735C-4F7D-B32D-136547BE55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AA10D2-64D0-4C70-AE36-B5408BDBA9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3AC-7E46-41B7-9A47-381A6B36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855-C5EF-4DA0-8159-8BE28F2A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ABD-579B-4759-98E8-3550CF7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D52-C8FC-4BE2-AB19-D62AC42C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AE7-80F6-46B0-8509-E3EC9B6C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4AE-186B-40EE-92D2-A0B047E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775-0E72-49A6-9DCB-B13E16B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0FD-A13E-45F4-8CF7-9506919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347-D1CB-4522-8807-9E0F969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21F-211B-43FF-BAC9-5D9DEE6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528-5125-4891-AED5-715CC2E1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E02-DC5C-44C0-A59E-9F91C90F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5371200" y="-3367800"/>
            <a:ext cx="306360" cy="70833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66880" y="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Infórmese y evite ser una víc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1360" indent="-27252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lnSpc>
                <a:spcPct val="93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lnSpc>
                <a:spcPct val="93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809360"/>
            <a:ext cx="77709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629400" y="6092640"/>
            <a:ext cx="228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1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629400" y="6321240"/>
            <a:ext cx="228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7DC2B-07A8-47C9-9B4E-1507381F2E2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1b60f"/>
                </a:solidFill>
                <a:latin typeface="Arial"/>
              </a:rPr>
              <a:t>POLICIA NACIONAL DEL PERU</a:t>
            </a:r>
            <a:br>
              <a:rPr sz="3800"/>
            </a:br>
            <a:r>
              <a:rPr b="1" lang="en-GB" sz="3800" spc="-1" strike="noStrike">
                <a:solidFill>
                  <a:srgbClr val="f1b60f"/>
                </a:solidFill>
                <a:latin typeface="Arial"/>
              </a:rPr>
              <a:t>III DIRECCION TERRITORIAL TRUJILLO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276640"/>
            <a:ext cx="73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OFICINA CENTRAL DE OPERACIONES POLICI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CEOPOL-III DIRTEPO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SET-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2006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6724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¿Cómo actúan los delincuen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38188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La burundanga es la droga FAVORITA para los delincuentes, recuerde ya que esta altera transitoriamente el funcionamiento cerebral en aprox. 2 minuto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La víctima en tal condición, es la presa ideal para abusar físicamente de ella o robarle a volunta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038480"/>
            <a:ext cx="84582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A veces hábilmente sitúan objetos frente a la víctima para que ésta inhale el tóxico: por ejemplo, pueden mostrarle un libro, cartera o pañuelo que una vez abierto deja escapar el gas o spray en el rostr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62320" y="6094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¿Cómo lo hac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420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Cuidado con los taxistas que hábilmente sacuden franelas dentro del vehícul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Cuidado con aquellos (as) amigos (as) que se acercan para entablar conversación en el bus y / o parada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648320"/>
            <a:ext cx="842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Generalmente son pequeñas organizaciones formadas por más de tres delincuentes encargados de seleccionar a la víctima para confundirla, drogarla, robarla, etc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581280"/>
            <a:ext cx="67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ELIGRO – Dosis al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520" y="4419360"/>
            <a:ext cx="84963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n dosis muy altas causa convulsiones, depresión severa, coma y aún la muert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838080"/>
            <a:ext cx="672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Vías de absor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5740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s factible el ingreso por vía inhalatoria a través de cigarrillo o por la piel con la aplicación de linimento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838080"/>
            <a:ext cx="398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(no tocar) papeles u hojas volantes de desconocidos en la calle o en su vehícul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ningún tipo de bebida, dulces, cigarrillos de desconocidos cuando se encuentre usted en algún evento social o bar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deje su botella o vaso de licor abandonad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9200" y="914400"/>
            <a:ext cx="390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Cuidado cuando personas aparentemente inofensivas se acercan a usted en la calle con pretextos de caridad, o la manera más frecuente fingiendo ser analfabetos para que lea  una dirección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03848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Si en el lapso de 1 un minuto usted sospecha haber sido drogado con cualquier sustancia química y esta </a:t>
            </a:r>
            <a:r>
              <a:rPr b="0" lang="en-GB" sz="2300" spc="-1" strike="noStrike">
                <a:solidFill>
                  <a:srgbClr val="f1b60f"/>
                </a:solidFill>
                <a:latin typeface="Tahoma"/>
                <a:ea typeface="Arial Unicode MS"/>
              </a:rPr>
              <a:t>acorralado</a:t>
            </a: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, simule sufrir un desmayo o un ataque (convulsiones), el delincuente sabrá del peligro del exceso en la droga y decidirá abandonarl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62000" y="53352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37760" y="2114280"/>
            <a:ext cx="3809880" cy="28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Si todavía se encuentra usted semi-consciente y puede distinguir si el delincuente se ha marchado, pida auxilio inmediatamente. LUEGO NO RECORDARA NA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890960" y="1600200"/>
            <a:ext cx="3551400" cy="4525920"/>
            <a:chOff x="4890960" y="1600200"/>
            <a:chExt cx="3551400" cy="4525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890960" y="1600200"/>
              <a:ext cx="35514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90960" y="1600200"/>
              <a:ext cx="35514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685800"/>
            <a:ext cx="413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38188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Dé instrucciones en su casa (niños y empleadas), NO abrir la puerta a supuestos grupos religiosos, vendedores o empleados públic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Si el propósito es el robo es su casa, las víctimas favoritas son las empleadas domésticas y l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33720" y="762120"/>
            <a:ext cx="6724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pañuelos de extraños con pretextos de que su cara o ropa están manchad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entable conversaciones con extraños cuando usted esta haciendo cola en el ban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demostraciones de productos (inhalación de perfumes) que se suelen vender en la calle o fuera de Centros Comercial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2925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  <a:ea typeface="Arial Unicode MS"/>
              </a:rPr>
              <a:t>Nadie está fuera del peligro de la BURUNDANGA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9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Manténgase aler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05120" y="914400"/>
            <a:ext cx="67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tribuya esta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00680" y="603900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a seguridad es asunto comú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18680" y="2076480"/>
            <a:ext cx="842004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Sea un buen ciudadano y ayude a divulgar esta informacion, no sea indiferente a una problemática que puede afectar a cualquier person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Hable y comente de este tema con toda su familia, vecinos y amig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00400" y="542880"/>
            <a:ext cx="4543200" cy="5772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1b60f"/>
                </a:solidFill>
                <a:latin typeface="Arial"/>
              </a:rPr>
              <a:t>GRACIAS POR SU COLABORACIÓN, CONTAMOS CON UD, PARA LLEGAR A MAYOR CANTIDAD DE PUBLICO</a:t>
            </a:r>
            <a:r>
              <a:rPr b="0" lang="en-GB" sz="3800" spc="-1" strike="noStrike">
                <a:solidFill>
                  <a:srgbClr val="f1b60f"/>
                </a:solidFill>
                <a:latin typeface="Arial"/>
              </a:rPr>
              <a:t>.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EGURIDAD CIUDADANA ES TAREA DE TODOS, RECUERDE LAS TAREAS DE PREVENCION  NO SON PATRIMONIO DE LAS INSTITUCIONES, SON EL COLECTIVO NACION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CMDTE. PNP WERNER IGLESIAS PLASENCI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JEFE CEOPOL TRUJIL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523880"/>
            <a:ext cx="81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¿Sabe usted qué es la Burundanga o Escopolam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4440" y="3048120"/>
            <a:ext cx="8354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xiste una sustancia que tiene el poder de suprimir la voluntad de las person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demás, hace perder la memoria de todo lo que sucede durante el tiempo que dura su efec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62000" y="533520"/>
            <a:ext cx="603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copolamina o Burunda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946160"/>
            <a:ext cx="38102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Se llama Escopolamina y se obtiene de un árbol nativo de Centro América, denominado BRUGMANSIA o BELLADONA. Se asimila al solo contacto con el cuerp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48320" y="1766880"/>
            <a:ext cx="4038480" cy="4192560"/>
            <a:chOff x="4648320" y="1766880"/>
            <a:chExt cx="4038480" cy="41925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648320" y="1766880"/>
              <a:ext cx="40384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48320" y="1766880"/>
              <a:ext cx="4038480" cy="41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62000" y="533520"/>
            <a:ext cx="603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uy conocid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160" y="1946160"/>
            <a:ext cx="3809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n Colombia se la conoce como cacao, sabanero o borrachero. De ella se extrae una droga llamada atropina que tiene varios usos en la medicina clásica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53080" y="1843200"/>
            <a:ext cx="3828960" cy="4038480"/>
            <a:chOff x="4753080" y="1843200"/>
            <a:chExt cx="3828960" cy="40384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753080" y="1843200"/>
              <a:ext cx="38289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753080" y="1843200"/>
              <a:ext cx="382896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62000" y="533520"/>
            <a:ext cx="603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a alteración de esta droga con otros fárma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2098440"/>
            <a:ext cx="84582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Investigadores aseguran que esta droga ha sido alterada y/o manipulada con otras drogas para producir este efecto de automatism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La escopolamina es un medicamento de uso delicado y se lo usa bajo prescripción médica.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3657600"/>
            <a:ext cx="6038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La víctima estará en un estado de pasividad y en actitud "complaciente" que aprovecha el delincuente para robarle e inducirle a realizar acciones que pueden lesionarle física, moral o económicamente.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603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l ingreso al cuer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524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Una vez que la escopolamina ingresa al cuerpo provocará su máximo efecto, con una duración de 1 ó 2 horas, para posteriormente eliminarse lentament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62000" y="53352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¿Dónde puede estar la Escopolamina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2479680"/>
            <a:ext cx="3809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n dulces, gaseosas, licores, perfumes,  papel, billetes, etc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62440" y="1690560"/>
            <a:ext cx="3810240" cy="4343400"/>
            <a:chOff x="4762440" y="1690560"/>
            <a:chExt cx="3810240" cy="43434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762440" y="1690560"/>
              <a:ext cx="381024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762440" y="1690560"/>
              <a:ext cx="381024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62000" y="53352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eneralid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1641600"/>
            <a:ext cx="38102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Además se administra con mucha frecuencia burundanga a víctimas que han consumido previamente bebidas alcohólicas lo cual hace más difícil determinar cuál o cuáles sustancias son las responsables del estado de intoxicación aguda en que llega el paciente al servicio de urgencia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67200" y="1600200"/>
            <a:ext cx="3598920" cy="4525920"/>
            <a:chOff x="4867200" y="1600200"/>
            <a:chExt cx="3598920" cy="45259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867200" y="1600200"/>
              <a:ext cx="35989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867200" y="1600200"/>
              <a:ext cx="359892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ingo Orta</dc:creator>
  <dc:description/>
  <dc:language>en-US</dc:language>
  <cp:lastModifiedBy>WIN XP</cp:lastModifiedBy>
  <cp:revision>0</cp:revision>
  <dc:subject/>
  <dc:title>Slide 1</dc:title>
</cp:coreProperties>
</file>