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f1b60f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89621FF-D5A0-4695-B0BE-8D38732CF57C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3886200" y="8842680"/>
            <a:ext cx="29718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13F907A-6C21-4930-BB68-FE10C64830E9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8842680"/>
            <a:ext cx="29718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0"/>
            <a:ext cx="29718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0"/>
            <a:ext cx="29718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28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136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F624B-7966-420F-8986-82B58C210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22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8CC20-65C4-4ABE-88DB-E977B5CF3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6E393-E415-4D66-8592-7543DAC0F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7B8EF-8B4C-4A8E-866F-03FBE1D42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117B3-8692-4FDC-83AA-B06E82873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22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C5818-E58C-406F-B50A-2B2329F53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B7E3C-A1DF-4B20-9E2F-E8A1638A9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22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D12F8-4093-467C-9449-E3C3B51FA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93954-F336-44FF-8AA9-033E223EE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6B96F-265C-4E36-8ED1-455FA71F9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F8AD1-9D74-4105-9DE4-564B780F0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D7E7A-F147-4395-AE0D-6C37182AD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22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5400000">
            <a:off x="5371200" y="-3367800"/>
            <a:ext cx="306360" cy="7083360"/>
          </a:xfrm>
          <a:prstGeom prst="rect">
            <a:avLst/>
          </a:prstGeom>
          <a:solidFill>
            <a:srgbClr val="c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2666880" y="0"/>
            <a:ext cx="6400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Tahoma"/>
              </a:rPr>
              <a:t>Infórmese y evite ser una víctim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f1b60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marL="327600" indent="-327600">
              <a:lnSpc>
                <a:spcPct val="93000"/>
              </a:lnSpc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11360" indent="-272520">
              <a:lnSpc>
                <a:spcPct val="93000"/>
              </a:lnSpc>
              <a:spcBef>
                <a:spcPts val="2251"/>
              </a:spcBef>
              <a:buClr>
                <a:srgbClr val="ffffff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lnSpc>
                <a:spcPct val="93000"/>
              </a:lnSpc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536120" indent="-219240">
              <a:lnSpc>
                <a:spcPct val="93000"/>
              </a:lnSpc>
              <a:spcBef>
                <a:spcPts val="2251"/>
              </a:spcBef>
              <a:buClr>
                <a:srgbClr val="ffffff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974960" indent="-219240">
              <a:lnSpc>
                <a:spcPct val="93000"/>
              </a:lnSpc>
              <a:spcBef>
                <a:spcPts val="2251"/>
              </a:spcBef>
              <a:buClr>
                <a:srgbClr val="ffffff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974960" indent="-219240">
              <a:lnSpc>
                <a:spcPct val="93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974960" indent="-219240">
              <a:lnSpc>
                <a:spcPct val="93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0" y="0"/>
            <a:ext cx="380880" cy="2286000"/>
          </a:xfrm>
          <a:prstGeom prst="rect">
            <a:avLst/>
          </a:prstGeom>
          <a:solidFill>
            <a:srgbClr val="f1b6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400" y="1809360"/>
            <a:ext cx="7770960" cy="11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f1b60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6629400" y="6092640"/>
            <a:ext cx="2284560" cy="3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2"/>
          </p:nvPr>
        </p:nvSpPr>
        <p:spPr>
          <a:xfrm>
            <a:off x="2285640" y="6095880"/>
            <a:ext cx="43419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3"/>
          </p:nvPr>
        </p:nvSpPr>
        <p:spPr>
          <a:xfrm>
            <a:off x="6629400" y="6321240"/>
            <a:ext cx="2284560" cy="3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CA2E39-EE67-487A-B08A-277F2F990FA7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800" spc="-1" strike="noStrike">
                <a:solidFill>
                  <a:srgbClr val="f1b60f"/>
                </a:solidFill>
                <a:latin typeface="Arial"/>
              </a:rPr>
              <a:t>POLICIA NACIONAL DEL PERU</a:t>
            </a:r>
            <a:br>
              <a:rPr sz="3800"/>
            </a:br>
            <a:r>
              <a:rPr b="1" lang="en-GB" sz="3800" spc="-1" strike="noStrike">
                <a:solidFill>
                  <a:srgbClr val="f1b60f"/>
                </a:solidFill>
                <a:latin typeface="Arial"/>
              </a:rPr>
              <a:t>III DIRECCION TERRITORIAL TRUJILLO</a:t>
            </a:r>
            <a:endParaRPr b="0" lang="en-US" sz="38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2276640"/>
            <a:ext cx="7329600" cy="40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 algn="ctr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66"/>
                </a:solidFill>
                <a:latin typeface="Arial"/>
              </a:rPr>
              <a:t>OFICINA CENTRAL DE OPERACIONES POLICIAL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0" algn="ctr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66"/>
                </a:solidFill>
                <a:latin typeface="Arial"/>
              </a:rPr>
              <a:t>CEOPOL-III DIRTEPOL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0" algn="ctr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66"/>
                </a:solidFill>
                <a:latin typeface="Arial"/>
              </a:rPr>
              <a:t>SET-</a:t>
            </a: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3000" spc="-1" strike="noStrike">
                <a:solidFill>
                  <a:srgbClr val="ffff66"/>
                </a:solidFill>
                <a:latin typeface="Arial"/>
              </a:rPr>
              <a:t>2006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676520" y="533520"/>
            <a:ext cx="67244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¿Cómo actúan los delincuent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304560" y="1676160"/>
            <a:ext cx="8381880" cy="241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 algn="just">
              <a:lnSpc>
                <a:spcPct val="100000"/>
              </a:lnSpc>
              <a:spcBef>
                <a:spcPts val="1726"/>
              </a:spcBef>
              <a:buClr>
                <a:srgbClr val="ffffff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Tahoma"/>
                <a:ea typeface="Arial Unicode MS"/>
              </a:rPr>
              <a:t>La burundanga es la droga FAVORITA para los delincuentes, recuerde ya que esta altera transitoriamente el funcionamiento cerebral en aprox. 2 minutos.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37680" indent="-337680" algn="just">
              <a:lnSpc>
                <a:spcPct val="100000"/>
              </a:lnSpc>
              <a:spcBef>
                <a:spcPts val="1726"/>
              </a:spcBef>
              <a:buClr>
                <a:srgbClr val="ffffff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Tahoma"/>
                <a:ea typeface="Arial Unicode MS"/>
              </a:rPr>
              <a:t>La víctima en tal condición, es la presa ideal para abusar físicamente de ella o robarle a voluntad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" y="4038480"/>
            <a:ext cx="8458200" cy="163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just">
              <a:lnSpc>
                <a:spcPct val="100000"/>
              </a:lnSpc>
              <a:spcBef>
                <a:spcPts val="1726"/>
              </a:spcBef>
              <a:buClr>
                <a:srgbClr val="ffffff"/>
              </a:buClr>
              <a:buFont typeface="Tahoma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Tahoma"/>
                <a:ea typeface="Arial Unicode MS"/>
              </a:rPr>
              <a:t>A veces hábilmente sitúan objetos frente a la víctima para que ésta inhale el tóxico: por ejemplo, pueden mostrarle un libro, cartera o pañuelo que una vez abierto deja escapar el gas o spray en el rostro.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2362320" y="609480"/>
            <a:ext cx="35812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¿Cómo lo hacen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56840" y="1752480"/>
            <a:ext cx="842004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100000"/>
              </a:lnSpc>
              <a:spcBef>
                <a:spcPts val="1726"/>
              </a:spcBef>
              <a:buClr>
                <a:srgbClr val="ffffff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Tahoma"/>
              </a:rPr>
              <a:t>Cuidado con los taxistas que hábilmente sacuden franelas dentro del vehículo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1280" indent="0" algn="just">
              <a:lnSpc>
                <a:spcPct val="100000"/>
              </a:lnSpc>
              <a:spcBef>
                <a:spcPts val="1726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1726"/>
              </a:spcBef>
              <a:buClr>
                <a:srgbClr val="ffffff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Tahoma"/>
              </a:rPr>
              <a:t>Cuidado con aquellos (as) amigos (as) que se acercan para entablar conversación en el bus y / o paradas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80880" y="4648320"/>
            <a:ext cx="8420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just">
              <a:lnSpc>
                <a:spcPct val="100000"/>
              </a:lnSpc>
              <a:spcBef>
                <a:spcPts val="1726"/>
              </a:spcBef>
              <a:buClr>
                <a:srgbClr val="ffffff"/>
              </a:buClr>
              <a:buFont typeface="Tahoma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Tahoma"/>
                <a:ea typeface="Arial Unicode MS"/>
              </a:rPr>
              <a:t>Generalmente son pequeñas organizaciones formadas por más de tres delincuentes encargados de seleccionar a la víctima para confundirla, drogarla, robarla, etc. 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3581280"/>
            <a:ext cx="67244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PELIGRO – Dosis alt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380520" y="4419360"/>
            <a:ext cx="8496360" cy="11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100000"/>
              </a:lnSpc>
              <a:spcBef>
                <a:spcPts val="1726"/>
              </a:spcBef>
              <a:buClr>
                <a:srgbClr val="ffffff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Tahoma"/>
                <a:ea typeface="Arial Unicode MS"/>
              </a:rPr>
              <a:t>En dosis muy altas causa convulsiones, depresión severa, coma y aún la muerte.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914400" y="838080"/>
            <a:ext cx="6724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Vías de absor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0880" y="2057400"/>
            <a:ext cx="85345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just">
              <a:lnSpc>
                <a:spcPct val="100000"/>
              </a:lnSpc>
              <a:spcBef>
                <a:spcPts val="1726"/>
              </a:spcBef>
              <a:buClr>
                <a:srgbClr val="ffffff"/>
              </a:buClr>
              <a:buFont typeface="Tahoma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Tahoma"/>
                <a:ea typeface="Arial Unicode MS"/>
              </a:rPr>
              <a:t>Es factible el ingreso por vía inhalatoria a través de cigarrillo o por la piel con la aplicación de linimentos.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2286000" y="838080"/>
            <a:ext cx="3981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RECOMENDACION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380520" y="20570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100000"/>
              </a:lnSpc>
              <a:spcBef>
                <a:spcPts val="1726"/>
              </a:spcBef>
              <a:buClr>
                <a:srgbClr val="ffffff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Tahoma"/>
                <a:ea typeface="Arial Unicode MS"/>
              </a:rPr>
              <a:t>No acepte (no tocar) papeles u hojas volantes de desconocidos en la calle o en su vehículo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1280" indent="0" algn="just">
              <a:lnSpc>
                <a:spcPct val="100000"/>
              </a:lnSpc>
              <a:spcBef>
                <a:spcPts val="1726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1726"/>
              </a:spcBef>
              <a:buClr>
                <a:srgbClr val="ffffff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Tahoma"/>
                <a:ea typeface="Arial Unicode MS"/>
              </a:rPr>
              <a:t>No acepte ningún tipo de bebida, dulces, cigarrillos de desconocidos cuando se encuentre usted en algún evento social o bares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1280" indent="0" algn="just">
              <a:lnSpc>
                <a:spcPct val="100000"/>
              </a:lnSpc>
              <a:spcBef>
                <a:spcPts val="1726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1726"/>
              </a:spcBef>
              <a:buClr>
                <a:srgbClr val="ffffff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Tahoma"/>
                <a:ea typeface="Arial Unicode MS"/>
              </a:rPr>
              <a:t>No deje su botella o vaso de licor abandonados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2419200" y="914400"/>
            <a:ext cx="39052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RECOMENDACION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380520" y="2057400"/>
            <a:ext cx="85345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100000"/>
              </a:lnSpc>
              <a:spcBef>
                <a:spcPts val="1726"/>
              </a:spcBef>
              <a:buClr>
                <a:srgbClr val="ffffff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Tahoma"/>
                <a:ea typeface="Arial Unicode MS"/>
              </a:rPr>
              <a:t>Cuidado cuando personas aparentemente inofensivas se acercan a usted en la calle con pretextos de caridad, o la manera más frecuente fingiendo ser analfabetos para que lea  una dirección.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80880" y="4038480"/>
            <a:ext cx="84582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just">
              <a:lnSpc>
                <a:spcPct val="100000"/>
              </a:lnSpc>
              <a:spcBef>
                <a:spcPts val="1726"/>
              </a:spcBef>
              <a:buClr>
                <a:srgbClr val="ffffff"/>
              </a:buClr>
              <a:buFont typeface="Tahoma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Tahoma"/>
                <a:ea typeface="Arial Unicode MS"/>
              </a:rPr>
              <a:t>Si en el lapso de 1 un minuto usted sospecha haber sido drogado con cualquier sustancia química y esta </a:t>
            </a:r>
            <a:r>
              <a:rPr b="0" lang="en-GB" sz="2300" spc="-1" strike="noStrike">
                <a:solidFill>
                  <a:srgbClr val="f1b60f"/>
                </a:solidFill>
                <a:latin typeface="Tahoma"/>
                <a:ea typeface="Arial Unicode MS"/>
              </a:rPr>
              <a:t>acorralado</a:t>
            </a:r>
            <a:r>
              <a:rPr b="0" lang="en-GB" sz="2300" spc="-1" strike="noStrike">
                <a:solidFill>
                  <a:srgbClr val="ffffff"/>
                </a:solidFill>
                <a:latin typeface="Tahoma"/>
                <a:ea typeface="Arial Unicode MS"/>
              </a:rPr>
              <a:t>, simule sufrir un desmayo o un ataque (convulsiones), el delincuente sabrá del peligro del exceso en la droga y decidirá abandonarlo.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962000" y="533520"/>
            <a:ext cx="6724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RECOMENDACION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437760" y="2114280"/>
            <a:ext cx="3809880" cy="289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lnSpc>
                <a:spcPct val="100000"/>
              </a:lnSpc>
              <a:spcBef>
                <a:spcPts val="1726"/>
              </a:spcBef>
              <a:buClr>
                <a:srgbClr val="ffffff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Tahoma"/>
                <a:ea typeface="Arial Unicode MS"/>
              </a:rPr>
              <a:t>Si todavía se encuentra usted semi-consciente y puede distinguir si el delincuente se ha marchado, pida auxilio inmediatamente. LUEGO NO RECORDARA NADA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4890960" y="1600200"/>
            <a:ext cx="3551400" cy="4525920"/>
            <a:chOff x="4890960" y="1600200"/>
            <a:chExt cx="3551400" cy="4525920"/>
          </a:xfrm>
        </p:grpSpPr>
        <p:pic>
          <p:nvPicPr>
            <p:cNvPr id="139" name="" descr=""/>
            <p:cNvPicPr/>
            <p:nvPr/>
          </p:nvPicPr>
          <p:blipFill>
            <a:blip r:embed="rId1"/>
            <a:stretch/>
          </p:blipFill>
          <p:spPr>
            <a:xfrm>
              <a:off x="4890960" y="1600200"/>
              <a:ext cx="3551400" cy="452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"/>
            <p:cNvSpPr/>
            <p:nvPr/>
          </p:nvSpPr>
          <p:spPr>
            <a:xfrm>
              <a:off x="4890960" y="1600200"/>
              <a:ext cx="3551400" cy="452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med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2286000" y="685800"/>
            <a:ext cx="41338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RECOMENDACION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456840" y="2057040"/>
            <a:ext cx="8381880" cy="30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100000"/>
              </a:lnSpc>
              <a:spcBef>
                <a:spcPts val="1726"/>
              </a:spcBef>
              <a:buClr>
                <a:srgbClr val="ffffff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Tahoma"/>
                <a:ea typeface="Arial Unicode MS"/>
              </a:rPr>
              <a:t>Dé instrucciones en su casa (niños y empleadas), NO abrir la puerta a supuestos grupos religiosos, vendedores o empleados públicos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1280" indent="0" algn="just">
              <a:lnSpc>
                <a:spcPct val="100000"/>
              </a:lnSpc>
              <a:spcBef>
                <a:spcPts val="1726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1726"/>
              </a:spcBef>
              <a:buClr>
                <a:srgbClr val="ffffff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Tahoma"/>
                <a:ea typeface="Arial Unicode MS"/>
              </a:rPr>
              <a:t>Si el propósito es el robo es su casa, las víctimas favoritas son las empleadas domésticas y los niños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2133720" y="762120"/>
            <a:ext cx="67244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RECOMENDACION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380520" y="167616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100000"/>
              </a:lnSpc>
              <a:spcBef>
                <a:spcPts val="1726"/>
              </a:spcBef>
              <a:buClr>
                <a:srgbClr val="ffffff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Tahoma"/>
                <a:ea typeface="Arial Unicode MS"/>
              </a:rPr>
              <a:t>No acepte pañuelos de extraños con pretextos de que su cara o ropa están manchados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1280" indent="0" algn="just">
              <a:lnSpc>
                <a:spcPct val="100000"/>
              </a:lnSpc>
              <a:spcBef>
                <a:spcPts val="1726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1726"/>
              </a:spcBef>
              <a:buClr>
                <a:srgbClr val="ffffff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Tahoma"/>
                <a:ea typeface="Arial Unicode MS"/>
              </a:rPr>
              <a:t>No entable conversaciones con extraños cuando usted esta haciendo cola en el banco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1280" indent="0" algn="just">
              <a:lnSpc>
                <a:spcPct val="100000"/>
              </a:lnSpc>
              <a:spcBef>
                <a:spcPts val="1726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1726"/>
              </a:spcBef>
              <a:buClr>
                <a:srgbClr val="ffffff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Tahoma"/>
                <a:ea typeface="Arial Unicode MS"/>
              </a:rPr>
              <a:t>No acepte demostraciones de productos (inhalación de perfumes) que se suelen vender en la calle o fuera de Centros Comerciales.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100000"/>
              </a:lnSpc>
              <a:spcBef>
                <a:spcPts val="2925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900" spc="-1" strike="noStrike">
                <a:solidFill>
                  <a:srgbClr val="ffffff"/>
                </a:solidFill>
                <a:latin typeface="Arial"/>
                <a:ea typeface="Arial Unicode MS"/>
              </a:rPr>
              <a:t>Nadie está fuera del peligro de la BURUNDANGA. 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  <a:p>
            <a:pPr marL="341280" indent="0" algn="just">
              <a:lnSpc>
                <a:spcPct val="100000"/>
              </a:lnSpc>
              <a:spcBef>
                <a:spcPts val="2925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  <a:p>
            <a:pPr marL="341280" indent="0" algn="ctr">
              <a:lnSpc>
                <a:spcPct val="100000"/>
              </a:lnSpc>
              <a:spcBef>
                <a:spcPts val="2925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900" spc="-1" strike="noStrike" u="sng">
                <a:solidFill>
                  <a:srgbClr val="ffffff"/>
                </a:solidFill>
                <a:uFillTx/>
                <a:latin typeface="Arial"/>
                <a:ea typeface="Arial Unicode MS"/>
              </a:rPr>
              <a:t>Manténgase alerta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1905120" y="914400"/>
            <a:ext cx="67244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Distribuya esta informa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000680" y="6039000"/>
            <a:ext cx="514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La seguridad es asunto comú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418680" y="2076480"/>
            <a:ext cx="8420040" cy="25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100000"/>
              </a:lnSpc>
              <a:spcBef>
                <a:spcPts val="1726"/>
              </a:spcBef>
              <a:buClr>
                <a:srgbClr val="ffffff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Tahoma"/>
              </a:rPr>
              <a:t>Sea un buen ciudadano y ayude a divulgar esta informacion, no sea indiferente a una problemática que puede afectar a cualquier persona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1726"/>
              </a:spcBef>
              <a:buClr>
                <a:srgbClr val="ffffff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Tahoma"/>
              </a:rPr>
              <a:t>Hable y comente de este tema con toda su familia, vecinos y amigos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2300400" y="542880"/>
            <a:ext cx="4543200" cy="57722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1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800" spc="-1" strike="noStrike">
                <a:solidFill>
                  <a:srgbClr val="f1b60f"/>
                </a:solidFill>
                <a:latin typeface="Arial"/>
              </a:rPr>
              <a:t>GRACIAS POR SU COLABORACIÓN, CONTAMOS CON UD, PARA LLEGAR A MAYOR CANTIDAD DE PUBLICO</a:t>
            </a:r>
            <a:r>
              <a:rPr b="0" lang="en-GB" sz="3800" spc="-1" strike="noStrike">
                <a:solidFill>
                  <a:srgbClr val="f1b60f"/>
                </a:solidFill>
                <a:latin typeface="Arial"/>
              </a:rPr>
              <a:t>.</a:t>
            </a:r>
            <a:br>
              <a:rPr sz="3800"/>
            </a:br>
            <a:br>
              <a:rPr sz="3800"/>
            </a:br>
            <a:endParaRPr b="0" lang="en-US" sz="38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2781000"/>
            <a:ext cx="8229600" cy="33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 algn="ctr">
              <a:lnSpc>
                <a:spcPct val="90000"/>
              </a:lnSpc>
              <a:spcBef>
                <a:spcPts val="22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SEGURIDAD CIUDADANA ES TAREA DE TODOS, RECUERDE LAS TAREAS DE PREVENCION  NO SON PATRIMONIO DE LAS INSTITUCIONES, SON EL COLECTIVO NACIONAL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0" algn="ctr">
              <a:lnSpc>
                <a:spcPct val="90000"/>
              </a:lnSpc>
              <a:spcBef>
                <a:spcPts val="22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000" spc="-1" strike="noStrike">
                <a:solidFill>
                  <a:srgbClr val="00ff99"/>
                </a:solidFill>
                <a:latin typeface="Arial"/>
              </a:rPr>
              <a:t>CMDTE. PNP WERNER IGLESIAS PLASENCIA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ff99"/>
                </a:solidFill>
                <a:latin typeface="Arial"/>
              </a:rPr>
              <a:t>	</a:t>
            </a:r>
            <a:r>
              <a:rPr b="0" lang="en-GB" sz="1000" spc="-1" strike="noStrike">
                <a:solidFill>
                  <a:srgbClr val="00ff99"/>
                </a:solidFill>
                <a:latin typeface="Arial"/>
              </a:rPr>
              <a:t>	</a:t>
            </a:r>
            <a:r>
              <a:rPr b="0" lang="en-GB" sz="1000" spc="-1" strike="noStrike">
                <a:solidFill>
                  <a:srgbClr val="00ff99"/>
                </a:solidFill>
                <a:latin typeface="Arial"/>
              </a:rPr>
              <a:t>	</a:t>
            </a:r>
            <a:r>
              <a:rPr b="0" lang="en-GB" sz="1000" spc="-1" strike="noStrike">
                <a:solidFill>
                  <a:srgbClr val="00ff99"/>
                </a:solidFill>
                <a:latin typeface="Arial"/>
              </a:rPr>
              <a:t>	</a:t>
            </a:r>
            <a:r>
              <a:rPr b="0" lang="en-GB" sz="1000" spc="-1" strike="noStrike">
                <a:solidFill>
                  <a:srgbClr val="00ff99"/>
                </a:solidFill>
                <a:latin typeface="Arial"/>
              </a:rPr>
              <a:t>	</a:t>
            </a:r>
            <a:r>
              <a:rPr b="0" lang="en-GB" sz="1000" spc="-1" strike="noStrike">
                <a:solidFill>
                  <a:srgbClr val="00ff99"/>
                </a:solidFill>
                <a:latin typeface="Arial"/>
              </a:rPr>
              <a:t>	</a:t>
            </a:r>
            <a:r>
              <a:rPr b="0" lang="en-GB" sz="1000" spc="-1" strike="noStrike">
                <a:solidFill>
                  <a:srgbClr val="00ff99"/>
                </a:solidFill>
                <a:latin typeface="Arial"/>
              </a:rPr>
              <a:t>	</a:t>
            </a:r>
            <a:r>
              <a:rPr b="0" lang="en-GB" sz="1000" spc="-1" strike="noStrike">
                <a:solidFill>
                  <a:srgbClr val="00ff99"/>
                </a:solidFill>
                <a:latin typeface="Arial"/>
              </a:rPr>
              <a:t>JEFE CEOPOL TRUJILLO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533520" y="1523880"/>
            <a:ext cx="81723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¿Sabe usted qué es la Burundanga o Escopolamina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14440" y="3048120"/>
            <a:ext cx="835488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ahoma"/>
              </a:rPr>
              <a:t>Existe una sustancia que tiene el poder de suprimir la voluntad de las personas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ahoma"/>
              </a:rPr>
              <a:t>Además, hace perder la memoria de todo lo que sucede durante el tiempo que dura su efecto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962000" y="533520"/>
            <a:ext cx="6039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Escopolamina o Burundang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609480" y="1946160"/>
            <a:ext cx="381024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1726"/>
              </a:spcBef>
              <a:buClr>
                <a:srgbClr val="ffffff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Tahoma"/>
              </a:rPr>
              <a:t>Se llama Escopolamina y se obtiene de un árbol nativo de Centro América, denominado BRUGMANSIA o BELLADONA. Se asimila al solo contacto con el cuerpo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648320" y="1766880"/>
            <a:ext cx="4038480" cy="4192560"/>
            <a:chOff x="4648320" y="1766880"/>
            <a:chExt cx="4038480" cy="41925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4648320" y="1766880"/>
              <a:ext cx="4038480" cy="419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4648320" y="1766880"/>
              <a:ext cx="4038480" cy="419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med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962000" y="533520"/>
            <a:ext cx="6039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Muy conocida en Colomb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533160" y="1946160"/>
            <a:ext cx="380988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100000"/>
              </a:lnSpc>
              <a:spcBef>
                <a:spcPts val="1726"/>
              </a:spcBef>
              <a:buClr>
                <a:srgbClr val="ffffff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Tahoma"/>
                <a:ea typeface="Arial Unicode MS"/>
              </a:rPr>
              <a:t>En Colombia se la conoce como cacao, sabanero o borrachero. De ella se extrae una droga llamada atropina que tiene varios usos en la medicina clásica.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1726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4753080" y="1843200"/>
            <a:ext cx="3828960" cy="4038480"/>
            <a:chOff x="4753080" y="1843200"/>
            <a:chExt cx="3828960" cy="403848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4753080" y="1843200"/>
              <a:ext cx="3828960" cy="403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4753080" y="1843200"/>
              <a:ext cx="3828960" cy="403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med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962000" y="533520"/>
            <a:ext cx="6039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La alteración de esta droga con otros fármac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6840" y="2098440"/>
            <a:ext cx="8458200" cy="414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100000"/>
              </a:lnSpc>
              <a:spcBef>
                <a:spcPts val="1726"/>
              </a:spcBef>
              <a:buClr>
                <a:srgbClr val="ffffff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Tahoma"/>
              </a:rPr>
              <a:t>Investigadores aseguran que esta droga ha sido alterada y/o manipulada con otras drogas para producir este efecto de automatismo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1280" indent="0" algn="just">
              <a:lnSpc>
                <a:spcPct val="100000"/>
              </a:lnSpc>
              <a:spcBef>
                <a:spcPts val="1726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1726"/>
              </a:spcBef>
              <a:buClr>
                <a:srgbClr val="ffffff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Tahoma"/>
              </a:rPr>
              <a:t>La escopolamina es un medicamento de uso delicado y se lo usa bajo prescripción médica. 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990720" y="3657600"/>
            <a:ext cx="6038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Efect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533520" y="4419720"/>
            <a:ext cx="82296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100000"/>
              </a:lnSpc>
              <a:spcBef>
                <a:spcPts val="1726"/>
              </a:spcBef>
              <a:buClr>
                <a:srgbClr val="ffffff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Tahoma"/>
                <a:ea typeface="Arial Unicode MS"/>
              </a:rPr>
              <a:t>La víctima estará en un estado de pasividad y en actitud "complaciente" que aprovecha el delincuente para robarle e inducirle a realizar acciones que pueden lesionarle física, moral o económicamente. 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838080" y="685800"/>
            <a:ext cx="6039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El ingreso al cuerp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57200" y="1752480"/>
            <a:ext cx="84582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just">
              <a:lnSpc>
                <a:spcPct val="100000"/>
              </a:lnSpc>
              <a:spcBef>
                <a:spcPts val="1726"/>
              </a:spcBef>
              <a:buClr>
                <a:srgbClr val="ffffff"/>
              </a:buClr>
              <a:buFont typeface="Tahoma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Tahoma"/>
                <a:ea typeface="Arial Unicode MS"/>
              </a:rPr>
              <a:t>Una vez que la escopolamina ingresa al cuerpo provocará su máximo efecto, con una duración de 1 ó 2 horas, para posteriormente eliminarse lentamente.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962000" y="533520"/>
            <a:ext cx="6724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¿Dónde puede estar la Escopolamina?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533160" y="2479680"/>
            <a:ext cx="3809880" cy="33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1726"/>
              </a:spcBef>
              <a:buClr>
                <a:srgbClr val="ffffff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Tahoma"/>
                <a:ea typeface="Arial Unicode MS"/>
              </a:rPr>
              <a:t>En dulces, gaseosas, licores, perfumes,  papel, billetes, etc.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4762440" y="1690560"/>
            <a:ext cx="3810240" cy="4343400"/>
            <a:chOff x="4762440" y="1690560"/>
            <a:chExt cx="3810240" cy="4343400"/>
          </a:xfrm>
        </p:grpSpPr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4762440" y="1690560"/>
              <a:ext cx="3810240" cy="434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/>
            <p:nvPr/>
          </p:nvSpPr>
          <p:spPr>
            <a:xfrm>
              <a:off x="4762440" y="1690560"/>
              <a:ext cx="3810240" cy="434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med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962000" y="533520"/>
            <a:ext cx="6724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Generalidade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380880" y="1641600"/>
            <a:ext cx="381024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1726"/>
              </a:spcBef>
              <a:buClr>
                <a:srgbClr val="ffffff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Tahoma"/>
                <a:ea typeface="Arial Unicode MS"/>
              </a:rPr>
              <a:t>Además se administra con mucha frecuencia burundanga a víctimas que han consumido previamente bebidas alcohólicas lo cual hace más difícil determinar cuál o cuáles sustancias son las responsables del estado de intoxicación aguda en que llega el paciente al servicio de urgencias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4867200" y="1600200"/>
            <a:ext cx="3598920" cy="4525920"/>
            <a:chOff x="4867200" y="1600200"/>
            <a:chExt cx="3598920" cy="4525920"/>
          </a:xfrm>
        </p:grpSpPr>
        <p:pic>
          <p:nvPicPr>
            <p:cNvPr id="119" name="" descr=""/>
            <p:cNvPicPr/>
            <p:nvPr/>
          </p:nvPicPr>
          <p:blipFill>
            <a:blip r:embed="rId1"/>
            <a:stretch/>
          </p:blipFill>
          <p:spPr>
            <a:xfrm>
              <a:off x="4867200" y="1600200"/>
              <a:ext cx="3598920" cy="452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"/>
            <p:cNvSpPr/>
            <p:nvPr/>
          </p:nvSpPr>
          <p:spPr>
            <a:xfrm>
              <a:off x="4867200" y="1600200"/>
              <a:ext cx="3598920" cy="452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Domingo Orta</dc:creator>
  <dc:description/>
  <dc:language>en-US</dc:language>
  <cp:lastModifiedBy>WIN XP</cp:lastModifiedBy>
  <cp:revision>0</cp:revision>
  <dc:subject/>
  <dc:title>Slide 1</dc:title>
</cp:coreProperties>
</file>