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MayItBe_Enya_LordOfTheRings135.wav" ContentType="audio/x-wav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B0DD-0916-4F7F-95DD-DD99CE668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A47A-4911-4B6D-9AB7-143E8C890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7D96-6714-443D-A8F0-6C54544DE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04EB-A0A9-431F-B257-4F7534F98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C948-78E1-499D-8DCC-A6B883210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47BE-6C9E-4A1B-BFF2-36A9B4EB3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BD6B-3F48-4DE9-B792-679CFA722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A222-C95C-4E73-8BFA-52CB7CE9F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62BF-C758-49BD-A13C-0BA3E5DFE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0886-6C8D-4702-9C9F-B014D1443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C341-4F2C-452E-AFCA-F0C3298D5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B01F-BF2B-4AFA-9ECC-69B400BE7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0B3E-7701-4A53-A7D9-87EEAD3F9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111B-1784-4DBC-B6FB-9AA12DB45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2CB9-B397-4729-B8BD-9F33AF812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B9A6-6124-4E89-8D71-AD2E60BC2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8923-D37C-470F-A45E-27C2838C2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8AA6-B3B0-4C17-8E1C-084F7E844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A94B-A2FA-41B3-827D-4F063360F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396D-6781-4A50-B714-3A9E9552E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ECB8-9C78-4C00-8B66-67F7A4B38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D75D-E15D-4062-B868-349D8E061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30AD-6237-493B-8BB5-99948E2F6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5671-2DDF-44E7-B2A4-088175F4A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482-A085-4109-B3DE-0B5B392F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3AC-DFA3-400F-A8CD-96FA0FD6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9817-EE97-41D9-95D4-D47E3C87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3A7-C0F1-4944-97DB-2BB83F7D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8E9-D4E1-42F8-BA94-3C665E2D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D88-081F-4168-975B-E063FDE1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CC3-DB61-43C7-9ACD-D7F94E4D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F40-E205-46C8-B8A1-DAC08EAA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55F2-F916-49CC-AB84-B75CF65C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6AD-8BBE-4FF2-BC92-6813D892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675-30AB-4A96-9E7F-6D8B728B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D4B-481D-40DD-9FF1-2134680A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E562-1AC3-4014-8F0C-9F1258CCF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MayItBe_Enya_LordOfTheRings135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LocationFinland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Finland_Flag"/>
          <p:cNvPicPr/>
          <p:nvPr/>
        </p:nvPicPr>
        <p:blipFill>
          <a:blip r:embed="rId2"/>
          <a:stretch/>
        </p:blipFill>
        <p:spPr>
          <a:xfrm>
            <a:off x="7667640" y="5776920"/>
            <a:ext cx="1190520" cy="723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581040" y="685800"/>
            <a:ext cx="7920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Finlandia no tiene muchos recursos naturales. El himno nacional dice: </a:t>
            </a:r>
            <a:r>
              <a:rPr b="1" lang="pt-BR" sz="1800" spc="-1" strike="noStrike">
                <a:solidFill>
                  <a:srgbClr val="808080"/>
                </a:solidFill>
                <a:latin typeface="Arial"/>
              </a:rPr>
              <a:t>...</a:t>
            </a:r>
            <a:r>
              <a:rPr b="1" i="1" lang="pt-BR" sz="1800" spc="-1" strike="noStrike">
                <a:solidFill>
                  <a:srgbClr val="808080"/>
                </a:solidFill>
                <a:latin typeface="Arial"/>
              </a:rPr>
              <a:t>somos un país pobre, que no tiene oro. El recurso que tenemos es nuestro pueblo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ono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Así, invertimos en nuestro pueblo. Toda persona tiene que recibir formación y educación para ir tan lejos como su capacidad lo permita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71680" y="2343240"/>
            <a:ext cx="7248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No es suficiente que una sociedad posea algunas personas muy capacitadas. Toda la sociedad tiene que tener la posibilidad de formación durante toda la vida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No basta con que un niño pobre reciba alguna formación cuando es pequeño. Tiene que poder estudiar cuanto quiera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Y Finlandia es uno de los países mas competitivos en las estadísticas internacionales con sólo 5 millones de habitantes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"/>
              </a:rPr>
              <a:t>Imagine lo qué haría con 190 millones. 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med">
    <p:randomBar dir="vert"/>
    <p:sndAc>
      <p:stSnd>
        <p:snd r:embed="rId3" name="MayItBe_Enya_LordOfTheRings135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ia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85880" y="360360"/>
            <a:ext cx="721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Un pueblo ignorante desperdicia sus recursos y se empobrece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Un pueblo ignorante vive de ilusiones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Dia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71680" y="360360"/>
            <a:ext cx="814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bbe0e3"/>
                </a:solidFill>
                <a:latin typeface="Verdana"/>
              </a:rPr>
              <a:t>Un pueblo educado sabe muy bien diferenciar un discurso serio de una prédica demagógica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Dia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i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79280" y="189000"/>
            <a:ext cx="47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Un pueblo educado prospera también en condiciones adversas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ia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Dia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642960" y="5500800"/>
            <a:ext cx="749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29"/>
                </a:solidFill>
                <a:latin typeface="Verdana"/>
              </a:rPr>
              <a:t>Finlandia posee una economía altamente industrializada, con producción “</a:t>
            </a:r>
            <a:r>
              <a:rPr b="1" lang="pt-BR" sz="2000" spc="-1" strike="noStrike">
                <a:solidFill>
                  <a:srgbClr val="ffff29"/>
                </a:solidFill>
                <a:latin typeface="Verdana"/>
              </a:rPr>
              <a:t>per capita” </a:t>
            </a:r>
            <a:r>
              <a:rPr b="1" i="1" lang="pt-BR" sz="2000" spc="-1" strike="noStrike">
                <a:solidFill>
                  <a:srgbClr val="ffff29"/>
                </a:solidFill>
                <a:latin typeface="Verdana"/>
              </a:rPr>
              <a:t>mayor que la del Reino Unido, Francia, Alemania e Italia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Dia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helsinquen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928960" y="112536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cc"/>
                </a:solidFill>
                <a:latin typeface="Verdana"/>
              </a:rPr>
              <a:t>Un pueblo ignorante es terreno abonado para la demagogia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med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ia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ia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4429080" y="214200"/>
            <a:ext cx="4478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0000"/>
                </a:solidFill>
                <a:latin typeface="Verdana"/>
              </a:rPr>
              <a:t>El patrón de vida finlandés es elevado. El sector clave de su economía es la industria - principalmente maderera, metalúrgica, ingeniería, telecomunicaciones (se destaca Nokia) y productos electrónicos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Di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ia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Dia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428760" y="2143080"/>
            <a:ext cx="471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El comercio exterior es importante, representando cerca del 1/3 del PBI. Con excepción de la madera y de varios minerales, Finlandia depende de importaciones de materias primas, energía, y algunos componentes de bienes manufacturados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Dia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Mono"/>
              </a:rPr>
              <a:t> </a:t>
            </a: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El pensamiento de su Presidenta  difiere bastante con el de nuestras autoridades  actuales, cuanto más ignorante sea el  pueblo… más van a perdurar ellos y más  enriquecimientos ilícitos habrá. La corrupción siempre estará presente porque es el negocio de los sinvergüenz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0000"/>
                </a:solidFill>
                <a:latin typeface="Arial"/>
              </a:rPr>
              <a:t>Reenvíenlo por fav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8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3" descr="Di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3348000" y="360360"/>
            <a:ext cx="561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cc"/>
                </a:solidFill>
                <a:latin typeface="Verdana"/>
              </a:rPr>
              <a:t>Si un país busca inspiración para enfrentar dos de sus principales problemas (educación y corrupción), difícilmente se podría dejar de visitar un lugar más apropiado que Finlandia.</a:t>
            </a:r>
            <a:endParaRPr b="0" lang="en-US" sz="20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Dia3"/>
          <p:cNvPicPr/>
          <p:nvPr/>
        </p:nvPicPr>
        <p:blipFill>
          <a:blip r:embed="rId1"/>
          <a:stretch/>
        </p:blipFill>
        <p:spPr>
          <a:xfrm>
            <a:off x="-287280" y="-25560"/>
            <a:ext cx="9431280" cy="6883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Dia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2 Rectángulo"/>
          <p:cNvSpPr/>
          <p:nvPr/>
        </p:nvSpPr>
        <p:spPr>
          <a:xfrm>
            <a:off x="571680" y="21420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Verdana"/>
              </a:rPr>
              <a:t>La presidenta finlandesa, Tarja Halonen, adelanta algunas palabras-clave: “fuerte inversión en educación”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Verdana"/>
              </a:rPr>
              <a:t>(6% del PIB en Finlandia, sin contar investigación); transparencia en el gobierno; y fidelidad partidaria;</a:t>
            </a:r>
            <a:br>
              <a:rPr sz="1800"/>
            </a:br>
            <a:r>
              <a:rPr b="1" i="1" lang="pt-BR" sz="1800" spc="-1" strike="noStrike">
                <a:solidFill>
                  <a:srgbClr val="ffffff"/>
                </a:solidFill>
                <a:latin typeface="Verdana"/>
              </a:rPr>
              <a:t>Es muy importante tener el coraje de reservar los recursos para la educación básica", resalta ella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 advTm="1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Dia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i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571920" y="333360"/>
            <a:ext cx="53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cc"/>
                </a:solidFill>
                <a:latin typeface="Verdana"/>
              </a:rPr>
              <a:t>Un pueblo educado sabrá elegir a dirigentes honestos y competentes. Estos elegirán los mejores asesores. 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Dia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Dia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2 CuadroTexto"/>
          <p:cNvSpPr/>
          <p:nvPr/>
        </p:nvSpPr>
        <p:spPr>
          <a:xfrm>
            <a:off x="642960" y="58579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Un pueblo inteligente y educado no permite corruptos ni incompetentes.</a:t>
            </a:r>
            <a:endParaRPr b="0" lang="en-US" sz="1800" spc="-1" strike="noStrike">
              <a:solidFill>
                <a:srgbClr val="000000"/>
              </a:solidFill>
              <a:latin typeface="Mono"/>
            </a:endParaRPr>
          </a:p>
        </p:txBody>
      </p:sp>
    </p:spTree>
  </p:cSld>
  <p:transition spd="slow"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7:50:04Z</dcterms:created>
  <dc:creator/>
  <dc:description/>
  <dc:language>en-US</dc:language>
  <cp:lastModifiedBy>admin</cp:lastModifiedBy>
  <dcterms:modified xsi:type="dcterms:W3CDTF">2009-09-23T17:26:08Z</dcterms:modified>
  <cp:revision>48</cp:revision>
  <dc:subject/>
  <dc:title>www.laboutiquedelpowerpoint.com</dc:title>
</cp:coreProperties>
</file>