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MayItBe_Enya_LordOfTheRings135.wav" ContentType="audio/x-wav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6FE1-9259-4C00-8205-854007ED2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FE9E-D3CA-4BD9-A351-2574FC078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97C0-C0A2-4535-A5EB-1F798F4A8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0144-131C-4599-A52B-7D61728FC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6FCB-F4C4-43A1-AC3B-34E0554DE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EF58-2B03-43E0-8A31-1E4461581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4B7F-A142-42FC-A99A-D3E82C273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5D26-F27C-4845-83AC-2FBD92EAF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7FE3-E189-4CEE-8441-C60EA4237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2912-561D-4DEA-AA08-84E6AA99F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2143-D841-4626-BB13-57B7C980B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6236-BBB7-46C9-BD43-70D6D9F38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3ACA-AE2A-4C03-BCCC-8A5BC327C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5DB8-12D3-4CED-8354-56F24D49C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4B8D-F92D-4915-A6D7-A98D96332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C9D9-6FA3-4B15-958B-582C480EF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0FC0-C966-44C8-8739-1E1C2DC66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C262-7550-4CB7-9CD2-3C8290F5B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9F48-4478-49EF-96D7-2A04D535A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631E-F389-4CFE-A2B4-7A9B39598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94C3-1B20-43E2-B8E9-AD2FB95C4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DCCC-805C-4529-8689-8382E9418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3751-A0AF-4379-A075-38FD8C49E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0E78-F695-4677-8314-12519955B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2806-D97F-4799-BA66-7F39DFC0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0A8-7554-48B3-902C-F45953C4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7643-3A86-46AD-A8DA-330841ED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6AA-CEF0-4D5F-8F18-DC1798AE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C73-35DC-4371-BFD2-CF054B63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2B7E-0F5F-4E7D-8B93-EA77FAD9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577-8EE8-47B7-B786-541A6011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C826-729E-4E03-BCA1-38B1D8F2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6446-430F-43C9-9386-AE2CA861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EAF2-164C-4410-BF8A-4444B1DA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623-ABF4-4808-8932-BD942E8C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0BB-F9EF-4AC1-8109-54EFAB54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AB2E-C035-47F5-B8A7-954F1DD95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MayItBe_Enya_LordOfTheRings135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LocationFinland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Finland_Flag"/>
          <p:cNvPicPr/>
          <p:nvPr/>
        </p:nvPicPr>
        <p:blipFill>
          <a:blip r:embed="rId2"/>
          <a:stretch/>
        </p:blipFill>
        <p:spPr>
          <a:xfrm>
            <a:off x="7667640" y="5776920"/>
            <a:ext cx="1190520" cy="723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581040" y="685800"/>
            <a:ext cx="7920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Finlandia no tiene muchos recursos naturales. El himno nacional dice: </a:t>
            </a: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...</a:t>
            </a:r>
            <a:r>
              <a:rPr b="1" i="1" lang="pt-BR" sz="1800" spc="-1" strike="noStrike">
                <a:solidFill>
                  <a:srgbClr val="808080"/>
                </a:solidFill>
                <a:latin typeface="Arial"/>
              </a:rPr>
              <a:t>somos un país pobre, que no tiene oro. El recurso que tenemos es nuestro pueblo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on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sí, invertimos en nuestro pueblo. Toda persona tiene que recibir formación y educación para ir tan lejos como su capacidad lo permita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71680" y="2343240"/>
            <a:ext cx="7248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No es suficiente que una sociedad posea algunas personas muy capacitadas. Toda la sociedad tiene que tener la posibilidad de formación durante toda la vida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No basta con que un niño pobre reciba alguna formación cuando es pequeño. Tiene que poder estudiar cuanto quiera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Y Finlandia es uno de los países mas competitivos en las estadísticas internacionales con sólo 5 millones de habitantes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Imagine lo qué haría con 190 millones. 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med">
    <p:randomBar dir="vert"/>
    <p:sndAc>
      <p:stSnd>
        <p:snd r:embed="rId3" name="MayItBe_Enya_LordOfTheRings135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ia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85880" y="360360"/>
            <a:ext cx="721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Un pueblo ignorante desperdicia sus recursos y se empobrece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Un pueblo ignorante vive de ilusiones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Dia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71680" y="360360"/>
            <a:ext cx="814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bbe0e3"/>
                </a:solidFill>
                <a:latin typeface="Verdana"/>
              </a:rPr>
              <a:t>Un pueblo educado sabe muy bien diferenciar un discurso serio de una prédica demagógica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Dia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i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79280" y="189000"/>
            <a:ext cx="47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Un pueblo educado prospera también en condiciones adversas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ia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Dia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642960" y="5500800"/>
            <a:ext cx="749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29"/>
                </a:solidFill>
                <a:latin typeface="Verdana"/>
              </a:rPr>
              <a:t>Finlandia posee una economía altamente industrializada, con producción “</a:t>
            </a:r>
            <a:r>
              <a:rPr b="1" lang="pt-BR" sz="2000" spc="-1" strike="noStrike">
                <a:solidFill>
                  <a:srgbClr val="ffff29"/>
                </a:solidFill>
                <a:latin typeface="Verdana"/>
              </a:rPr>
              <a:t>per capita” </a:t>
            </a:r>
            <a:r>
              <a:rPr b="1" i="1" lang="pt-BR" sz="2000" spc="-1" strike="noStrike">
                <a:solidFill>
                  <a:srgbClr val="ffff29"/>
                </a:solidFill>
                <a:latin typeface="Verdana"/>
              </a:rPr>
              <a:t>mayor que la del Reino Unido, Francia, Alemania e Italia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Dia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helsinquen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928960" y="112536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cc"/>
                </a:solidFill>
                <a:latin typeface="Verdana"/>
              </a:rPr>
              <a:t>Un pueblo ignorante es terreno abonado para la demagogia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med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ia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ia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4429080" y="214200"/>
            <a:ext cx="4478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0000"/>
                </a:solidFill>
                <a:latin typeface="Verdana"/>
              </a:rPr>
              <a:t>El patrón de vida finlandés es elevado. El sector clave de su economía es la industria - principalmente maderera, metalúrgica, ingeniería, telecomunicaciones (se destaca Nokia) y productos electrónicos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Di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ia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Dia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428760" y="2143080"/>
            <a:ext cx="471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El comercio exterior es importante, representando cerca del 1/3 del PBI. Con excepción de la madera y de varios minerales, Finlandia depende de importaciones de materias primas, energía, y algunos componentes de bienes manufacturados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Dia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Mono"/>
              </a:rPr>
              <a:t> </a:t>
            </a: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El pensamiento de su Presidenta  difiere bastante con el de nuestras autoridades  actuales, cuanto más ignorante sea el  pueblo… más van a perdurar ellos y más  enriquecimientos ilícitos habrá. La corrupción siempre estará presente porque es el negocio de los sinvergüenz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00"/>
                </a:solidFill>
                <a:latin typeface="Arial"/>
              </a:rPr>
              <a:t>Reenvíenlo por fav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8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3" descr="Di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3348000" y="360360"/>
            <a:ext cx="561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Si un país busca inspiración para enfrentar dos de sus principales problemas (educación y corrupción), difícilmente se podría dejar de visitar un lugar más apropiado que Finlandia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ia3"/>
          <p:cNvPicPr/>
          <p:nvPr/>
        </p:nvPicPr>
        <p:blipFill>
          <a:blip r:embed="rId1"/>
          <a:stretch/>
        </p:blipFill>
        <p:spPr>
          <a:xfrm>
            <a:off x="-287280" y="-25560"/>
            <a:ext cx="9431280" cy="6883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Di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2 Rectángulo"/>
          <p:cNvSpPr/>
          <p:nvPr/>
        </p:nvSpPr>
        <p:spPr>
          <a:xfrm>
            <a:off x="571680" y="21420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Verdana"/>
              </a:rPr>
              <a:t>La presidenta finlandesa, Tarja Halonen, adelanta algunas palabras-clave: “fuerte inversión en educación”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Verdana"/>
              </a:rPr>
              <a:t>(6% del PIB en Finlandia, sin contar investigación); transparencia en el gobierno; y fidelidad partidaria;</a:t>
            </a:r>
            <a:br>
              <a:rPr sz="1800"/>
            </a:br>
            <a:r>
              <a:rPr b="1" i="1" lang="pt-BR" sz="1800" spc="-1" strike="noStrike">
                <a:solidFill>
                  <a:srgbClr val="ffffff"/>
                </a:solidFill>
                <a:latin typeface="Verdana"/>
              </a:rPr>
              <a:t>Es muy importante tener el coraje de reservar los recursos para la educación básica", resalta ella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 advTm="1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Dia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i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571920" y="333360"/>
            <a:ext cx="53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cc"/>
                </a:solidFill>
                <a:latin typeface="Verdana"/>
              </a:rPr>
              <a:t>Un pueblo educado sabrá elegir a dirigentes honestos y competentes. Estos elegirán los mejores asesores. 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Dia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Dia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2 CuadroTexto"/>
          <p:cNvSpPr/>
          <p:nvPr/>
        </p:nvSpPr>
        <p:spPr>
          <a:xfrm>
            <a:off x="642960" y="58579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Un pueblo inteligente y educado no permite corruptos ni incompetentes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7:50:04Z</dcterms:created>
  <dc:creator/>
  <dc:description/>
  <dc:language>en-US</dc:language>
  <cp:lastModifiedBy>admin</cp:lastModifiedBy>
  <dcterms:modified xsi:type="dcterms:W3CDTF">2009-09-23T17:26:08Z</dcterms:modified>
  <cp:revision>48</cp:revision>
  <dc:subject/>
  <dc:title>www.laboutiquedelpowerpoint.com</dc:title>
</cp:coreProperties>
</file>