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0EB4-F899-4F78-B7FB-2717A9883228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14A6-E288-4ED6-A88B-58DDED180937}" type="slidenum">
              <a:rPr b="0" lang="es-P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01A-17CB-4DB3-A1F7-E6168F37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818-B498-42DE-A134-3F16AD5D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797-131E-4C3F-A40E-0B299736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CF2-8CD6-4B00-968D-711AFAD3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8C8F-6EC5-4667-B2F8-86B10E31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01FE-120A-4C64-A84F-CD95BE7A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437E-9430-4118-AF93-66FB2451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920C-732D-41AB-A47A-6DFD0B5D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1908-26AA-4BB9-9B20-B9A8C9FF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E3F4-1C82-4538-A30B-38E42DE9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BB5A-A147-4B4B-B360-B7883C9F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DFF-196D-4260-9F44-98C46D02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0D82-F82A-46F6-829F-33B4FBC4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C276-CBAB-45B7-8E3F-31CB7C5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4E05-0CC8-4F9D-ACCF-E7BBEBBD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36FD-0D24-467D-AA76-FF9B00E2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8BEF-36BC-4BC9-AFFB-4AA378E3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B1E-A60C-452C-9130-C1C9EA57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8D7-C80A-4A21-A60C-2909BEFA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321-20A7-43F8-951D-BBC280B5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490-F367-484F-9CE5-67A89D3E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4CA-4933-473C-A87D-54D8874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9E5-10BF-4529-9806-57CF7509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4FD-0A61-4D60-B9A6-6E32DE96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CEDF-0B88-45C4-8DB7-1C8260076B28}" type="slidenum">
              <a:rPr b="0" lang="es-PE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50CF-14CD-474A-82E7-EB38DCF4CF5D}" type="slidenum">
              <a:rPr b="0" lang="es-PE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 Título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81880" cy="2408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Book Antiqua"/>
              </a:rPr>
              <a:t>Demostración de lo fácil que es ser Comunis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pablo\AppData\Local\Temp\Temporary Internet Files\Content.IE5\XZ5AF7T9\MC900413478[1].wmf"/>
          <p:cNvPicPr/>
          <p:nvPr/>
        </p:nvPicPr>
        <p:blipFill>
          <a:blip r:embed="rId1"/>
          <a:stretch/>
        </p:blipFill>
        <p:spPr>
          <a:xfrm>
            <a:off x="4768920" y="1494000"/>
            <a:ext cx="2251080" cy="193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pablo\AppData\Local\Temp\Temporary Internet Files\Content.IE5\XZ5AF7T9\MC900413478[1].wmf"/>
          <p:cNvPicPr/>
          <p:nvPr/>
        </p:nvPicPr>
        <p:blipFill>
          <a:blip r:embed="rId2"/>
          <a:stretch/>
        </p:blipFill>
        <p:spPr>
          <a:xfrm flipH="1">
            <a:off x="2195280" y="1484280"/>
            <a:ext cx="2251080" cy="1935360"/>
          </a:xfrm>
          <a:prstGeom prst="rect">
            <a:avLst/>
          </a:prstGeom>
          <a:ln w="0">
            <a:noFill/>
          </a:ln>
        </p:spPr>
      </p:pic>
      <p:sp>
        <p:nvSpPr>
          <p:cNvPr id="93" name="3 Rectángulo"/>
          <p:cNvSpPr/>
          <p:nvPr/>
        </p:nvSpPr>
        <p:spPr>
          <a:xfrm>
            <a:off x="792000" y="4869000"/>
            <a:ext cx="75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Si – responde el militan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6 Rectángulo"/>
          <p:cNvSpPr/>
          <p:nvPr/>
        </p:nvSpPr>
        <p:spPr>
          <a:xfrm>
            <a:off x="760320" y="3573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Compañero…. Si tuvieras dos casas, ¿donarías una a la revolución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 Rectángulo"/>
          <p:cNvSpPr/>
          <p:nvPr/>
        </p:nvSpPr>
        <p:spPr>
          <a:xfrm>
            <a:off x="792000" y="4869000"/>
            <a:ext cx="75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Si – responde nuevamente el aguerrido militan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2 Rectángulo"/>
          <p:cNvSpPr/>
          <p:nvPr/>
        </p:nvSpPr>
        <p:spPr>
          <a:xfrm>
            <a:off x="760320" y="3573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Compañero…. Si tuvieras dos autos de lujo, ¿donarías uno a la revolución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C:\Users\pablo\AppData\Local\Temp\Temporary Internet Files\Content.IE5\NCVDTWKG\MC900285534[1].wmf"/>
          <p:cNvPicPr/>
          <p:nvPr/>
        </p:nvPicPr>
        <p:blipFill>
          <a:blip r:embed="rId1"/>
          <a:stretch/>
        </p:blipFill>
        <p:spPr>
          <a:xfrm>
            <a:off x="5364000" y="2665440"/>
            <a:ext cx="1820880" cy="771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pablo\AppData\Local\Temp\Temporary Internet Files\Content.IE5\NCVDTWKG\MC900285534[1].wmf"/>
          <p:cNvPicPr/>
          <p:nvPr/>
        </p:nvPicPr>
        <p:blipFill>
          <a:blip r:embed="rId2"/>
          <a:stretch/>
        </p:blipFill>
        <p:spPr>
          <a:xfrm flipH="1">
            <a:off x="2195640" y="2657520"/>
            <a:ext cx="1822320" cy="77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792000" y="5141880"/>
            <a:ext cx="75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Lógicamente – responde el orgulloso compañer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2 Rectángulo"/>
          <p:cNvSpPr/>
          <p:nvPr/>
        </p:nvSpPr>
        <p:spPr>
          <a:xfrm>
            <a:off x="760320" y="3573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Y si tuvieras un millón de dólares en tu cuenta bancaria, ¿donarías mitad a la revolución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2" descr="C:\Users\pablo\AppData\Local\Temp\Temporary Internet Files\Content.IE5\NCVDTWKG\MC900195346[1].wmf"/>
          <p:cNvPicPr/>
          <p:nvPr/>
        </p:nvPicPr>
        <p:blipFill>
          <a:blip r:embed="rId1"/>
          <a:stretch/>
        </p:blipFill>
        <p:spPr>
          <a:xfrm flipH="1">
            <a:off x="2195280" y="1928880"/>
            <a:ext cx="1817640" cy="15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pablo\AppData\Local\Temp\Temporary Internet Files\Content.IE5\NCVDTWKG\MC900195346[1].wmf"/>
          <p:cNvPicPr/>
          <p:nvPr/>
        </p:nvPicPr>
        <p:blipFill>
          <a:blip r:embed="rId2"/>
          <a:stretch/>
        </p:blipFill>
        <p:spPr>
          <a:xfrm>
            <a:off x="5580000" y="1928880"/>
            <a:ext cx="181764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pablo\AppData\Local\Temp\Temporary Internet Files\Content.IE5\XZ5AF7T9\MC900299501[1].wmf"/>
          <p:cNvPicPr/>
          <p:nvPr/>
        </p:nvPicPr>
        <p:blipFill>
          <a:blip r:embed="rId1"/>
          <a:stretch/>
        </p:blipFill>
        <p:spPr>
          <a:xfrm>
            <a:off x="1979640" y="1587600"/>
            <a:ext cx="1909800" cy="184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pablo\AppData\Local\Temp\Temporary Internet Files\Content.IE5\XZ5AF7T9\MC900299501[1].wmf"/>
          <p:cNvPicPr/>
          <p:nvPr/>
        </p:nvPicPr>
        <p:blipFill>
          <a:blip r:embed="rId2"/>
          <a:stretch/>
        </p:blipFill>
        <p:spPr>
          <a:xfrm flipH="1">
            <a:off x="5219280" y="1587600"/>
            <a:ext cx="1909800" cy="1841400"/>
          </a:xfrm>
          <a:prstGeom prst="rect">
            <a:avLst/>
          </a:prstGeom>
          <a:ln w="0">
            <a:noFill/>
          </a:ln>
        </p:spPr>
      </p:pic>
      <p:sp>
        <p:nvSpPr>
          <p:cNvPr id="105" name="4 Rectángulo"/>
          <p:cNvSpPr/>
          <p:nvPr/>
        </p:nvSpPr>
        <p:spPr>
          <a:xfrm>
            <a:off x="792000" y="5141880"/>
            <a:ext cx="75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ff"/>
                </a:solidFill>
                <a:latin typeface="Book Antiqua"/>
              </a:rPr>
              <a:t>Nooooo</a:t>
            </a: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 – responde tajantemente el compañer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5 Rectángulo"/>
          <p:cNvSpPr/>
          <p:nvPr/>
        </p:nvSpPr>
        <p:spPr>
          <a:xfrm>
            <a:off x="760320" y="3573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Y si tuvieras dos gallinas, ¿donarías una a la revolución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 Rectángulo"/>
          <p:cNvSpPr/>
          <p:nvPr/>
        </p:nvSpPr>
        <p:spPr>
          <a:xfrm>
            <a:off x="755640" y="692280"/>
            <a:ext cx="756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Book Antiqua"/>
              </a:rPr>
              <a:t>Pero.. ¿por qué donarías una casa si tuvieras dos, un auto de lujo si tuvieras dos,  y $500.000 si tuvieras un millón en tu cuenta...y no donarías una gallina si tuvieras dos?</a:t>
            </a:r>
            <a:r>
              <a:rPr b="0" lang="es-VE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3 Rectángulo" descr=""/>
          <p:cNvPicPr/>
          <p:nvPr/>
        </p:nvPicPr>
        <p:blipFill>
          <a:blip r:embed="rId1"/>
          <a:stretch/>
        </p:blipFill>
        <p:spPr>
          <a:xfrm>
            <a:off x="433440" y="3591000"/>
            <a:ext cx="8229600" cy="2279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 Rectángulo" descr=""/>
          <p:cNvPicPr/>
          <p:nvPr/>
        </p:nvPicPr>
        <p:blipFill>
          <a:blip r:embed="rId1"/>
          <a:stretch/>
        </p:blipFill>
        <p:spPr>
          <a:xfrm>
            <a:off x="669960" y="2481120"/>
            <a:ext cx="8229600" cy="4005360"/>
          </a:xfrm>
          <a:prstGeom prst="rect">
            <a:avLst/>
          </a:prstGeom>
          <a:ln w="0">
            <a:noFill/>
          </a:ln>
        </p:spPr>
      </p:pic>
      <p:pic>
        <p:nvPicPr>
          <p:cNvPr id="110" name="2 Rectángulo" descr=""/>
          <p:cNvPicPr/>
          <p:nvPr/>
        </p:nvPicPr>
        <p:blipFill>
          <a:blip r:embed="rId2"/>
          <a:stretch/>
        </p:blipFill>
        <p:spPr>
          <a:xfrm>
            <a:off x="2614680" y="658800"/>
            <a:ext cx="3919320" cy="153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30:33Z</dcterms:created>
  <dc:creator>pablo</dc:creator>
  <dc:description/>
  <dc:language>en-US</dc:language>
  <cp:lastModifiedBy>pablo</cp:lastModifiedBy>
  <dcterms:modified xsi:type="dcterms:W3CDTF">2010-12-28T22:00:09Z</dcterms:modified>
  <cp:revision>7</cp:revision>
  <dc:subject/>
  <dc:title>El Comunismo Siglo XXI</dc:title>
</cp:coreProperties>
</file>