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965D-CD44-4A12-9494-9A5555DAECB3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B031-BB83-4CD6-AD6D-5328A925E9A5}" type="slidenum">
              <a:rPr b="0" lang="es-P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46E-CBB4-426D-B8AD-B6F2B506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12B-1C11-455D-92CC-EA37E7FD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3B2-C590-488D-BC79-BF91C71A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D69-F61D-437C-AF6A-BCFC2D68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C98B-3774-4BB0-BBDF-50ED8251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B887-A73D-4E1C-BD9F-200D3BBF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C2BF-022B-47A6-B747-2037FF4D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9958-B4F7-48BB-AC32-29E56DE6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0391-235C-4CA9-A543-A164224C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7B27-9FDA-4894-BA00-01C38D08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623A-149A-49FB-ACF8-DF1EF14D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918-85BA-43C5-A168-794FE5C2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50BE-B782-4FA5-B453-091C9810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9767-17A9-488C-8704-7AD47205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CC32-68F1-49BF-A33F-08DD8ABC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3009-55DD-45BC-BCC7-ACD00B4C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E0A3-6107-4541-9FB0-7C51B6EB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A8A-C2D4-4CF1-AFD4-E849B346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EF0-CF5B-48B2-A1AA-A8F40201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63D-7FBB-43D1-A433-1DE62688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BF1-77C0-41BD-9715-E2AB1EA7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D36-7E5D-4876-918D-225CF2D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A9D-D5F0-4346-B69B-269A77B6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FD5-EA80-4987-B446-F1C698B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13D3-F7E2-4997-BA9F-E9B12DFF5A49}" type="slidenum">
              <a:rPr b="0" lang="es-PE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9E20-0CFA-416E-8BCB-C5BC5F994177}" type="slidenum">
              <a:rPr b="0" lang="es-PE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 Título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81880" cy="2408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Book Antiqua"/>
              </a:rPr>
              <a:t>Demostración de lo fácil que es ser Comunis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pablo\AppData\Local\Temp\Temporary Internet Files\Content.IE5\XZ5AF7T9\MC900413478[1].wmf"/>
          <p:cNvPicPr/>
          <p:nvPr/>
        </p:nvPicPr>
        <p:blipFill>
          <a:blip r:embed="rId1"/>
          <a:stretch/>
        </p:blipFill>
        <p:spPr>
          <a:xfrm>
            <a:off x="4768920" y="1494000"/>
            <a:ext cx="2251080" cy="193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pablo\AppData\Local\Temp\Temporary Internet Files\Content.IE5\XZ5AF7T9\MC900413478[1].wmf"/>
          <p:cNvPicPr/>
          <p:nvPr/>
        </p:nvPicPr>
        <p:blipFill>
          <a:blip r:embed="rId2"/>
          <a:stretch/>
        </p:blipFill>
        <p:spPr>
          <a:xfrm flipH="1">
            <a:off x="2195280" y="1484280"/>
            <a:ext cx="2251080" cy="1935360"/>
          </a:xfrm>
          <a:prstGeom prst="rect">
            <a:avLst/>
          </a:prstGeom>
          <a:ln w="0">
            <a:noFill/>
          </a:ln>
        </p:spPr>
      </p:pic>
      <p:sp>
        <p:nvSpPr>
          <p:cNvPr id="93" name="3 Rectángulo"/>
          <p:cNvSpPr/>
          <p:nvPr/>
        </p:nvSpPr>
        <p:spPr>
          <a:xfrm>
            <a:off x="792000" y="486900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Si – responde el militan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6 Rectángulo"/>
          <p:cNvSpPr/>
          <p:nvPr/>
        </p:nvSpPr>
        <p:spPr>
          <a:xfrm>
            <a:off x="760320" y="3573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Compañero…. Si tuvieras dos casas, ¿donarías una a la revolució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Rectángulo"/>
          <p:cNvSpPr/>
          <p:nvPr/>
        </p:nvSpPr>
        <p:spPr>
          <a:xfrm>
            <a:off x="792000" y="486900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Si – responde nuevamente el aguerrido militan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2 Rectángulo"/>
          <p:cNvSpPr/>
          <p:nvPr/>
        </p:nvSpPr>
        <p:spPr>
          <a:xfrm>
            <a:off x="760320" y="3573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Compañero…. Si tuvieras dos autos de lujo, ¿donarías uno a la revolució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C:\Users\pablo\AppData\Local\Temp\Temporary Internet Files\Content.IE5\NCVDTWKG\MC900285534[1].wmf"/>
          <p:cNvPicPr/>
          <p:nvPr/>
        </p:nvPicPr>
        <p:blipFill>
          <a:blip r:embed="rId1"/>
          <a:stretch/>
        </p:blipFill>
        <p:spPr>
          <a:xfrm>
            <a:off x="5364000" y="2665440"/>
            <a:ext cx="1820880" cy="771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pablo\AppData\Local\Temp\Temporary Internet Files\Content.IE5\NCVDTWKG\MC900285534[1].wmf"/>
          <p:cNvPicPr/>
          <p:nvPr/>
        </p:nvPicPr>
        <p:blipFill>
          <a:blip r:embed="rId2"/>
          <a:stretch/>
        </p:blipFill>
        <p:spPr>
          <a:xfrm flipH="1">
            <a:off x="2195640" y="2657520"/>
            <a:ext cx="1822320" cy="77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792000" y="514188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Lógicamente – responde el orgulloso compañer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2 Rectángulo"/>
          <p:cNvSpPr/>
          <p:nvPr/>
        </p:nvSpPr>
        <p:spPr>
          <a:xfrm>
            <a:off x="760320" y="3573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Y si tuvieras un millón de dólares en tu cuenta bancaria, ¿donarías mitad a la revolució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2" descr="C:\Users\pablo\AppData\Local\Temp\Temporary Internet Files\Content.IE5\NCVDTWKG\MC900195346[1].wmf"/>
          <p:cNvPicPr/>
          <p:nvPr/>
        </p:nvPicPr>
        <p:blipFill>
          <a:blip r:embed="rId1"/>
          <a:stretch/>
        </p:blipFill>
        <p:spPr>
          <a:xfrm flipH="1">
            <a:off x="2195280" y="1928880"/>
            <a:ext cx="1817640" cy="15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pablo\AppData\Local\Temp\Temporary Internet Files\Content.IE5\NCVDTWKG\MC900195346[1].wmf"/>
          <p:cNvPicPr/>
          <p:nvPr/>
        </p:nvPicPr>
        <p:blipFill>
          <a:blip r:embed="rId2"/>
          <a:stretch/>
        </p:blipFill>
        <p:spPr>
          <a:xfrm>
            <a:off x="5580000" y="1928880"/>
            <a:ext cx="181764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pablo\AppData\Local\Temp\Temporary Internet Files\Content.IE5\XZ5AF7T9\MC900299501[1].wmf"/>
          <p:cNvPicPr/>
          <p:nvPr/>
        </p:nvPicPr>
        <p:blipFill>
          <a:blip r:embed="rId1"/>
          <a:stretch/>
        </p:blipFill>
        <p:spPr>
          <a:xfrm>
            <a:off x="1979640" y="1587600"/>
            <a:ext cx="1909800" cy="184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pablo\AppData\Local\Temp\Temporary Internet Files\Content.IE5\XZ5AF7T9\MC900299501[1].wmf"/>
          <p:cNvPicPr/>
          <p:nvPr/>
        </p:nvPicPr>
        <p:blipFill>
          <a:blip r:embed="rId2"/>
          <a:stretch/>
        </p:blipFill>
        <p:spPr>
          <a:xfrm flipH="1">
            <a:off x="5219280" y="1587600"/>
            <a:ext cx="1909800" cy="1841400"/>
          </a:xfrm>
          <a:prstGeom prst="rect">
            <a:avLst/>
          </a:prstGeom>
          <a:ln w="0">
            <a:noFill/>
          </a:ln>
        </p:spPr>
      </p:pic>
      <p:sp>
        <p:nvSpPr>
          <p:cNvPr id="105" name="4 Rectángulo"/>
          <p:cNvSpPr/>
          <p:nvPr/>
        </p:nvSpPr>
        <p:spPr>
          <a:xfrm>
            <a:off x="792000" y="5141880"/>
            <a:ext cx="756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ff"/>
                </a:solidFill>
                <a:latin typeface="Book Antiqua"/>
              </a:rPr>
              <a:t>Nooooo</a:t>
            </a: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 – responde tajantemente el compañer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5 Rectángulo"/>
          <p:cNvSpPr/>
          <p:nvPr/>
        </p:nvSpPr>
        <p:spPr>
          <a:xfrm>
            <a:off x="760320" y="3573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Book Antiqua"/>
              </a:rPr>
              <a:t>Y si tuvieras dos gallinas, ¿donarías una a la revolución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1 Rectángulo"/>
          <p:cNvSpPr/>
          <p:nvPr/>
        </p:nvSpPr>
        <p:spPr>
          <a:xfrm>
            <a:off x="755640" y="692280"/>
            <a:ext cx="756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Book Antiqua"/>
              </a:rPr>
              <a:t>Pero.. ¿por qué donarías una casa si tuvieras dos, un auto de lujo si tuvieras dos,  y $500.000 si tuvieras un millón en tu cuenta...y no donarías una gallina si tuvieras dos?</a:t>
            </a:r>
            <a:r>
              <a:rPr b="0" lang="es-VE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3 Rectángulo" descr=""/>
          <p:cNvPicPr/>
          <p:nvPr/>
        </p:nvPicPr>
        <p:blipFill>
          <a:blip r:embed="rId1"/>
          <a:stretch/>
        </p:blipFill>
        <p:spPr>
          <a:xfrm>
            <a:off x="433440" y="3591000"/>
            <a:ext cx="822960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 Rectángulo" descr=""/>
          <p:cNvPicPr/>
          <p:nvPr/>
        </p:nvPicPr>
        <p:blipFill>
          <a:blip r:embed="rId1"/>
          <a:stretch/>
        </p:blipFill>
        <p:spPr>
          <a:xfrm>
            <a:off x="669960" y="2481120"/>
            <a:ext cx="8229600" cy="4005360"/>
          </a:xfrm>
          <a:prstGeom prst="rect">
            <a:avLst/>
          </a:prstGeom>
          <a:ln w="0">
            <a:noFill/>
          </a:ln>
        </p:spPr>
      </p:pic>
      <p:pic>
        <p:nvPicPr>
          <p:cNvPr id="110" name="2 Rectángulo" descr=""/>
          <p:cNvPicPr/>
          <p:nvPr/>
        </p:nvPicPr>
        <p:blipFill>
          <a:blip r:embed="rId2"/>
          <a:stretch/>
        </p:blipFill>
        <p:spPr>
          <a:xfrm>
            <a:off x="2614680" y="658800"/>
            <a:ext cx="3919320" cy="153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30:33Z</dcterms:created>
  <dc:creator>pablo</dc:creator>
  <dc:description/>
  <dc:language>en-US</dc:language>
  <cp:lastModifiedBy>pablo</cp:lastModifiedBy>
  <dcterms:modified xsi:type="dcterms:W3CDTF">2010-12-28T22:00:09Z</dcterms:modified>
  <cp:revision>7</cp:revision>
  <dc:subject/>
  <dc:title>El Comunismo Siglo XXI</dc:title>
</cp:coreProperties>
</file>